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F80FA3-0D24-470D-93D8-8AF053CFF81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81DC06-C4B0-4457-94BB-BC9802AC985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26E4D4-9864-4722-94C3-BB319698D682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531-0237-4795-B600-1C4845629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9A4A-4A78-43F1-9360-8BBA575C2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EA6F-081F-4127-BBA0-C1C2D198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E8D2-7C65-4D5B-8FD0-133A11AE8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FB7B-FC7A-45E0-AE66-8069589F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257B-1D40-43C6-9E2E-D019A955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EE4E-671C-42BE-B50F-0FB7E50F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FE7DE-AB5A-4203-876D-7C9FB4AB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CE00-2658-406A-9249-E57F6D2B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69641-870A-4494-ADC9-128EBCC2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C14C-238C-44E9-B6BB-2C050AD7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5170-56D8-42CF-AE49-BBF49859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3EC2-5622-4D46-B190-79DE238F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6C8B-6A72-4B57-9421-7AA5C3B3D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B47D5-EDD6-4203-BCE4-4C0B6163A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8C43-12DD-456F-B2A5-FE4A5C17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52E2-5D55-4D33-83A3-4166E12B3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CF6-B207-425A-80DD-8FCF77A3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75C-CE43-4990-BD59-45B5062D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80AB-2EC4-4B98-A230-BEDD78D5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E8A8-FE80-4A4D-82C9-814FAC85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50AF-6217-40D0-856E-6D2C3D7D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1A8-865D-40A8-9307-F48DE110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B78F-99EB-446E-A188-CB6DA1C0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B2C3D5-D9E2-4F4E-A86A-897FA367DE6E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A78DCF-854D-4CE0-986A-602DE3BBADBC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E7D97-893F-43AA-95FD-307671A97F92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62BFCE-68D4-4AE2-AAA4-02E78E9A2553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2c7c9f"/>
                </a:solidFill>
                <a:latin typeface="News Gothic MT"/>
              </a:rPr>
              <a:t>Las Differencias Entre Desayuno en Espana y Estados Unidos</a:t>
            </a:r>
            <a:endParaRPr b="0" lang="en-US" sz="43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78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By Brian Norvill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ayuno de Espan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031840" y="2125800"/>
            <a:ext cx="5080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afé con lech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797120" y="2114640"/>
            <a:ext cx="560844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a Receta de Café con Lech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gredien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os frijoles de café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gu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struccion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1.Mola los frijoles de café a buen asperez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2.Use filtro agu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3.Elabore la café entre tres y cinco minutos, es muy buen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4.Añada un lech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(hay muchas sabores de leche, use su favorito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anquequ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0292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a Receta de Panquequ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ngrediente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tazas de harin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y media cucharaditas de Polvo de horne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Tres cucharadas de azuc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Un media cucharadita de sa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huev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tazas de lech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cucharadas de mantequilla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struccion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1.Tamize la harina, un polvo de hornear, y un sal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2. En un cuenco mezcle los huevos y un leche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3. Añade leche y mezcle hasta suave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4. Añade la mantequilla y mezcle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5. Guise en la plancha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(guise un pequeña cantidad en un tiempo)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6. Guise hasta moreno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7. Sirva con almíbar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Pregunta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Que es las diferencias entre desayuno en España y Estado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Que es unas comidas que comen en España para desayuno? Estados Unido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95959"/>
                </a:solidFill>
                <a:latin typeface="News Gothic MT"/>
              </a:rPr>
              <a:t>El desayuno en España es muy diferente que el desayuno en Estados Unidos en muchas maneras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ayuno en Espan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s muy pequeña y ligero porque almuerzo es muy grand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os opciones son limitad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s muy temprano en la mañana (sobre 7 a.m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ayuno en Estados Unido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ayoría del tiempo es muy grand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as opciones que el desayuno de Españ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uy Pesad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s un pequeño mas tarde que desayuno en Españ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Contenidos Comun de Desayuno Estados Unidos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Tocin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anquequ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Huev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an tostad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afé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uchos jug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horiz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Contenidos Comun de Desayuno Estados Unidos cont.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ech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erea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Tart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Frut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Contenidos Comun de Desayuno Espana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an tostad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afé con lech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hurr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ereal (principalmente sirve en la casa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Un chocolate calien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ayuno de Estados Unido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900080" y="2163600"/>
            <a:ext cx="42577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2:57:37Z</dcterms:created>
  <dc:creator>IT Services</dc:creator>
  <dc:description/>
  <dc:language>en-US</dc:language>
  <cp:lastModifiedBy>norvilleb</cp:lastModifiedBy>
  <dcterms:modified xsi:type="dcterms:W3CDTF">2009-10-05T03:02:45Z</dcterms:modified>
  <cp:revision>3</cp:revision>
  <dc:subject/>
  <dc:title>Desayuno en Espana</dc:title>
</cp:coreProperties>
</file>