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92FDB-54B3-4C79-9B45-A3BE62E3C6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8F462-F104-4F79-981E-666E9FE72D8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D2CAB-4D19-4F41-89F4-3CCA8FEFEB0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3FB-B542-4AF1-8BA8-B173331D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9B5-5B0F-49AA-976C-9B64CD1C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285-4EDB-41D8-946A-7D5CD788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E25-0C2C-42E2-9116-0AEEEB98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A6F0-68F4-48BC-BE60-BC8B1F9F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C23C-3AC7-44BB-9836-C2C04BB4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42C0-E721-419B-AAF9-A8C426BA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A41A-3E37-4DE4-8E37-C9F240D0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0E4A-2B94-430D-9031-B10C6075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4D39-2BE5-42C9-A3EB-FF3E8656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23A3-A1F1-46CA-AADF-27624225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EF3-3A0E-4B63-BE25-0647E8FE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E761-9E46-412B-8682-0CD78FFA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AE82-BF10-4838-810C-C78A2071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8DA2-A056-493F-8125-39840D9A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970E-5CC0-46FB-B446-EB5CD6D7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4381-0E36-4529-859F-AE13D3C6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C55-79D1-4493-8680-480E2925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8F2-DD31-438C-84D6-79B0F2C4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8FB-3289-4C35-B474-CE0648AF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126-0D0F-4548-AD57-2F818CD0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3A3-1E02-4165-AF91-3DF521B5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582-C7EF-41F7-95AB-3087CB47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D63-B5D1-41C6-8D4F-FE518AFB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A1371-8960-48ED-A432-06FFFC46ED17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EDCCD-BF0E-459F-A242-F3CD02C76DC3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81D20-78B6-4500-BCD4-24E262683AF7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57EB1-FA8E-45D0-89F5-57DC9534E6C8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2c7c9f"/>
                </a:solidFill>
                <a:latin typeface="News Gothic MT"/>
              </a:rPr>
              <a:t>Las Differencias Entre Desayuno en Espana y Estados Unidos</a:t>
            </a:r>
            <a:endParaRPr b="0" lang="en-US" sz="43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78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By Brian Norvill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de Espan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031840" y="212580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afé con lech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797120" y="2114640"/>
            <a:ext cx="56084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a Receta de Café con Lech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gredien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s frijoles de café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gu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struccion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.Mola los frijoles de café a buen asperez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.Use filtro agu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.Elabore la café entre tres y cinco minutos, es muy buen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.Añada un 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(hay muchas sabores de leche, use su favorit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anquequ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0292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a Receta de Panquequ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grediente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tazas de harin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y media cucharaditas de Polvo de horne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Tres cucharadas de azuc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Un media cucharadita de s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huev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tazas de 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cucharadas de mantequilla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struccion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1.Tamize la harina, un polvo de hornear, y un sal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2. En un cuenco mezcle los huevos y un lech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3. Añade leche y mezcle hasta suav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4. Añade la mantequilla y mezcl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5. Guise en la plancha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(guise un pequeña cantidad en un tiempo)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6. Guise hasta moreno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7. Sirva con almíbar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regunta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Que es las diferencias entre desayuno en España y Estad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Que es unas comidas que comen en España para desayuno? Estados Unid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95959"/>
                </a:solidFill>
                <a:latin typeface="News Gothic MT"/>
              </a:rPr>
              <a:t>El desayuno en España es muy diferente que el desayuno en Estados Unidos en muchas maneras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en Espan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s muy pequeña y ligero porque almuerzo es muy grand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os opciones son limit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s muy temprano en la mañana (sobre 7 a.m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en Estados Uni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ayoría del tiempo es muy grand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as opciones que el desayuno de Españ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uy Pes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s un pequeño mas tarde que desayuno en Españ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Contenidos Comun de Desayuno Estados Unidos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Tocin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anquequ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Huev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an tost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afé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uchos jug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horiz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Contenidos Comun de Desayuno Estados Unidos cont.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ere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Tart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rut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Contenidos Comun de Desayuno Espana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an tost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afé con 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hurr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ereal (principalmente sirve en la cas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Un chocolate calien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de Estados Uni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900080" y="2163600"/>
            <a:ext cx="4257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2:57:37Z</dcterms:created>
  <dc:creator>IT Services</dc:creator>
  <dc:description/>
  <dc:language>en-US</dc:language>
  <cp:lastModifiedBy>norvilleb</cp:lastModifiedBy>
  <dcterms:modified xsi:type="dcterms:W3CDTF">2009-10-05T03:02:45Z</dcterms:modified>
  <cp:revision>3</cp:revision>
  <dc:subject/>
  <dc:title>Desayuno en Espana</dc:title>
</cp:coreProperties>
</file>