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E5DD43-C8C8-450B-8B6E-D1CEE766D3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move the slid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CC768C-A813-402E-8528-9F140209161D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s-ES_trad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5F8878-C62F-4ABC-BD43-680168314A4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CF13-9D44-43A7-BCA6-937D87B1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53F3-442D-4C06-8DF1-623D96D3A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CEE4-C41D-43BA-82F6-141F30A29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4585-A25E-40F3-BF15-8ED1DD44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2EF6-50E6-4116-A701-171C6327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30C3-3F3A-408C-B83F-1C6BCF0BD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BC57-A6DD-41CF-B5E6-D8B9DF2D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3637-8529-4E21-9DFC-FF6C8A63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180D-4937-4BF6-88D7-60AC6D32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518C-EF71-47F5-8ED4-BB930FD3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A16A-CA91-4707-B5B4-60047E54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F55C-67BD-4F7E-9704-A8E4A876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8F21-1FDF-4036-B23C-E335E4A5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AA21C-F02B-44E3-B7DB-8A887AD40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534A-26A9-4612-A347-71ED1469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7186-01E3-4B3A-B29B-7CD897C1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1FB4F-FF43-4D44-8EC1-C00BAF25F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2E6-C188-4E75-A972-863B66E6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474-77D3-401D-84A3-768E3ECF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4F25-D658-4693-B190-9B628B0E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70D7-25E9-4B40-9F1D-212ED952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BAC-F1EC-4A88-AC02-27DED4AF1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3FEA-DC49-466E-AF0B-4D0BE7B6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113F-904B-49D8-9ACF-53EE938F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74F3C2-797B-4C89-B624-E0C6D77AE8DC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691D10-C984-4389-9FEA-360003BFAE12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19740C-C1DD-4926-AE1C-58FE83C6F839}" type="datetime">
              <a:rPr b="0" lang="en-US" sz="1200" spc="-1" strike="noStrike">
                <a:solidFill>
                  <a:srgbClr val="ffffff"/>
                </a:solidFill>
                <a:latin typeface="News Gothic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3600" spc="-1" strike="noStrike">
                <a:solidFill>
                  <a:srgbClr val="ffffff"/>
                </a:solidFill>
                <a:latin typeface="News Gothic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1B0C7A-9239-4916-A313-FC13571F055A}" type="slidenum">
              <a:rPr b="0" lang="en-US" sz="3600" spc="-1" strike="noStrike">
                <a:solidFill>
                  <a:srgbClr val="ffffff"/>
                </a:solidFill>
                <a:latin typeface="News Gothic MT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22280" y="1523880"/>
            <a:ext cx="6499440" cy="172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2c7c9f"/>
                </a:solidFill>
                <a:latin typeface="News Gothic MT"/>
              </a:rPr>
              <a:t>Las Differencias Entre Desayuno en Espana y Estados Unidos</a:t>
            </a:r>
            <a:endParaRPr b="0" lang="en-US" sz="43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4478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</a:rPr>
              <a:t>By Brian Norville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de Esp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2031840" y="2125800"/>
            <a:ext cx="50803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afé con lech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1797120" y="2114640"/>
            <a:ext cx="560844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a Receta de Café con Lech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Ingredient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Los frijoles de 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News Gothic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Agu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ccion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.Mola los frijoles de café a buen asperez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.Use filtro agu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.Elabore la café entre tres y cinco minutos, es muy buen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.Añada un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(hay muchas sabores de leche, use su favorit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Panqueque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057400" y="1600200"/>
            <a:ext cx="502920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La Receta de Panquequ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News Gothic MT"/>
              </a:rPr>
              <a:t>Ingredientes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tazas de harin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y media cucharaditas de Polvo de horne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res cucharadas de azucar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Un media cucharadita de s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huev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tazas de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os cucharadas de mantequilla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Instruccione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1.Tamize la harina, un polvo de hornear, y un sal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2. En un cuenco mezcle los huevos y un lech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3. Añade leche y mezcle hasta suav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4. Añade la mantequilla y mezcle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5. Guise en la plancha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(guise un pequeña cantidad en un tiempo)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6. Guise hasta moreno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7. Sirva con almíbar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News Gothic MT"/>
              </a:rPr>
              <a:t> </a:t>
            </a:r>
            <a:endParaRPr b="0" lang="en-US" sz="15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regunta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Que es las diferencias entre desayuno en España y Estad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Que es unas comidas que comen en España para desayuno? Estados Unid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95959"/>
                </a:solidFill>
                <a:latin typeface="News Gothic MT"/>
              </a:rPr>
              <a:t>El desayuno en España es muy diferente que el desayuno en Estados Unidos en muchas maneras</a:t>
            </a:r>
            <a:endParaRPr b="0" lang="en-US" sz="3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en Espan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muy pequeña y ligero porque almuerzo es muy grand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os opciones son limit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muy temprano en la mañana (sobre 7 a.m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en Estados Uni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ayoría del tiempo es muy grande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as opciones que el desayuno de Españ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uy Pes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s un pequeño mas tarde que desayuno en Españ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tados Unidos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ocina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queque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Huev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 tost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afé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uchos jug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horiz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tados Unidos cont.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erea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Tart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rut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c7c9f"/>
                </a:solidFill>
                <a:latin typeface="News Gothic MT"/>
              </a:rPr>
              <a:t>Contenidos Comun de Desayuno Espana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an tostado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afé con lech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hurro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ereal (principalmente sirve en la cas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Un chocolate caliente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Desayuno de Estados Uni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1900080" y="2163600"/>
            <a:ext cx="42577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2:57:37Z</dcterms:created>
  <dc:creator>IT Services</dc:creator>
  <dc:description/>
  <dc:language>en-US</dc:language>
  <cp:lastModifiedBy>norvilleb</cp:lastModifiedBy>
  <dcterms:modified xsi:type="dcterms:W3CDTF">2009-10-05T03:02:45Z</dcterms:modified>
  <cp:revision>3</cp:revision>
  <dc:subject/>
  <dc:title>Desayuno en Espana</dc:title>
</cp:coreProperties>
</file>