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762CF-ADE5-47F3-BAA2-2A84B50938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6F6D5-C58F-4FBA-9685-9B19B5F0F3C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49204-C179-41B8-BEF6-93BED43BE32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E8A-756D-4A4D-A04D-CBAC05AC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07A-1CD1-4EAE-9E79-F77E6F4D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0CC-3872-4918-AF46-05158234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FE4-223B-4A93-A80B-B3814BE2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2288-1A7C-4EBB-A890-9B3F0EDA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5872-01BA-459B-9CE4-A1CA7E5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1F6-5401-43CA-9661-19414E98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AA95-E9F7-4F97-B014-DCCEE78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C3D-A8C3-4487-9639-52C622B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EFF-F75F-4DC7-9B86-A397165D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6E9E-7187-49CC-ABD7-6873DAD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CE4-1D8A-49D4-AFFC-62631DB8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C6B8-F4DA-463F-AF6B-AA86F47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317B-91A7-4BFF-997E-91BEF74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485F-3CEF-4DCA-8D9B-ED804FBE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AA2-FEFB-4B86-809E-394EA448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6F78-79B4-4C80-AAAD-72559240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625-79DA-4496-B158-4CB997AA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8F3-547E-4808-B4D1-6D93DF6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CA9-CA49-496E-B59A-3F0F8E74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96E-FF0C-4C18-8BC7-02121E80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203-F1F1-453B-8499-8F3FF51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DDD-96FE-44F7-BC5A-138AA52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1BD-1348-41EE-92C9-83BDBA9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C90CC-46C9-484D-B087-539A17E8E4C4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B1F4E-5112-44AF-B711-7CE86D2493C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2A1A4-A29C-4097-A3AF-D5DBD52ECE5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5C079-B7D0-4E7B-9E43-60D3D378841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2c7c9f"/>
                </a:solidFill>
                <a:latin typeface="News Gothic MT"/>
              </a:rPr>
              <a:t>Las Differencias Entre Desayuno en Espana y Estados Unidos</a:t>
            </a:r>
            <a:endParaRPr b="0" lang="en-US" sz="43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78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By Brian Norvil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031840" y="212580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797120" y="2114640"/>
            <a:ext cx="56084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s frijoles de 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.Mola los frijoles de café a buen asperez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.Use filtro 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.Elabore la café entre tres y cinco minutos, es muy buen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.Añada u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hay muchas sabores de leche, use su favorit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nquequ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Panquequ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har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y media cucharaditas de Polvo de horne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res cucharadas de azuc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media cucharadita de s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cucharadas de mantequill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1.Tamize la harina, un polvo de hornear, y un sal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2. En un cuenco mezcle los huevos y un lech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3. Añade leche y mezcle hasta suav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4. Añade la mantequilla y mezcl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5. Guise en la plancha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(guise un pequeña cantidad en un tiempo)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6. Guise hasta moreno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7. Sirva con almíbar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regunta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las diferencias entre desayuno en España y Esta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unas comidas que comen en España para desayuno? Estados Uni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95959"/>
                </a:solidFill>
                <a:latin typeface="News Gothic MT"/>
              </a:rPr>
              <a:t>El desayuno en España es muy diferente que el desayuno en Estados Unidos en muchas maneras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pequeña y ligero porque almuerzo es muy gran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os opciones son limit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temprano en la mañana (sobre 7 a.m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yoría del tiempo es muy grand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s opciones que el desayuno de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y Pes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un pequeño mas tarde que desayuno en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oc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queq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chos jug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oriz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 cont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ar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ru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pana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 co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urr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 (principalmente sirve en la cas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chocolate calien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900080" y="2163600"/>
            <a:ext cx="42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2:57:37Z</dcterms:created>
  <dc:creator>IT Services</dc:creator>
  <dc:description/>
  <dc:language>en-US</dc:language>
  <cp:lastModifiedBy>norvilleb</cp:lastModifiedBy>
  <dcterms:modified xsi:type="dcterms:W3CDTF">2009-10-05T03:02:45Z</dcterms:modified>
  <cp:revision>3</cp:revision>
  <dc:subject/>
  <dc:title>Desayuno en Espana</dc:title>
</cp:coreProperties>
</file>