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71EB-37DA-4E17-B3B9-1FADE4011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E9E5-5179-41B8-ACAB-D72AA3C6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DF17-26C9-4D20-8112-CE96BE1A7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3F69-6B2A-43EE-A513-C0A376C55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C7FE0-33B4-430C-A2BF-63A0ED669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C04DB-AC23-476E-99F4-E52FD289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73377-F435-453E-8241-4CA81A4F5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45C85-9829-49B0-B111-10AA51CF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F729-FEA4-4CD8-A37C-280CB245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395A-0C7B-4DA1-B86C-1A32F3AC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C73E-B72C-4D37-B77D-405E042E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5C14-97E3-4F9C-886F-62F5A3BC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CD385-F597-43EC-9F9F-8C4BB589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0127-7596-4FAB-8F3D-2D3DC7CD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213D-AC4B-4073-822E-08AE03BC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B76F9-1401-4A9E-9D26-61DCE3748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9A24C-9D12-48C2-9D69-2978243F5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D918C-185B-4050-B142-1B10493A1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173EC-3765-42CF-A068-97E51CFC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C9C1-6D6D-4755-809F-F05A7928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AC789-CD1B-4EE9-891A-D7FBF7EE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BB3A-BD59-4B0F-B67A-04819383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0499-D047-4B9F-A517-4C087730E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396C4-2FF3-4CAF-97AD-FAF8967B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23932-522D-45C7-84A3-5A0F5C7D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21D31-E090-4E06-AE44-25DC8EBF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AE963-207D-4A69-BB05-83FA3B15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3428-D948-4F8D-80B0-FC2435604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9DC10-A6B3-4CBF-A71D-1E9469FB2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F264A-8FD0-47AE-AD9A-088D8EF2E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964DE-E663-4791-B1A8-654B1951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5F48D-87B8-47B1-B29B-A67D983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A7D08-4173-4DD1-AA06-8870A501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0588-383C-43A3-8E34-90095D752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B5A1-74E0-4718-B543-848946FA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8A536-9ABC-46F6-9F6E-C36B9EE7F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A0812-1702-49FC-AE20-6E4704119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7729CB-7183-4C21-A24B-64DE9E69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E10F6-3B23-4BA0-AF58-7A55222B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DC10-3640-41D4-A17F-F54629C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495A5-9405-48ED-A3D9-0749A4EB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C45A3F-AC9B-4CAF-8EF3-22DF22D9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8E6289-BE72-4049-B866-9A3F9AEBA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EF591-5144-484D-A377-266D83E4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0C41-E29C-4C31-B881-C3727BAC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6A6DD-F3C1-4DB8-B88D-538ED193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31BBD-C9F4-4F2B-96BD-D0062CF8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505CA-0FE3-4BA3-B332-5EE97235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FF252-006D-4514-9647-188430C8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F599E-0C32-4D5A-BB93-4B60791C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D8FE-3197-44BC-B63F-86576751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94875-143B-46FA-A602-5FEF7F9A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98F8-5C2B-4F10-A818-88758EA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BAEA1-EF62-4F20-8360-70C78690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6A095-AFDE-4D6A-B9FD-348D4BA7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CFCA-0281-4965-8222-31AB2B27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55C7BA-0BE7-4A79-A328-A1BE5D01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B0D14-E245-4908-BB9E-81671B4F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28C45B-DEBD-429B-8F97-96AD2563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AF2A5-81DD-4194-99CF-BF2E1BAC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D913-135C-4D59-8D11-5A5229D3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1BF938-BE31-4E08-9BB0-36CE0DAA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2E087-82A1-4ABB-87B8-7F87692C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AD7F7-C322-4CD6-8687-F2B84289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FFB9B-5621-467E-BAC2-839A9ABD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6868-50D5-43C7-A931-E0CB8DDC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2350-1EEE-420A-A436-3F7F2D49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88669-CE90-4587-9030-9FF4F6AD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86334-74FB-482B-A86A-2B364C309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9D5BEB-437B-4768-9232-42152EE8F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6F5561-A24A-4602-A8FC-FE4EC8FB7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BDE99-8BA3-4E56-9258-6EF3305FE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82A86-44D3-4BE7-83C8-37BB04D0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5877A-BCBA-4675-9B26-571D33B3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40B8C-E8F1-4A1A-9998-C9432A3B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1E1BA1-3EAB-41A2-9554-B1A1E766C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5B3AA-9FC6-4AE2-8BEB-C2CBC7C40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B091-0EEE-4528-A540-E3770993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A125F-C91D-45C8-9B64-ABB121B0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D0D22-F9E6-4C18-9620-C0C33492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16B5F-56E5-4117-B113-5A5C64E6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FA576-2287-4630-B2DD-2C4FEF008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5A33A-3183-41FE-A227-2080A983E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053F0-B9D5-4392-AC6C-49C67C85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F98EB5-CFA1-4272-A54D-533A41DD7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CF114B-0279-4795-BCA6-ED81917C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E8880-20C6-4062-B825-07DC3AEC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26107C-8F45-4AA0-8584-6AB93335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F1B7-1DF6-49ED-889C-7DA61AC6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EB9375-AEAE-49ED-98E7-82EEB9861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68514-E61B-4EC2-BB4E-0DFE434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A1B21-6144-4EEA-84DB-E1D05A53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371D4-3A55-4D14-B210-45E34CBF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B34E1-B071-4237-AA69-38903F7DB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AEB8-AACC-4728-B37F-DE511A9A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341E7-6DCA-4BAA-A2FB-7B064442C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803D-6A76-42F0-AF2C-D0DDF3BEFDF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68E7-AD45-43E4-8327-39CEC4BBFB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33E-FF6E-439A-B0A3-A5D56258158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0285-74A6-46F0-B713-DFC07647DF4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E1E5-081F-429D-8532-070D6DB050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EFA9-A7B5-455B-95B7-466D2D464C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052F-BA1F-471B-9DD4-158BC35BDD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178B-FF37-4F2C-B29E-9FF4196B7B2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1" name="Title 1" descr=""/>
          <p:cNvPicPr/>
          <p:nvPr/>
        </p:nvPicPr>
        <p:blipFill>
          <a:blip r:embed="rId2"/>
          <a:stretch/>
        </p:blipFill>
        <p:spPr>
          <a:xfrm>
            <a:off x="1292400" y="450720"/>
            <a:ext cx="7785000" cy="184788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800" y="45910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464646"/>
                </a:solidFill>
                <a:latin typeface="Lucida Sans Unicode"/>
              </a:rPr>
              <a:t>por Charanya Kaushi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exprés con azúcar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afé con lech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Mezcla sal y mantequill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000000"/>
                </a:solidFill>
                <a:latin typeface="Lucida Sans Unicode"/>
              </a:rPr>
              <a:t>Casi todos los Cubanos beben caf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Se bebe con el desayun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>
                <a:solidFill>
                  <a:srgbClr val="000000"/>
                </a:solidFill>
                <a:latin typeface="Lucida Sans Unicode"/>
              </a:rPr>
              <a:t>Es una bebida social y cultural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2"/>
          <a:stretch/>
        </p:blipFill>
        <p:spPr>
          <a:xfrm>
            <a:off x="5334120" y="4419720"/>
            <a:ext cx="2401920" cy="208908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4" descr=""/>
          <p:cNvPicPr/>
          <p:nvPr/>
        </p:nvPicPr>
        <p:blipFill>
          <a:blip r:embed="rId3"/>
          <a:stretch/>
        </p:blipFill>
        <p:spPr>
          <a:xfrm>
            <a:off x="6553080" y="6094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spañ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Áfric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Caribe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China (Habana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2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160720" cy="19810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3"/>
          <a:stretch/>
        </p:blipFill>
        <p:spPr>
          <a:xfrm>
            <a:off x="6324480" y="2590920"/>
            <a:ext cx="2320920" cy="20984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"/>
          <p:cNvPicPr/>
          <p:nvPr/>
        </p:nvPicPr>
        <p:blipFill>
          <a:blip r:embed="rId4"/>
          <a:stretch/>
        </p:blipFill>
        <p:spPr>
          <a:xfrm>
            <a:off x="6553080" y="5029200"/>
            <a:ext cx="2041560" cy="1425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5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2031840" cy="1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istema de racionamient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productos del sistema son malo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a mayoría de Cubanos lo usa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compran los raciones en bodega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Cada persona tiene raciones de lo que pueden comprar 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raciones difieren basado en la edad y el género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"/>
          <p:cNvPicPr/>
          <p:nvPr/>
        </p:nvPicPr>
        <p:blipFill>
          <a:blip r:embed="rId2"/>
          <a:stretch/>
        </p:blipFill>
        <p:spPr>
          <a:xfrm>
            <a:off x="5791320" y="4952880"/>
            <a:ext cx="1828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Arroz con frijoles (Congrí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El puerco y el r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La ensalada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Vianda (tubérculos)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No comen muchas fruta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Lucida Sans Unicode"/>
              </a:rPr>
              <a:t>Usan muchas especie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2514600" cy="33526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5715000" y="3505320"/>
            <a:ext cx="3048120" cy="304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6" name="Picture 4" descr=""/>
          <p:cNvPicPr/>
          <p:nvPr/>
        </p:nvPicPr>
        <p:blipFill>
          <a:blip r:embed="rId3"/>
          <a:stretch/>
        </p:blipFill>
        <p:spPr>
          <a:xfrm>
            <a:off x="3505320" y="228600"/>
            <a:ext cx="4038480" cy="303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7" name="Picture 5" descr=""/>
          <p:cNvPicPr/>
          <p:nvPr/>
        </p:nvPicPr>
        <p:blipFill>
          <a:blip r:embed="rId4"/>
          <a:stretch/>
        </p:blipFill>
        <p:spPr>
          <a:xfrm>
            <a:off x="2286000" y="3886200"/>
            <a:ext cx="2946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Basada en la comida Europe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Arroz congrí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Mojo (una salsa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El res es muy popular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Ropa Vieja y Bolich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amales cubanos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Harina de maíz, aceite, puerco, hojas de maíz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s y guisas son muy popular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Lucida Sans Unicode"/>
              </a:rPr>
              <a:t>Los frijoles negros, el maíz, la carne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201600" y="225360"/>
            <a:ext cx="8491680" cy="11527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098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similar a la cocina crioll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xiste una influencia de Españ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Hay más influencia Ch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opa China, arroz saltead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Se usa la harina de arroz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s huevos son populares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Tortillas de pap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Lucida Sans Unicode"/>
              </a:rPr>
              <a:t>Huevos a la habaner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pescado es común en regiones costera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"/>
          <p:cNvPicPr/>
          <p:nvPr/>
        </p:nvPicPr>
        <p:blipFill>
          <a:blip r:embed="rId2"/>
          <a:stretch/>
        </p:blipFill>
        <p:spPr>
          <a:xfrm>
            <a:off x="5867280" y="2819520"/>
            <a:ext cx="243864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influenciado por la cocina Caribe y Africana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s muy popular el Congrí oriental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Muchas comidas Puertorriqueñas y dominicanas se encuentran aquí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 fufú de plátan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1" descr=""/>
          <p:cNvPicPr/>
          <p:nvPr/>
        </p:nvPicPr>
        <p:blipFill>
          <a:blip r:embed="rId1"/>
          <a:stretch/>
        </p:blipFill>
        <p:spPr>
          <a:xfrm>
            <a:off x="201600" y="268200"/>
            <a:ext cx="849168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"/>
          <p:cNvPicPr/>
          <p:nvPr/>
        </p:nvPicPr>
        <p:blipFill>
          <a:blip r:embed="rId2"/>
          <a:stretch/>
        </p:blipFill>
        <p:spPr>
          <a:xfrm>
            <a:off x="5105520" y="4114800"/>
            <a:ext cx="278136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Lo tradicional es de trabajadores del cigarr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Se usa pan tradicional de Cub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También hay sándwiches de medianoch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Lucida Sans Unicode"/>
              </a:rPr>
              <a:t>Elena Ruz – sandwich de postre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2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514600" cy="1882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"/>
          <p:cNvPicPr/>
          <p:nvPr/>
        </p:nvPicPr>
        <p:blipFill>
          <a:blip r:embed="rId3"/>
          <a:stretch/>
        </p:blipFill>
        <p:spPr>
          <a:xfrm>
            <a:off x="3505320" y="434340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"/>
          <p:cNvPicPr/>
          <p:nvPr/>
        </p:nvPicPr>
        <p:blipFill>
          <a:blip r:embed="rId4"/>
          <a:stretch/>
        </p:blipFill>
        <p:spPr>
          <a:xfrm>
            <a:off x="6553080" y="4724280"/>
            <a:ext cx="2210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15:04:11Z</dcterms:created>
  <dc:creator>kaushikc</dc:creator>
  <dc:description/>
  <dc:language>en-US</dc:language>
  <cp:lastModifiedBy>kaushikc</cp:lastModifiedBy>
  <dcterms:modified xsi:type="dcterms:W3CDTF">2009-10-05T16:49:32Z</dcterms:modified>
  <cp:revision>24</cp:revision>
  <dc:subject/>
  <dc:title>La Comida Cubana</dc:title>
</cp:coreProperties>
</file>