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0B8D-4E1B-4002-9B3E-CA2A535D0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014F-5576-4DB5-B8D7-6E21B12C2D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DBA-62F3-4ADC-A45E-6DD53BC7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A751-1676-40C4-8BB9-ED95DA4A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54EF-28F1-4EC4-AEC7-8C21A2BF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2ED9-05D2-4186-BF27-6656DCE0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E9FF-557E-4CA3-A301-FF0238B2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5C44-1BB0-4D06-AA85-EAAE2B61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C890-774C-421C-9AFE-A05770AA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C4E6-063A-439A-8C9D-F65F6186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3A2F-6245-4FA5-882A-E804531C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42A9-EA58-4E59-9DFB-FF6BF2E6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3DE1-DD90-430C-843D-21E143D9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7508-FF33-4901-8C71-15F66816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91F1-1438-4D4E-9ABF-EAAFAA89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D7A4-A63A-45CE-AEED-B381471F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536B-4057-4E3E-A13C-7C03EA5C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36C7-9BB8-4DAA-BF86-EE30B67F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C1EA-851D-46AC-9B4F-456BC6C2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F7EC3-8290-4958-814A-DE426C42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FADE4-0F4F-4703-AF22-C717E78D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7F5D4-0417-47E9-8B1C-A35F23D9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D2766-A556-4EBA-BDD3-32937DCE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E80F6-6A08-4F2C-A0AE-ED8CF3E6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EC6-4282-4F88-AD5C-3ABAF382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B9FBB-2124-4BFC-A06F-F226B5C9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36AD3-BFE5-4948-8CC4-6E72029E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9DC51-8544-4F3E-914C-1FC5866F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A7267-7449-41B4-84A8-9BBE9288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F9E5C-DC1D-4D6F-9399-3D9CDD05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A8C13-7A9F-4974-B558-D6AF204E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BC899-BE3C-415B-8E55-400C167E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B2C50-CE03-4676-843D-BE056004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887F9-31DD-4365-B118-B20387EA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4F8F3-6648-43DB-96D5-C29463BF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1AD-6ECB-481E-8225-1E18CB45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8C301-4B80-46A3-AB8D-631B5A86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1A3FA-F304-4C6A-B877-757322D3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A8191-7A43-4ADF-9515-8D7F8C6F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2246C-D808-4F69-8D81-68A5B887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6794E-0294-4E3D-8A42-B0FACBB0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1019C-12CC-4927-A1F5-B3BF2C39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FF7CD-14D3-4DD5-BF90-3C95AEF8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175DA-1077-4FB1-A003-F3614EE0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1705B-A702-4BA9-98F2-2ECB9D09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6EFCB-E454-438C-ABE9-988585BE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E890-2C6E-409F-B5DF-21E0AC98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BCFC0-4EA1-4777-81EF-02707D76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EE874-2301-458D-9941-CFA4F46E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E47A0-1745-4CC7-8A04-6EAF6A00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33BAF-3F83-4BDD-88E9-0B3745FF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F34CB-019C-4B29-B51A-4AD538FD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95AFC-4256-4303-A035-435E800A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ADC40-9F7C-4F60-86F4-5F0BDFDF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65FFC-70FA-4111-8BB4-0B41CBDB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C0F5A-B8E8-4DB8-B83D-9A10FAAE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E33EA-CD7F-4C1A-A9F2-3A369E24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1DD-8D76-4415-9DAB-04134B6B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97328-56F4-493C-9B81-7CD33FE0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8F290-B5F5-4F4B-AFF9-DE8D1B93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6DD63-3A12-43C1-AA9D-33D3CE07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C87E7-181C-4CCD-9E92-F76DDF1A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0B52C-7E7F-428C-8319-4AF684D2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38058-FF9D-4603-A224-7600ACC3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E2526-6740-4A52-BD03-4667D1A6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E2F39-3DD2-4AA0-BD44-D11197CF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8C827-F784-48B7-A230-E2F08100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78843-483A-47D5-8BF8-026E2DD6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3E7D-FE03-4EA4-9102-BF177C0E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05BF4-E65F-4C14-9D27-3EAA3E83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D4EB8-CD3A-4C7B-87AD-06862776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AE368-476B-457E-B4AF-C253D536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85371-CC09-422C-82E7-4C988696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B0E4D-B88A-4042-9E49-5587C788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7E836-FE86-4B31-9595-7D3E0923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4BFA6-9E9B-46C0-90CA-77195F19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5DC44-73AF-4FD3-928B-C6CABA20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09E31-506A-4467-85C7-5B691883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5FFF6-9413-4B77-B2DA-30C95E7B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E86-B819-4018-9451-3DC1B5B6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3B2DE-346F-41C9-A55F-00F7E4BF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48254-E253-4640-B555-F5D9C26F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4C2B2-63DF-4652-91CE-B5E44771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3FDCB-C13D-42AE-98F9-129902D7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2AE90-2BC2-4F0B-90C7-C7953FF2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F54-B4CB-4DF7-95DA-90CD27A7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1DF8-B5B5-4998-8308-B47BB270F8F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0015-8DF1-49C3-A94F-9EF450C0D9A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083B-2534-4DE1-A219-D3A2D18120B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BB90-5435-4FEB-A6B8-4A257E39061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BF55-80B4-40A3-A86D-7EE710F8EFB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5345-ED87-4B01-87E3-76E169A15AB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10FD-F0CC-41C6-B7C3-D29AC91B677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Kristen Popovic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ogas ilega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cocaí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heroí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marihu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metanfetami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extasis (MD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dietilamida de ácido lisérgico (LSD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fenciclidina (PCP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s esteroid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9" name="Picture 2" descr="http://www.abc.net.au/health/library/img/heroin_m1387753.jpg"/>
          <p:cNvPicPr/>
          <p:nvPr/>
        </p:nvPicPr>
        <p:blipFill>
          <a:blip r:embed="rId1"/>
          <a:stretch/>
        </p:blipFill>
        <p:spPr>
          <a:xfrm>
            <a:off x="4648320" y="3048120"/>
            <a:ext cx="2705040" cy="1352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http://i.neoseeker.com/n/2/marijuana_thumb.jpg"/>
          <p:cNvPicPr/>
          <p:nvPr/>
        </p:nvPicPr>
        <p:blipFill>
          <a:blip r:embed="rId2"/>
          <a:stretch/>
        </p:blipFill>
        <p:spPr>
          <a:xfrm rot="536400">
            <a:off x="5866920" y="1066320"/>
            <a:ext cx="26193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s positiv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violencia de drog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n gasto con las drogas ilega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Gasta más que $44 mil millones para hacer cumplir la prohibición de drog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bandona cerca de $33 mil millones en los ingresos para las dogras ilegal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na reducción en el us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2" descr="http://www.javno.com/slike/slike_3/r1/g2008/m06/y173273514528362.jpg"/>
          <p:cNvPicPr/>
          <p:nvPr/>
        </p:nvPicPr>
        <p:blipFill>
          <a:blip r:embed="rId1"/>
          <a:stretch/>
        </p:blipFill>
        <p:spPr>
          <a:xfrm>
            <a:off x="6248520" y="4419720"/>
            <a:ext cx="2527200" cy="1895400"/>
          </a:xfrm>
          <a:prstGeom prst="rect">
            <a:avLst/>
          </a:prstGeom>
          <a:ln w="0">
            <a:noFill/>
          </a:ln>
        </p:spPr>
      </p:pic>
      <p:pic>
        <p:nvPicPr>
          <p:cNvPr id="384" name="Rectangle 5" descr=""/>
          <p:cNvPicPr/>
          <p:nvPr/>
        </p:nvPicPr>
        <p:blipFill>
          <a:blip r:embed="rId2"/>
          <a:stretch/>
        </p:blipFill>
        <p:spPr>
          <a:xfrm>
            <a:off x="6778800" y="1785960"/>
            <a:ext cx="2620800" cy="3456000"/>
          </a:xfrm>
          <a:prstGeom prst="rect">
            <a:avLst/>
          </a:prstGeom>
          <a:ln w="0">
            <a:noFill/>
          </a:ln>
        </p:spPr>
      </p:pic>
      <p:pic>
        <p:nvPicPr>
          <p:cNvPr id="385" name="Rectangle 6" descr=""/>
          <p:cNvPicPr/>
          <p:nvPr/>
        </p:nvPicPr>
        <p:blipFill>
          <a:blip r:embed="rId3"/>
          <a:stretch/>
        </p:blipFill>
        <p:spPr>
          <a:xfrm>
            <a:off x="4071960" y="4230720"/>
            <a:ext cx="3011400" cy="3657600"/>
          </a:xfrm>
          <a:prstGeom prst="rect">
            <a:avLst/>
          </a:prstGeom>
          <a:ln w="0">
            <a:noFill/>
          </a:ln>
        </p:spPr>
      </p:pic>
      <p:pic>
        <p:nvPicPr>
          <p:cNvPr id="386" name="Rectangle 7" descr=""/>
          <p:cNvPicPr/>
          <p:nvPr/>
        </p:nvPicPr>
        <p:blipFill>
          <a:blip r:embed="rId4"/>
          <a:stretch/>
        </p:blipFill>
        <p:spPr>
          <a:xfrm>
            <a:off x="5430960" y="396720"/>
            <a:ext cx="256680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actos y riesgros de drogas ilega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n 2008, cerca de 3,000 personas se mueren de drogas ilega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cocaí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iene los efectos negativos de su cerebro y el corazó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a adicción puede resultar en las consequencías de vid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l muerte repentin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2" descr="http://blogs.phillyburbs.com/news/bcct/wp-content/blogs.dir/2/files/2008/August/Thursday/a_cocaine.jpg"/>
          <p:cNvPicPr/>
          <p:nvPr/>
        </p:nvPicPr>
        <p:blipFill>
          <a:blip r:embed="rId1"/>
          <a:stretch/>
        </p:blipFill>
        <p:spPr>
          <a:xfrm>
            <a:off x="5105520" y="4876920"/>
            <a:ext cx="190476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heroí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uede ser adict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uede causar los AIDS y el HIV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a capacidad para funcionar disminuirá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a adicción puede resultar en las consequencías de vid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2" descr="http://everystockphoto.s3.amazonaws.com/drug_dropps_danger_222974_l.jpg"/>
          <p:cNvPicPr/>
          <p:nvPr/>
        </p:nvPicPr>
        <p:blipFill>
          <a:blip r:embed="rId1"/>
          <a:stretch/>
        </p:blipFill>
        <p:spPr>
          <a:xfrm>
            <a:off x="4495680" y="304920"/>
            <a:ext cx="2235240" cy="1676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http://www.topnews.in/health/files/hiv-aids.jpg"/>
          <p:cNvPicPr/>
          <p:nvPr/>
        </p:nvPicPr>
        <p:blipFill>
          <a:blip r:embed="rId2"/>
          <a:stretch/>
        </p:blipFill>
        <p:spPr>
          <a:xfrm rot="387000">
            <a:off x="6629040" y="914040"/>
            <a:ext cx="161280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ogas lega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alcoh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tobac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s asesinos de dol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s pastillas de dormid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6" name="Picture 4" descr="http://www.docleaf.com/critique/Dec0707/tobacco.jpg"/>
          <p:cNvPicPr/>
          <p:nvPr/>
        </p:nvPicPr>
        <p:blipFill>
          <a:blip r:embed="rId1"/>
          <a:stretch/>
        </p:blipFill>
        <p:spPr>
          <a:xfrm rot="21120600">
            <a:off x="990720" y="4190760"/>
            <a:ext cx="2057400" cy="2228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candy.jpg candy image by MDA2007"/>
          <p:cNvPicPr/>
          <p:nvPr/>
        </p:nvPicPr>
        <p:blipFill>
          <a:blip r:embed="rId2"/>
          <a:stretch/>
        </p:blipFill>
        <p:spPr>
          <a:xfrm>
            <a:off x="3733920" y="4191120"/>
            <a:ext cx="2971800" cy="1985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http://www.brainandspinalcord.org/blog/wp-content/uploads/2009/10/alcohol.jpg"/>
          <p:cNvPicPr/>
          <p:nvPr/>
        </p:nvPicPr>
        <p:blipFill>
          <a:blip r:embed="rId3"/>
          <a:stretch/>
        </p:blipFill>
        <p:spPr>
          <a:xfrm rot="496200">
            <a:off x="5867280" y="1828800"/>
            <a:ext cx="289584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s factos de drogas lega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,000 personas se mueren del alcoh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Más de 20,000 personas al año se mueren de conducir bebid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rbel"/>
              </a:rPr>
              <a:t>alguien se muere cada 31 minut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ás de 33,00 personas se mueren de sobredosises de droga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Picture 2" descr="http://www.sixwise.com/images/articles/2008/05/07/drunkdriving-lg.jpg"/>
          <p:cNvPicPr/>
          <p:nvPr/>
        </p:nvPicPr>
        <p:blipFill>
          <a:blip r:embed="rId1"/>
          <a:stretch/>
        </p:blipFill>
        <p:spPr>
          <a:xfrm>
            <a:off x="5943600" y="4352760"/>
            <a:ext cx="1752480" cy="23893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http://www.passenlaw.com/blog/wp-content/uploads/2009/08/drunk-driving-deaths.jpg"/>
          <p:cNvPicPr/>
          <p:nvPr/>
        </p:nvPicPr>
        <p:blipFill>
          <a:blip r:embed="rId2"/>
          <a:stretch/>
        </p:blipFill>
        <p:spPr>
          <a:xfrm rot="1213800">
            <a:off x="7313400" y="3483000"/>
            <a:ext cx="139068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s riesg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alcoh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estruye su hígad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umenta su tensió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leva algunos tipos de cáncer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tobac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leva a cáncer del pulmón, la boca, o la lengu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s asesinos de dol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leva a los daños del hígad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5" name="Picture 2" descr="http://www.healingdaily.com/conditions/cirrhosis-liver.jpg"/>
          <p:cNvPicPr/>
          <p:nvPr/>
        </p:nvPicPr>
        <p:blipFill>
          <a:blip r:embed="rId1"/>
          <a:stretch/>
        </p:blipFill>
        <p:spPr>
          <a:xfrm rot="21382200">
            <a:off x="5105520" y="380520"/>
            <a:ext cx="2438280" cy="2533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www.pdcdentistry.com/images/oral-cancer-3use.jpg"/>
          <p:cNvPicPr/>
          <p:nvPr/>
        </p:nvPicPr>
        <p:blipFill>
          <a:blip r:embed="rId2"/>
          <a:stretch/>
        </p:blipFill>
        <p:spPr>
          <a:xfrm>
            <a:off x="6400800" y="2514600"/>
            <a:ext cx="23814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regun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¿Si no podemos controlar las drogas legales, cómo podemos controlor las drogas ilegale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número de problemas y riesgos aumentará, tambié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23:01:26Z</dcterms:created>
  <dc:creator>Kristen</dc:creator>
  <dc:description/>
  <dc:language>en-US</dc:language>
  <cp:lastModifiedBy>Kristen</cp:lastModifiedBy>
  <dcterms:modified xsi:type="dcterms:W3CDTF">2009-12-08T21:55:09Z</dcterms:modified>
  <cp:revision>26</cp:revision>
  <dc:subject/>
  <dc:title>La legalización de drogas</dc:title>
</cp:coreProperties>
</file>