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BEE22-27B9-46A3-934B-279D0007C9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11A3-13AE-4A62-9B99-84F4733A002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1A5-EBB9-4637-ACD3-CD57D21D9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53F-02B0-4C9A-8114-DD55E5C3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858-A25C-456C-A350-148B8C876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48D9-1E1F-4526-909C-6910FC72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FB84-E11F-4BDC-B3AF-0485E96F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F33C4-6B09-4A83-B41D-9203E5FD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85BE-CB9B-422D-93DF-852A7E60C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BB6A1-7981-4D32-9DEB-AB221F8B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360A-C79C-4366-9E8A-05E3D40D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6020-68FB-413E-8EE9-4A3C9F0E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A732-F466-4D53-BD18-BDD0BA25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DA1-0EB1-4881-9129-815540E4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DC1C-9E55-4D1A-9BBD-BAC2940B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C6B3-EB28-4760-A8FB-94EF07DE9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A25E-BF52-442B-AE1F-9DAF5DC61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AC06-85CF-41DE-AC1B-C022BAE9C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053AD-60D6-421B-8E54-F0C5CB6FF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A02FB-A8FA-4312-A904-C8B4566D9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49BDC-941E-47C0-8AEE-D9F41763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73349-0369-43F3-9591-9D652987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974DF-6242-4207-A991-ED4A16D49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B12AF-6890-4BB6-8D12-90A6314F0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9C33-1B51-4226-90FF-76DBA289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AF4B1-6AAA-469E-9BB5-62E17E677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7DB7E-FF88-4890-8792-4795E245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1CD13-6EEC-473F-922F-8752B56D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38A60-4F7F-4948-8177-75D80CAC6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DD5DEC-490F-45F7-A253-5BF8B94B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C00D4-2A44-441C-AE7D-40C4DB9D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9E1EE-C2E8-4DAB-9654-B33437768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87B1B-679A-47C6-B59E-6E63849E5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E3C0B-8941-4504-8635-267BED59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6858F-FD4D-41D2-8B33-25AC2E01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D1F-463B-48C3-AD01-FE93BD7FA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E027C-AFCB-4630-9526-6DB6C471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BDB3B4-318B-44EA-AD40-140E61C70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4DA17-E633-4204-B48C-C97BCE18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685DF-FA6C-4182-8339-4801CF0C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04694-F227-4F09-9C32-695DF32F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12488-6CB3-463B-B40B-9166975C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F7D05-79EE-428C-BA75-7C0C1C087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9CC541-BF95-4CD0-B9C1-61C3424A7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C2235-D866-4F22-8E59-9A93DF23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72421-F325-4148-A6CA-7C86BE801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47BD-651A-4713-BACE-7303E9AC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BCAE2D-1572-4D9C-ACAD-EC52ED7E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0E9FE-55C1-4805-9CE5-DC10F4F7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E91721-4B78-4D09-800C-21AF4D9A6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6896A3-CA9F-44D6-AFDD-C8E8C03D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5DA76-3846-4BF9-86D7-CC2EBE84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87915-E27A-49AD-A049-36F09445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92C6B-6516-4ED1-A360-BF4C82D8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84DDE-8318-4D3E-A2CF-3E03606C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FF31A-2D88-40DE-A5A3-C4522C5D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CF363-B37C-4414-839B-980F1326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87FD-FF8D-424F-A461-12529F5F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FFB24-FAB7-47D5-84EE-3375CB971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60D6F-3090-4831-A13C-9A2DC2D6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DA8C6-B7F4-46DF-8CD4-1A188EE6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AA5DE-CBA5-4293-B5DC-4856C2FCF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2F15AB-7430-488B-8BF9-CC927E35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7C8EC-A177-4786-9D0F-095C6C59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281F4E-F7AC-4DF0-9820-A21CF9B8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D601A-0941-4467-96BB-F11316A9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04F88-5CD9-4F06-B97D-57694F477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12468-C9BB-4021-BCD0-23244336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0968-5D68-42D6-8D8B-E11178A5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48E09-096F-4D89-BF22-5BBEBAB4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CAF46-AC7A-4DDE-B068-767385739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76C7B-7A39-47E7-9A64-B7569C38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25C46-A2F3-408F-9DC9-9ACA0F56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6DE611-9055-422E-840C-A9ABC9BC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6A159-3031-42DA-84E0-9A03DAB9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F6F225-E9B1-4874-AE0F-2B724CAC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5B37B-6B65-45CA-816E-1360560D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757A5A-82B1-4F65-A625-B2F2B765E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FB66D-1D64-47D9-984A-9AEBEF68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A5A-F069-4ABD-9AAA-25A13D70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A97155-2AE9-4C6B-AEAE-D77BE310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35099E-28CE-44D4-A1E8-41038E3C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99BAC-C716-451A-B9CB-80AB0BB3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1FE46-2009-406F-995F-EE35AB43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A41E0E-BC39-4C94-B398-F0A1D54F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EBCE-38D8-487A-961F-36FA282F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D565-9537-48E9-AE57-3CC7D928A59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8A430-7F86-448B-A080-ADC19A59EA6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70F1-AF28-4F1F-89B5-9E9A73856A7E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241C-A8FD-46CF-B138-6FA5B2856131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C8CE-F5A2-4A76-92C5-DB3BD44F4E9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3969-88A3-4D0B-9599-A5A21428222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4BB4E-30FD-4D68-B7B9-1E9F005F6F9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Kristen Popovic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ogas i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coca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hero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marihu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metanfetami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extasis (MD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dietilamida de ácido lisérgico (LSD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fenciclidina (PCP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esteroid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Picture 2" descr="http://www.abc.net.au/health/library/img/heroin_m1387753.jpg"/>
          <p:cNvPicPr/>
          <p:nvPr/>
        </p:nvPicPr>
        <p:blipFill>
          <a:blip r:embed="rId1"/>
          <a:stretch/>
        </p:blipFill>
        <p:spPr>
          <a:xfrm>
            <a:off x="4648320" y="3048120"/>
            <a:ext cx="2705040" cy="1352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http://i.neoseeker.com/n/2/marijuana_thumb.jpg"/>
          <p:cNvPicPr/>
          <p:nvPr/>
        </p:nvPicPr>
        <p:blipFill>
          <a:blip r:embed="rId2"/>
          <a:stretch/>
        </p:blipFill>
        <p:spPr>
          <a:xfrm rot="536400">
            <a:off x="5866920" y="1066320"/>
            <a:ext cx="26193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positiv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violencia de drog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 gasto con las drogas ileg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asta más que $44 mil millones para hacer cumplir la prohibición de drog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bandona cerca de $33 mil millones en los ingresos para las dogras ilegal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a reducción en el us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http://www.javno.com/slike/slike_3/r1/g2008/m06/y173273514528362.jpg"/>
          <p:cNvPicPr/>
          <p:nvPr/>
        </p:nvPicPr>
        <p:blipFill>
          <a:blip r:embed="rId1"/>
          <a:stretch/>
        </p:blipFill>
        <p:spPr>
          <a:xfrm>
            <a:off x="6248520" y="4419720"/>
            <a:ext cx="2527200" cy="1895400"/>
          </a:xfrm>
          <a:prstGeom prst="rect">
            <a:avLst/>
          </a:prstGeom>
          <a:ln w="0">
            <a:noFill/>
          </a:ln>
        </p:spPr>
      </p:pic>
      <p:pic>
        <p:nvPicPr>
          <p:cNvPr id="384" name="Rectangle 5" descr=""/>
          <p:cNvPicPr/>
          <p:nvPr/>
        </p:nvPicPr>
        <p:blipFill>
          <a:blip r:embed="rId2"/>
          <a:stretch/>
        </p:blipFill>
        <p:spPr>
          <a:xfrm>
            <a:off x="6778800" y="1785960"/>
            <a:ext cx="2620800" cy="3456000"/>
          </a:xfrm>
          <a:prstGeom prst="rect">
            <a:avLst/>
          </a:prstGeom>
          <a:ln w="0">
            <a:noFill/>
          </a:ln>
        </p:spPr>
      </p:pic>
      <p:pic>
        <p:nvPicPr>
          <p:cNvPr id="385" name="Rectangle 6" descr=""/>
          <p:cNvPicPr/>
          <p:nvPr/>
        </p:nvPicPr>
        <p:blipFill>
          <a:blip r:embed="rId3"/>
          <a:stretch/>
        </p:blipFill>
        <p:spPr>
          <a:xfrm>
            <a:off x="4071960" y="4230720"/>
            <a:ext cx="3011400" cy="3657600"/>
          </a:xfrm>
          <a:prstGeom prst="rect">
            <a:avLst/>
          </a:prstGeom>
          <a:ln w="0">
            <a:noFill/>
          </a:ln>
        </p:spPr>
      </p:pic>
      <p:pic>
        <p:nvPicPr>
          <p:cNvPr id="386" name="Rectangle 7" descr=""/>
          <p:cNvPicPr/>
          <p:nvPr/>
        </p:nvPicPr>
        <p:blipFill>
          <a:blip r:embed="rId4"/>
          <a:stretch/>
        </p:blipFill>
        <p:spPr>
          <a:xfrm>
            <a:off x="5430960" y="396720"/>
            <a:ext cx="256680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ctos y riesgros de drogas i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n 2008, cerca de 3,000 personas se mueren de drogas ileg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coca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iene los efectos negativos de su cerebro y el corazó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adicción puede resultar en las consequencías de vid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l muerte repentin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http://blogs.phillyburbs.com/news/bcct/wp-content/blogs.dir/2/files/2008/August/Thursday/a_cocaine.jpg"/>
          <p:cNvPicPr/>
          <p:nvPr/>
        </p:nvPicPr>
        <p:blipFill>
          <a:blip r:embed="rId1"/>
          <a:stretch/>
        </p:blipFill>
        <p:spPr>
          <a:xfrm>
            <a:off x="5105520" y="4876920"/>
            <a:ext cx="19047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hero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uede ser adict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uede causar los AIDS y el HIV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capacidad para funcionar disminuirá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adicción puede resultar en las consequencías de vid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http://everystockphoto.s3.amazonaws.com/drug_dropps_danger_222974_l.jpg"/>
          <p:cNvPicPr/>
          <p:nvPr/>
        </p:nvPicPr>
        <p:blipFill>
          <a:blip r:embed="rId1"/>
          <a:stretch/>
        </p:blipFill>
        <p:spPr>
          <a:xfrm>
            <a:off x="4495680" y="304920"/>
            <a:ext cx="2235240" cy="1676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http://www.topnews.in/health/files/hiv-aids.jpg"/>
          <p:cNvPicPr/>
          <p:nvPr/>
        </p:nvPicPr>
        <p:blipFill>
          <a:blip r:embed="rId2"/>
          <a:stretch/>
        </p:blipFill>
        <p:spPr>
          <a:xfrm rot="387000">
            <a:off x="6629040" y="914040"/>
            <a:ext cx="16128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ogas 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tobac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asesinos de dol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s pastillas de dormid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6" name="Picture 4" descr="http://www.docleaf.com/critique/Dec0707/tobacco.jpg"/>
          <p:cNvPicPr/>
          <p:nvPr/>
        </p:nvPicPr>
        <p:blipFill>
          <a:blip r:embed="rId1"/>
          <a:stretch/>
        </p:blipFill>
        <p:spPr>
          <a:xfrm rot="21120600">
            <a:off x="990720" y="4190760"/>
            <a:ext cx="2057400" cy="2228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candy.jpg candy image by MDA2007"/>
          <p:cNvPicPr/>
          <p:nvPr/>
        </p:nvPicPr>
        <p:blipFill>
          <a:blip r:embed="rId2"/>
          <a:stretch/>
        </p:blipFill>
        <p:spPr>
          <a:xfrm>
            <a:off x="3733920" y="4191120"/>
            <a:ext cx="2971800" cy="1985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http://www.brainandspinalcord.org/blog/wp-content/uploads/2009/10/alcohol.jpg"/>
          <p:cNvPicPr/>
          <p:nvPr/>
        </p:nvPicPr>
        <p:blipFill>
          <a:blip r:embed="rId3"/>
          <a:stretch/>
        </p:blipFill>
        <p:spPr>
          <a:xfrm rot="496200">
            <a:off x="5867280" y="1828800"/>
            <a:ext cx="289584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factos de drogas 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,000 personas se mueren d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Más de 20,000 personas al año se mueren de conducir bebid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alguien se muere cada 31 minut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ás de 33,00 personas se mueren de sobredosises de drog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2" descr="http://www.sixwise.com/images/articles/2008/05/07/drunkdriving-lg.jpg"/>
          <p:cNvPicPr/>
          <p:nvPr/>
        </p:nvPicPr>
        <p:blipFill>
          <a:blip r:embed="rId1"/>
          <a:stretch/>
        </p:blipFill>
        <p:spPr>
          <a:xfrm>
            <a:off x="5943600" y="4352760"/>
            <a:ext cx="1752480" cy="2389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http://www.passenlaw.com/blog/wp-content/uploads/2009/08/drunk-driving-deaths.jpg"/>
          <p:cNvPicPr/>
          <p:nvPr/>
        </p:nvPicPr>
        <p:blipFill>
          <a:blip r:embed="rId2"/>
          <a:stretch/>
        </p:blipFill>
        <p:spPr>
          <a:xfrm rot="1213800">
            <a:off x="7313400" y="3483000"/>
            <a:ext cx="139068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riesg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struye su hígad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umenta su tensió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lgunos tipos de cáncer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tobac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 cáncer del pulmón, la boca, o la lengu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asesinos de dol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 los daños del hígad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5" name="Picture 2" descr="http://www.healingdaily.com/conditions/cirrhosis-liver.jpg"/>
          <p:cNvPicPr/>
          <p:nvPr/>
        </p:nvPicPr>
        <p:blipFill>
          <a:blip r:embed="rId1"/>
          <a:stretch/>
        </p:blipFill>
        <p:spPr>
          <a:xfrm rot="21382200">
            <a:off x="5105520" y="380520"/>
            <a:ext cx="2438280" cy="2533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pdcdentistry.com/images/oral-cancer-3use.jpg"/>
          <p:cNvPicPr/>
          <p:nvPr/>
        </p:nvPicPr>
        <p:blipFill>
          <a:blip r:embed="rId2"/>
          <a:stretch/>
        </p:blipFill>
        <p:spPr>
          <a:xfrm>
            <a:off x="6400800" y="2514600"/>
            <a:ext cx="23814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regun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¿Si no podemos controlar las drogas legales, cómo podemos controlor las drogas ilegale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número de problemas y riesgos aumentará, tambié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23:01:26Z</dcterms:created>
  <dc:creator>Kristen</dc:creator>
  <dc:description/>
  <dc:language>en-US</dc:language>
  <cp:lastModifiedBy>Kristen</cp:lastModifiedBy>
  <dcterms:modified xsi:type="dcterms:W3CDTF">2009-12-08T21:55:09Z</dcterms:modified>
  <cp:revision>26</cp:revision>
  <dc:subject/>
  <dc:title>La legalización de drogas</dc:title>
</cp:coreProperties>
</file>