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A1D3-67E7-4822-8AD7-3DA1B196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C10E-9470-488E-8623-A1B9E399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D221-5B51-45C8-BD3E-FA5E8D0E1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731-4C67-4C48-8D52-4026B904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8A7BA-F3DD-494F-8048-99049540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0809-5F50-4D2D-AB3E-306DBAC4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B595-8547-40F5-90DE-77E33A18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21C9-D76F-4D3D-BC55-D10CBF953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FE6C-991F-4D11-9592-11CE95DD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5A3F-AC1C-4B4B-BBE2-9DA68D604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8C96-A33B-452E-A488-B82D1B99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22A2-B07D-42B3-8756-F1D0A32B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E9B3-A114-4CFC-917F-807C3DC8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27A8-18DA-43E7-9F78-526C3C02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45522-C96C-4A6F-8372-855C186A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CB7E-31D1-46B1-B8DE-D0ACFE6D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F8C9-0F7B-4512-8B94-E33DA4C6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925DC-BE10-4D3B-BAE1-79F5FC342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5949C-042B-4E34-B61E-198CB809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8F1A7-9D8B-44CB-8C95-479E11961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DE9C5-C18F-4D6D-B96B-4A5883782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85A03-CAF4-4DDD-B4B2-15CA1CBA2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C6C-2BDF-4173-BD19-B13D5AB2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E762D-E337-4142-A366-B2397FBB4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2DACB-4B6B-47CA-A564-058B1FE0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D5D60-12D2-4096-A92A-FF514D38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B9C40-9324-44E7-AAEF-4127E95D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10A3E-C6F9-48AE-A248-C0C279A8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C63AE-9558-45E6-8008-B9FE4417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F4519-D150-4A89-A039-07A8D2EEC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5EEA9-6718-4D85-BCDB-63D51454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79F2C-B2DB-4A81-B934-2C0F43A4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B7C9D-BBE6-4978-B30B-31F7F644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8FB5-7150-458B-88B4-0077BB87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7E164-31D0-44FB-A23D-F46ACDFD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F2E54-BA85-443F-BC48-635BDBD8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AE071-D1DD-463B-8C41-C52332E0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0A27E-B25C-4FFD-B64A-034C068D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0923F-B9AC-4F05-AEE7-14F7D713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1B77E-1E4D-49E6-BE27-EE13C59E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D0863A-F474-4229-85F7-56305520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83286-2D15-465A-A490-401F7318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CB501-00D0-4E12-921F-3969A3725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9488F-F691-40DB-AC0D-8ACF1F74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B8B9-F27E-402F-984A-0BF46EF7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659219-B677-41C5-9B38-B1A15CC6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D886E-398E-4285-8DB8-024CC619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3D0DB-C2F1-4AAD-A333-3B5F45F8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5E30D-319B-495A-986D-EFB93E01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42DE8-D8A2-4A52-AF80-D6A6F4C1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5C9F0-DF4E-4AE9-AFC7-7B578D4A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5EE72-1815-4DFF-9B96-A2351544F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35CA6-916D-4FBF-8C87-D2F8257F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0B5333-5807-4FDC-825D-CF06D317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1C133-F596-48E7-98FB-CDA5F2DD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411C5-5FBC-42B8-8B40-446AE5CE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80942-D856-4F66-A1FD-944AAF21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C019D-35DD-40C9-9409-8C14BAA5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ECCC4-E26E-489B-9B50-60F378417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53373-0E88-4449-A054-EA077BF0C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699F2-58BE-4C3B-9194-CAA3BF59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FC42E-D3DC-4753-8D63-72EBEEE0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1D3EC-DCBC-4741-ADCF-34B12021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8B12C-00BD-4D75-B724-FE4D8AC8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748CC-DDFA-43E7-8D9E-D5CBF8DC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5DB30-9B55-405F-AC8C-9B7BC71B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74FD-C19C-4E59-B484-3097FF55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144F3-8D3F-4336-8DFB-2B2D8D17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67D02-CB2A-4202-A037-56A0C79DF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4A9572-32C4-45C3-B200-9E41E60E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0A51C-4077-44D1-AF5E-7615A16FD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8E22E-FC43-489D-B60B-3F6C8E06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E8601-8038-40F1-B5CC-9FD503DD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1E811-FC99-412A-BFDD-40E64233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EA396-1EF9-4654-ACDE-163B68D67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C0E72-CCB8-4EDB-9DB8-C5450149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A44A1-9A48-4BC8-8E49-F82B0052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E348-A7AC-4F8F-93F1-AD08EC58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C6240-0B2C-4053-9F14-E8990F32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A1D0D-EDA0-47D4-8E46-6E068595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F495A8-DEC6-4A58-BA86-B40C8EE77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709FC-C4CD-4533-9E72-B91D655AD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2822D-1F44-41FB-BADD-F28E2068B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523DDA-50F2-4DFE-B13E-3FF7A0CD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D9013-821A-45B7-975E-C7B7575B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4CF2B-1063-45D6-8463-98E6E67D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05031-C57D-44DA-A4A1-840518925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DDFB8D-4DAE-472B-8EB4-15B2ABD32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DB66C-9BA2-42F1-93AD-EB641F72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96340-C33E-473B-925F-65F27299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45D69-ACC6-4717-AA3B-5E6BA2D2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D8347-4F60-4527-AD07-F88656DC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2D799C-E8A2-4243-B95C-793E55DE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E60CC5-7B4F-4C8C-BA66-5AA9B1A91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A7253-7753-4185-9A7C-803535EE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EEC08-83BA-48CD-AD2A-4F112CB2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5D56-0AF2-44D7-BDDA-4E8B71ED769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8FF7-D61B-42DB-8A57-A66F7E865F5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F77C-A1D2-4334-A682-5FC6E2DDDC7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539B-D99E-4FB2-BFEB-402356DFFB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D34D-9EFC-477F-A6D4-63A091AAB0D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B3BA4-EDD4-4E91-939B-447F0F405E7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7C25E-7EED-4A77-9D0F-82BDD27444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768CF-70AB-4ED1-AC44-5EEF44F2E19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1" name="Title 1" descr=""/>
          <p:cNvPicPr/>
          <p:nvPr/>
        </p:nvPicPr>
        <p:blipFill>
          <a:blip r:embed="rId2"/>
          <a:stretch/>
        </p:blipFill>
        <p:spPr>
          <a:xfrm>
            <a:off x="1292400" y="450720"/>
            <a:ext cx="7785000" cy="1847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459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464646"/>
                </a:solidFill>
                <a:latin typeface="Lucida Sans Unicode"/>
              </a:rPr>
              <a:t>por Charanya Kaushi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fé exprés con azúcar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fé con lech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Mezcla sal y mantequill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Lucida Sans Unicode"/>
              </a:rPr>
              <a:t>Casi todos los Cubanos beben caf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Se bebe con el desayun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Es una bebida social y cultural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5334120" y="4419720"/>
            <a:ext cx="2401920" cy="2089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"/>
          <p:cNvPicPr/>
          <p:nvPr/>
        </p:nvPicPr>
        <p:blipFill>
          <a:blip r:embed="rId3"/>
          <a:stretch/>
        </p:blipFill>
        <p:spPr>
          <a:xfrm>
            <a:off x="6553080" y="609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Españ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Áfric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El Carib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hina (Habana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2160720" cy="1981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3"/>
          <a:stretch/>
        </p:blipFill>
        <p:spPr>
          <a:xfrm>
            <a:off x="6324480" y="2590920"/>
            <a:ext cx="2320920" cy="20984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4"/>
          <a:stretch/>
        </p:blipFill>
        <p:spPr>
          <a:xfrm>
            <a:off x="6553080" y="5029200"/>
            <a:ext cx="2041560" cy="1425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5"/>
          <a:stretch/>
        </p:blipFill>
        <p:spPr>
          <a:xfrm>
            <a:off x="4191120" y="3733920"/>
            <a:ext cx="203184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Sistema de racionamiento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s productos del sistema son malo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a mayoría de Cubanos lo usa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Se compran los raciones en bodeg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Cada persona tiene raciones de lo que pueden comprar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s raciones difieren basado en la edad y el género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5791320" y="4952880"/>
            <a:ext cx="18288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Arroz con frijoles (Congrí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El puerco y el r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La ensalad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Vianda (tubérculos)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No comen muchas fruta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Usan muchas especi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5715000" y="3505320"/>
            <a:ext cx="3048120" cy="304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6" name="Picture 4" descr=""/>
          <p:cNvPicPr/>
          <p:nvPr/>
        </p:nvPicPr>
        <p:blipFill>
          <a:blip r:embed="rId3"/>
          <a:stretch/>
        </p:blipFill>
        <p:spPr>
          <a:xfrm>
            <a:off x="3505320" y="228600"/>
            <a:ext cx="4038480" cy="303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7" name="Picture 5" descr=""/>
          <p:cNvPicPr/>
          <p:nvPr/>
        </p:nvPicPr>
        <p:blipFill>
          <a:blip r:embed="rId4"/>
          <a:stretch/>
        </p:blipFill>
        <p:spPr>
          <a:xfrm>
            <a:off x="2286000" y="3886200"/>
            <a:ext cx="29462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Basada en la comida Europe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Arroz congrí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Mojo (una salsa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l res es muy popu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Ropa Vieja y Bolich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Tamales cubano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Harina de maíz, aceite, puerco, hojas de maíz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Sopas y guisas son muy popula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Los frijoles negros, el maíz, la car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201600" y="225360"/>
            <a:ext cx="8491680" cy="11527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0988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s muy similar a la cocina crioll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xiste una influencia de España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Hay más influencia Chin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Sopa China, arroz saltead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Se usa la harina de arroz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s huevos son popular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Tortillas de pap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Huevos a la habaner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l pescado es común en regiones costera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5867280" y="2819520"/>
            <a:ext cx="243864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s influenciado por la cocina Caribe y Africana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s muy popular el Congrí oriental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Muchas comidas Puertorriqueñas y dominicanas se encuentran aquí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l fufú de plátan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105520" y="4114800"/>
            <a:ext cx="27813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 tradicional es de trabajadores del cigarr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Se usa pan tradicional de Cub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También hay sándwiches de medianoch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lena Ruz – sandwich de postr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2514600" cy="1882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"/>
          <p:cNvPicPr/>
          <p:nvPr/>
        </p:nvPicPr>
        <p:blipFill>
          <a:blip r:embed="rId3"/>
          <a:stretch/>
        </p:blipFill>
        <p:spPr>
          <a:xfrm>
            <a:off x="3505320" y="43434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4"/>
          <a:stretch/>
        </p:blipFill>
        <p:spPr>
          <a:xfrm>
            <a:off x="6553080" y="4724280"/>
            <a:ext cx="22100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5:04:11Z</dcterms:created>
  <dc:creator>kaushikc</dc:creator>
  <dc:description/>
  <dc:language>en-US</dc:language>
  <cp:lastModifiedBy>kaushikc</cp:lastModifiedBy>
  <dcterms:modified xsi:type="dcterms:W3CDTF">2009-10-05T16:49:32Z</dcterms:modified>
  <cp:revision>24</cp:revision>
  <dc:subject/>
  <dc:title>La Comida Cubana</dc:title>
</cp:coreProperties>
</file>