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372-0694-4645-AFF2-49573437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4C9-4C29-434E-870E-FA27FB5D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C05-6668-4D94-B857-C31FFBFC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10C-E1FC-4341-9315-48BC339F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5EE-19E2-4AED-BDE7-C9C630A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29C7-D022-4264-8F17-221A3CA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04D6-0141-45A9-A476-16283AC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78F6-7980-4660-B956-0B7311A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0AB7-F528-4F84-9A34-9E04F4DA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ABD-DFF4-46F2-BB19-BCDDC326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934-6CF8-4105-B860-DB87B4F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093-F7B1-4E32-854B-FA09F95C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7B0-C018-4559-9F0D-720E791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5C28-7230-49F8-9136-4DC5E234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EAED-01FA-459C-BD4B-68DEC3FC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E433-AA7E-401E-81F1-DC8D69C7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2D1-61F2-493A-8DC9-487ED414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A905-DF68-422C-82AB-0AB17DAF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4A8F-9AE1-4223-8889-F0F67AA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47F2-E215-4182-926D-A7480643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2CDD-284F-46AA-B13F-C92145EB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32C8-594D-4014-9643-3251A75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E31-13E2-4B13-B788-90405EC5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A96A-7643-44EE-A0B0-085B0640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66F4F-D2E5-4580-B8C8-B5FEF527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8068-C1E0-4666-9F82-450FE9D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FE1F-C523-4E51-8377-ECFFF2C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2DD7-6164-4372-87C1-3978359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0098-D1A5-4F8D-B972-9E623A30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DE04-C92C-4DFE-9910-2801DD7B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CB2A-02F0-4118-A11B-06BA5F58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EEDA-5FA2-4072-83E2-56D9BA60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EF4F-EE49-4DD8-88E2-7154A307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5AE-6EC2-4B2E-AEF0-FFBA3D09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166C-25AB-418C-A3BF-4C919BBD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9842-8FC8-4CC4-ABFC-DA667E4B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BD87-166A-46F2-A2E9-70CC8EC9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B3EE-6F00-4579-9BE2-79A5A40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9EA1-294C-458D-A5F3-CEF633E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A988-9FF5-49B8-93BE-8058F80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C59C-94A7-48DA-B2F4-7BE52B9F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4671-940D-48AB-95EE-4F7E2F4E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D4CC-D42F-4B71-A73A-E7A2082D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021B-C002-4C6F-93B2-270611B2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97E-401B-4121-B7F4-D09EB006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D0027-044D-4A11-93AF-27E31EA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E23A3-082B-44E4-ADD9-8E79443C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19B6-7DE8-4013-9855-E441DFFB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6577-5752-4E6C-A4FA-4F42A300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3DD6B-BE4E-4C12-BCAF-791B1E8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1FEF-3658-4151-813D-4393529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7E3D-9C1E-4030-A448-26644F42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5A59-A77A-4063-88A6-E352E1C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2394-7890-4DB0-B8D9-E663973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00850-A2FC-4C63-B092-F6540778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AE9-3CC2-49F6-B021-5DA3F4D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DBAC-28CB-44C7-B2A0-A2B140F4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C1D98-4F3F-4618-A0F2-696C3938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994A-D174-4DA2-A4F3-6BEA76C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6C25-E981-4266-BD17-366C32F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DE8F4-6475-4672-8EE0-C1BF651B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F43F-7BDF-4837-9786-41DEA3E3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B9B6-CD96-4A80-86F4-6A29F762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5BA4-5612-4B55-932D-23C342B7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2C85-E2DE-41BA-893C-0D75A985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12F9C-2073-42E5-AD74-925A1E4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CB0-540D-46CC-A7BB-DFF5A53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E7E08-3479-425D-AABB-73582F8E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83CCD-F01B-4C29-B43E-12343F98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8C599-497F-4FEF-A4E0-ADC3687D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C54D-7457-43B3-86EC-26336EF1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EFA0C-1871-4927-AAFB-63B728F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3FB75-BF58-4BA4-8AFB-3F81383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C7568-FBC4-4B81-B00B-A551E508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2243F-47F2-47EF-ADA9-359250E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68C72-5EFA-42AB-A342-30E887F9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B95B0-7DB9-43FE-98A9-B519D76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494-6A36-4E3A-AE66-8EC3B8B8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ADF22-81B1-4F69-BEB1-F1A1FC0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550EB-45CC-4F5D-B645-FA55ED8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D9E5-47A1-45F3-B436-C0169AF0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14DEE-FD4F-4780-AA3C-273CC5D5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41CC-3101-4B9A-BEEF-46783048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DD276-616A-4B36-BF36-682B599A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9E1E9-7ED3-4573-9333-F6F11828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1FB61-1139-4150-AD47-FB528F88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1B259-6E78-432D-AF33-31FECB2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D691-121D-45AF-B2F4-F711ADBA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AC4-0C2E-4888-AAEE-0F1BD74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4034-1DF2-41B8-A55F-15673011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B1F35-78A6-45E8-86B8-C5C19AE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92BD7-0FCB-4D7B-9AE3-40D26C2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AD80-D6AF-4AF6-B081-448CF23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2E4DC-FAEF-4805-8FC5-C783C975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1C95C-F199-4C3F-9B83-288DED6F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FDA80-88D1-4998-87BD-85CA42D8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D53B-82D1-4647-82A0-C514D85227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D997-9E2B-43A4-891E-D30AE7225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12BC-053D-4B2D-BD52-B75922895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D14-DFCD-4A11-AA58-BFBD80E37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947-8F7B-425B-8EE8-9EEFDFC25B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8CE0-F84C-49C0-BE49-802F1A0239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C9B-9520-411A-8AE0-60393613B8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DD4-E7DE-4972-9319-EB0F217448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292400" y="450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459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or Charanya Kaush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exprés con azúca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con le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zcla sal y mantequi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Casi todos los Cubanos beben caf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Se bebe con el desayu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s una bebida social y cultur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401920" cy="20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Áfr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Carib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hina (Haban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2320920" cy="2098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6553080" y="5029200"/>
            <a:ext cx="2041560" cy="142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20318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istema de racionamient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productos del sistema son malo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yoría de Cubanos lo u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compran los raciones en bodeg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ada persona tiene raciones de lo que pueden comprar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raciones difieren basado en la edad y el géner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Arroz con frijoles (Congrí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puerco y el 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La ensala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Vianda (tubérculos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No comen muchas frut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Usan muchas espec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8120" cy="30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5320" y="228600"/>
            <a:ext cx="40384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2946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Basada en la comida Europ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Arroz congrí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Mojo (una sals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l res es muy pop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opa Vieja y Bolic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amales cuban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rina de maíz, aceite, puerco, hojas de maíz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s y guisas son muy popula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os frijoles negros, el maíz, la car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similar a la cocina criol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xiste una influencia de Españ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Hay más influencia Ch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 China, arroz salte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e usa la harina de arro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huevos son popula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ortillas de pap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Huevos a la haban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pescado es común en regiones costera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438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influenciado por la cocina Caribe y African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popular el Congrí orienta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uchas comidas Puertorriqueñas y dominicanas se encuentran aquí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fufú de pláta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781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 tradicional es de trabajadores del cigar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usa pan tradicional de Cub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También hay sándwiches de mediano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ena Ruz – sandwich de postr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553080" y="4724280"/>
            <a:ext cx="2210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04:11Z</dcterms:created>
  <dc:creator>kaushikc</dc:creator>
  <dc:description/>
  <dc:language>en-US</dc:language>
  <cp:lastModifiedBy>kaushikc</cp:lastModifiedBy>
  <dcterms:modified xsi:type="dcterms:W3CDTF">2009-10-05T16:49:32Z</dcterms:modified>
  <cp:revision>24</cp:revision>
  <dc:subject/>
  <dc:title>La Comida Cubana</dc:title>
</cp:coreProperties>
</file>