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B66-10B7-4B5F-B6C1-035AE320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ECE-73FB-4AFA-9AB5-F7A56440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E39-426F-416A-AB01-A4D16872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63F-F327-4CE9-802B-3DFFC8EC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54B3-8B38-4A84-99EF-A15E5EBF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8432-0D58-4FB0-AC9B-39B8C6DC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CFED-7DCE-495F-8C33-B9D03833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9548-3019-46E0-805D-AB71B2D0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9B25-7447-41EE-AE7E-799CB2D7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39F7-6EA3-42CE-9D2F-DA1C4137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C2ED-DF41-451A-A1F8-943503BB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1B8-3152-462D-88C7-5361384C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2A5D-3BEA-40BA-BA8E-4DFD899E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4F97-8E27-4C67-90C2-EF25B48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BE9E-11A5-4F0E-9AEE-3F5E6F93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188D-CC30-4B1E-8DD8-177EB930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13F1-342F-4F09-8145-0C34BEDB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D8C2F-0515-490F-82AC-9596039A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6CE5-B3B8-48BE-B1D0-9E1E52C9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4E8D-297A-4FF7-87DB-E229C870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107A-5DC1-4887-BAA9-05E7465E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948E-2D58-4FC2-8692-6025CD5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059-13F6-4144-A3BA-6CC1922B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54F0-BF0E-47DF-89D2-A78980C2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6FEA-E697-46AE-8A02-DA80C05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AE3C-9880-43FF-81B4-44DACAB9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A60F-00B8-4AC6-AB17-5ED56AB3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C546-B1FC-482A-A64C-43671D75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18B2-E9F5-4A99-AE21-432D3DB1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F6AA-CFCB-43E5-B1CC-07B743D1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E87CD-2B42-43A2-99B4-C69B5531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0CEF4-D314-46A4-BF88-8CC0C6E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7DFD-DD84-4EBC-9B9E-E88175F5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7BF-81D8-4E6B-A9F2-CD04751F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4D16F-3416-4EA7-B807-FFAA7DCC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A4B1A-91FF-472D-B62D-E5836044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4DAB-51B0-4F6C-B8DF-937B4098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63C6-778F-41C5-9732-C3CE9E7D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3B367-94E5-4F10-B7BD-C46408E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9A4F8-ABEA-4D91-9862-7AF8CCC9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4DE3-9F01-4994-8CB1-B1446B5E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25AE-D96A-4728-BB23-C9AAFCD1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CB6F-8816-4EA8-9E8B-F5E02D6C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EF2E4-1FBF-49A0-A5BF-8B435452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342-7AD4-48FD-89B6-8B108EA2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3E91-1C6C-434A-86AB-852C697B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981F5-C743-42DE-83BB-CA2F74EB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FEE0C-024D-4796-AA42-E7AA1B73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7BBB9-AB97-431B-ACD9-5E7989DA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1964C-8FE3-4B26-9DB6-7FC10B69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DAB2-AD9B-419F-BFA9-2B16E494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5F50F-4E5C-4A34-8149-F3F860D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21A66-E6C9-423F-8E72-E1F98D4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C10E-3E3D-4F69-AC81-46A313CF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15FB8-48B7-4400-8C23-4E0EB256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62D-C6B8-435E-88AD-305B68E1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F043-2BD4-46FE-8B7D-D2C3482D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F1D8-C11C-4DA8-BFA2-D18AA112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C265F-371C-4CE7-B1B5-34A12FA2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D3F81-CFD7-45EE-BFE7-BFB35172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1B64C-887B-43FC-B374-FFA02EC1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F926-9C16-4EF8-B8C4-A2D155E7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33622-06D3-4E9B-A34B-36DFD2F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137AD-25C4-4CD5-A655-CEB8576F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DAB31-6444-4F4A-A12B-F18E4A4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7F682-E2BD-4EF4-80A0-C4C3D001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CB0-2564-45CA-99AD-64B6C6F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9E90E-7ABD-4C27-AB82-CDFB669E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0073-314A-4D3F-AA0F-E45C61E0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ACFF1-6D18-4F6E-A53A-6C3C5FDA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746CF-FB49-4632-8FC8-2F93268A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31CC0-FAA5-4013-9638-50E2CF99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BDCF0-242A-4075-BE23-BB4FB5CD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06B8E-CCD4-4154-BEFD-D290C201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A058-ADD8-447B-B278-0FBE84FC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E9A70-04E9-4433-8725-4D1C0216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7AB06-1218-46F6-9D68-85FE0069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F64-8BE6-4801-8B70-0D3AFBE5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4DF19-B808-4C49-BF67-9FAB4447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EBD6B-900B-4E5B-9A47-18020614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D986F-FD0F-4097-BEB0-0D376744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67B67-314B-439E-8965-160084E0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F5258-3BBE-449A-A365-718DF874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96998-D776-43A6-BF31-7859BA4B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84348-8F2B-41B0-8603-1E1707CC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0C15F-D5D2-4749-A723-89555EDA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B238B-324F-4254-BE78-0AF876BC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00261-FDDD-41A6-91CB-6AF4B7AF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D33-34D5-4926-86AD-DEE71625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8961B-3F27-46A4-80E0-189D6FC2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B1BC7-B674-4BAD-B504-B680DD51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A9FAE-242C-4FD6-B625-6AB1514E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FD889-AF5A-447D-9872-F75D4376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0E020-23B5-40F7-81C1-DA533347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03D46-331A-41BF-BAF4-783BD7A3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4C678-753E-4244-A6BD-B5824EA0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537E-B585-4AF9-889C-AEA84B2F5F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851B-34E8-4405-BD0A-A3C35084FA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2C94-6C79-4232-B360-4D8FEA35F6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37CF-450E-4887-A19B-F455F685E4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9660-6D13-42AB-A157-0EA8C08190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E7EE-9A75-4399-9651-5B3EC57251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E670-7C67-4C72-9DFF-436DD521A1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C8B5-2020-4441-B0ED-C99D8CD1D4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292400" y="450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459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464646"/>
                </a:solidFill>
                <a:latin typeface="Lucida Sans Unicode"/>
              </a:rPr>
              <a:t>por Charanya Kaush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exprés con azúca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con lech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Mezcla sal y mantequill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Casi todos los Cubanos beben caf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Se bebe con el desayu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Es una bebida social y cultur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2401920" cy="2089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3"/>
          <a:stretch/>
        </p:blipFill>
        <p:spPr>
          <a:xfrm>
            <a:off x="6553080" y="609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spañ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Áfric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Carib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hina (Haban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2160720" cy="1981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2320920" cy="2098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6553080" y="5029200"/>
            <a:ext cx="2041560" cy="142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5"/>
          <a:stretch/>
        </p:blipFill>
        <p:spPr>
          <a:xfrm>
            <a:off x="4191120" y="3733920"/>
            <a:ext cx="203184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istema de racionamient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productos del sistema son malo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mayoría de Cubanos lo us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compran los raciones en bodeg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ada persona tiene raciones de lo que pueden comprar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raciones difieren basado en la edad y el géner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5791320" y="4952880"/>
            <a:ext cx="1828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Arroz con frijoles (Congrí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puerco y el r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La ensalad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Vianda (tubérculos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No comen muchas fruta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Usan muchas espec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8120" cy="30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3505320" y="228600"/>
            <a:ext cx="4038480" cy="30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2286000" y="3886200"/>
            <a:ext cx="2946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Basada en la comida Europe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Arroz congrí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Mojo (una sals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l res es muy pop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opa Vieja y Bolich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amales cuban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Harina de maíz, aceite, puerco, hojas de maíz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s y guisas son muy popula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Los frijoles negros, el maíz, la car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8491680" cy="1152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similar a la cocina criol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xiste una influencia de Españ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Hay más influencia Ch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 China, arroz saltea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e usa la harina de arro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huevos son popula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ortillas de pap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Huevos a la habane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pescado es común en regiones costera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24386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influenciado por la cocina Caribe y African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popular el Congrí oriental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Muchas comidas Puertorriqueñas y dominicanas se encuentran aquí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fufú de pláta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2781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 tradicional es de trabajadores del cigarr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usa pan tradicional de Cub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También hay sándwiches de medianoc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ena Ruz – sandwich de postr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3"/>
          <a:stretch/>
        </p:blipFill>
        <p:spPr>
          <a:xfrm>
            <a:off x="3505320" y="4343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>
            <a:off x="6553080" y="4724280"/>
            <a:ext cx="2210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5:04:11Z</dcterms:created>
  <dc:creator>kaushikc</dc:creator>
  <dc:description/>
  <dc:language>en-US</dc:language>
  <cp:lastModifiedBy>kaushikc</cp:lastModifiedBy>
  <dcterms:modified xsi:type="dcterms:W3CDTF">2009-10-05T16:49:32Z</dcterms:modified>
  <cp:revision>24</cp:revision>
  <dc:subject/>
  <dc:title>La Comida Cubana</dc:title>
</cp:coreProperties>
</file>