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3.png" ContentType="image/png"/>
  <Override PartName="/ppt/media/image2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8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30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C7EC-8082-4A5E-9858-7374FF216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ED45-2DC7-4B42-AA84-5A2A72ACC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DAAB-D699-4E36-858E-AFD876DA1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D55C-0A94-452C-A7DD-1B45E13F3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89793-3A26-4625-B423-A8E15778A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D0359-3B5D-4834-9B3F-8447E9107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D6F9E-017D-44A1-9CFD-CD584C849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6C201-706A-409C-BC65-18ACB0034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0BF7E-F35E-4A90-9C3E-7B0B2E5DC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1E7B4-1829-4D0B-9CDD-34C6F2F86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570B9-9563-4BB3-964F-53D01695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0988-1DA5-45F9-9368-C9021E6EB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979C3-9612-4EEF-9BFD-1654D9E99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8C0EE-DB5F-45DF-AD8E-9C88F3BC1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0D277-A8A1-4F21-89F2-0E8919650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2EE7D-C139-406E-8B11-7DB8F34E8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070A9-A4FA-4BD1-8841-98F9D38B2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BA77C-BD3A-44E5-BD2B-3DC6E7E5B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7B922-0474-4FB8-ACF5-12244662C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F1A37-3EBD-4041-81C9-3D7F32152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89355-C6C0-4918-83EC-248F123A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0D5C1-A9CA-4CD3-9052-2D80996A0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7A35-A093-4B53-86CB-B374F8E0B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EB0B7-3283-4789-A2A6-AEED85136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9E3B4-1AF7-4389-857D-ADBD5D97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7AB1D-C215-4D2E-9581-CB04F9F7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57938-6D14-4311-BFD8-75D3F7D36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836AA-38AF-44B1-A1AB-8AE1E4C5A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50C2D-D558-4777-93B2-D35C12574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107A8-088D-4429-A75D-D470EB77F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B114B-EC79-4383-97BB-C7BE474CB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4886D-B9D8-4BEE-A260-3BBA21C5C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260B3-1551-4FDA-927A-D13059086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1B67-5295-447D-B926-1EEB8787C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A6AB3-437A-4958-AE59-933AECE77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054C7-81BB-4559-91D6-47ECCA85B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97484-8584-441B-A391-8DC9E3592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4C545-0462-4876-BB3F-1CBA0CAC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53ACC-E786-4D3E-9609-182317DA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AE110-27C5-43F8-A24F-67B7FBC3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B57CD-3FBD-44AE-8A55-CF280932F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5E6FA-8710-44AD-BC4A-99BFD458E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D6BBC-2C7B-4842-9A1F-B1FB53CC7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520A0-FBD0-4BF5-B9F0-7BEE03A20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2E94-DF37-4F07-ABC0-77B5419D2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B1D30-1AEB-443C-8347-6EE5F4818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E52C1-D595-4B1A-B714-908DD81CB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24F23-0656-4CFE-BF5A-DCCA09B83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B69E9B-9686-4150-9D79-2F8E7735B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F73C4-F629-4D8B-8FA2-E2C3D32CE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61BE42-7C59-4BA9-9E34-F2482E18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BAA4D7-055A-44F4-82EE-31228A77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C9BB43-4C7C-4EA2-90A2-5592481B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080CB-F261-4B7B-84BF-977E49BD0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25D96-4014-4DD8-877C-1C3B9E84C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5D31-96A8-425E-A8B4-DEB43C71F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517D2-EC72-447B-B2C4-6CB065AAD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58555-6777-4B92-8486-07F2CF94E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4BD02-946D-461B-97DC-0648A5FDC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D338D0-A8D0-4EED-A8E7-61762E921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C99B22-AB26-426E-8E69-E01EEE13B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9F4DA8-E749-4825-B24A-8286DF840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2AA27-E88D-4B3E-AE8A-54A4F3F1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A71837-F86A-4608-AD5E-A3DC171C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7DAA6-06C7-48AE-88A1-DF253A19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2E82C-3FEF-4DB4-BD24-05A29744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A8B2-E4A6-43B2-8058-A1AAC0E9F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5EC8A-FA79-4B05-9D1C-91251003F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1652DD-C487-4379-8C70-B87798A9F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0C59A-7EF8-49C0-84CE-CEA578851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FD1C8-6BAF-4AF9-9285-B1DC22D76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77572-EB2B-4209-9DFD-0B364923C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66C38E-22F6-4605-98C7-F2C418FFF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2A29FB-8C31-4116-9E01-5F3BF2F6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D2FBA-96F4-43E8-AD92-B777D6917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B93815-09D6-4112-AABC-C5E405B41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9A0051-5C6F-4397-BCFA-7991E148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24CF-3EE7-4A46-A5D1-05F15996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E0C7BB-504C-482E-A661-524A0BDE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B47072-F113-4EC8-B42E-F04BC46A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40256D-455C-4AA4-BA45-A3132F1DE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E597D8-BA64-4D7A-AE26-675B8ECE9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C3FE1D-13BF-4C32-9283-E9FC9B434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A01FE0-C013-45CC-9547-D213DAD0F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661533-76C2-4944-9355-692BB8A4F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889B56-203F-4B37-8C0D-7E237E1A1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D94A3D-D68A-487C-878B-A7CF7CE02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252F7F-70F1-47CA-8176-77B379961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9377-0E9F-4F6E-8F51-4D124B4A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A9BBDF-7FF6-468F-99E5-1FF82FFF2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7BA0CF-144C-4EE8-ADF2-ACBC1A3C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A1FF63-F4A1-4AFA-B344-1FA1F82C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66EC92-69E9-427D-9E6D-1E806084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4FD831-6071-462C-99BC-96DDEA56D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DE761A-C78D-4A74-931A-36B7C261F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775C63-7D66-49B2-A5AD-060B73140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55046-CCB2-48EB-98F8-C4E343ACEEE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87F2D-98F3-4B8D-B640-BD534BCB144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AF25F-B0F6-4108-9A45-10ABBCA1C42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B3FE2-F8E8-4FDD-B3C5-AB49E0BB1CE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0AD8A-511E-43BC-B33A-ECB432C12D5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A38E7-5C62-4873-B45E-9B50190570E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813FF-2F1D-4BBC-BEB5-C2E1703AEE8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EC032-B904-460E-85FF-9A1EB4B1F8A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1" name="Title 1" descr=""/>
          <p:cNvPicPr/>
          <p:nvPr/>
        </p:nvPicPr>
        <p:blipFill>
          <a:blip r:embed="rId2"/>
          <a:stretch/>
        </p:blipFill>
        <p:spPr>
          <a:xfrm>
            <a:off x="1292400" y="450720"/>
            <a:ext cx="7785000" cy="184788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685800" y="459108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464646"/>
                </a:solidFill>
                <a:latin typeface="Lucida Sans Unicode"/>
              </a:rPr>
              <a:t>por Charanya Kaushi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Café exprés con azúcar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Café con lech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Lucida Sans Unicode"/>
              </a:rPr>
              <a:t>Mezcla sal y mantequilla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Lucida Sans Unicode"/>
              </a:rPr>
              <a:t>Casi todos los Cubanos beben caf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Lucida Sans Unicode"/>
              </a:rPr>
              <a:t>Se bebe con el desayuno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Lucida Sans Unicode"/>
              </a:rPr>
              <a:t>Es una bebida social y cultural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" descr=""/>
          <p:cNvPicPr/>
          <p:nvPr/>
        </p:nvPicPr>
        <p:blipFill>
          <a:blip r:embed="rId2"/>
          <a:stretch/>
        </p:blipFill>
        <p:spPr>
          <a:xfrm>
            <a:off x="5334120" y="4419720"/>
            <a:ext cx="2401920" cy="20890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4" descr=""/>
          <p:cNvPicPr/>
          <p:nvPr/>
        </p:nvPicPr>
        <p:blipFill>
          <a:blip r:embed="rId3"/>
          <a:stretch/>
        </p:blipFill>
        <p:spPr>
          <a:xfrm>
            <a:off x="6553080" y="6094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Españ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Áfric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El Carib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China (Habana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2" descr=""/>
          <p:cNvPicPr/>
          <p:nvPr/>
        </p:nvPicPr>
        <p:blipFill>
          <a:blip r:embed="rId2"/>
          <a:stretch/>
        </p:blipFill>
        <p:spPr>
          <a:xfrm>
            <a:off x="4572000" y="457200"/>
            <a:ext cx="2160720" cy="19810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" descr=""/>
          <p:cNvPicPr/>
          <p:nvPr/>
        </p:nvPicPr>
        <p:blipFill>
          <a:blip r:embed="rId3"/>
          <a:stretch/>
        </p:blipFill>
        <p:spPr>
          <a:xfrm>
            <a:off x="6324480" y="2590920"/>
            <a:ext cx="2320920" cy="20984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4" descr=""/>
          <p:cNvPicPr/>
          <p:nvPr/>
        </p:nvPicPr>
        <p:blipFill>
          <a:blip r:embed="rId4"/>
          <a:stretch/>
        </p:blipFill>
        <p:spPr>
          <a:xfrm>
            <a:off x="6553080" y="5029200"/>
            <a:ext cx="2041560" cy="14256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"/>
          <p:cNvPicPr/>
          <p:nvPr/>
        </p:nvPicPr>
        <p:blipFill>
          <a:blip r:embed="rId5"/>
          <a:stretch/>
        </p:blipFill>
        <p:spPr>
          <a:xfrm>
            <a:off x="4191120" y="3733920"/>
            <a:ext cx="2031840" cy="15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Sistema de racionamiento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Los productos del sistema son malo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La mayoría de Cubanos lo usa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Se compran los raciones en bodega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Cada persona tiene raciones de lo que pueden comprar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Los raciones difieren basado en la edad y el género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2" descr=""/>
          <p:cNvPicPr/>
          <p:nvPr/>
        </p:nvPicPr>
        <p:blipFill>
          <a:blip r:embed="rId2"/>
          <a:stretch/>
        </p:blipFill>
        <p:spPr>
          <a:xfrm>
            <a:off x="5791320" y="4952880"/>
            <a:ext cx="1828800" cy="16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Arroz con frijoles (Congrí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El puerco y el re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La ensalad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Vianda (tubérculos)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No comen muchas fruta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Usan muchas especie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2514600" cy="33526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" descr=""/>
          <p:cNvPicPr/>
          <p:nvPr/>
        </p:nvPicPr>
        <p:blipFill>
          <a:blip r:embed="rId2"/>
          <a:stretch/>
        </p:blipFill>
        <p:spPr>
          <a:xfrm>
            <a:off x="5715000" y="3505320"/>
            <a:ext cx="3048120" cy="3047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86" name="Picture 4" descr=""/>
          <p:cNvPicPr/>
          <p:nvPr/>
        </p:nvPicPr>
        <p:blipFill>
          <a:blip r:embed="rId3"/>
          <a:stretch/>
        </p:blipFill>
        <p:spPr>
          <a:xfrm>
            <a:off x="3505320" y="228600"/>
            <a:ext cx="4038480" cy="3030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87" name="Picture 5" descr=""/>
          <p:cNvPicPr/>
          <p:nvPr/>
        </p:nvPicPr>
        <p:blipFill>
          <a:blip r:embed="rId4"/>
          <a:stretch/>
        </p:blipFill>
        <p:spPr>
          <a:xfrm>
            <a:off x="2286000" y="3886200"/>
            <a:ext cx="294624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2286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Basada en la comida Europe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Arroz congrí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Mojo (una salsa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El res es muy popula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Lucida Sans Unicode"/>
              </a:rPr>
              <a:t>Ropa Vieja y Bolich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Tamales cubanos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Lucida Sans Unicode"/>
              </a:rPr>
              <a:t>Harina de maíz, aceite, puerco, hojas de maíz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Sopas y guisas son muy popular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Lucida Sans Unicode"/>
              </a:rPr>
              <a:t>Los frijoles negros, el maíz, la carn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le 1" descr=""/>
          <p:cNvPicPr/>
          <p:nvPr/>
        </p:nvPicPr>
        <p:blipFill>
          <a:blip r:embed="rId1"/>
          <a:stretch/>
        </p:blipFill>
        <p:spPr>
          <a:xfrm>
            <a:off x="201600" y="225360"/>
            <a:ext cx="8491680" cy="11527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0988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3049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Es muy similar a la cocina crioll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Existe una influencia de España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Hay más influencia Chin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Sopa China, arroz saltead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Se usa la harina de arroz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Los huevos son popular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Tortillas de pap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Huevos a la habaner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El pescado es común en regiones costera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3" descr=""/>
          <p:cNvPicPr/>
          <p:nvPr/>
        </p:nvPicPr>
        <p:blipFill>
          <a:blip r:embed="rId2"/>
          <a:stretch/>
        </p:blipFill>
        <p:spPr>
          <a:xfrm>
            <a:off x="5867280" y="2819520"/>
            <a:ext cx="2438640" cy="18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Es influenciado por la cocina Caribe y Africana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Es muy popular el Congrí oriental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Muchas comidas Puertorriqueñas y dominicanas se encuentran aquí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El fufú de plátan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"/>
          <p:cNvPicPr/>
          <p:nvPr/>
        </p:nvPicPr>
        <p:blipFill>
          <a:blip r:embed="rId2"/>
          <a:stretch/>
        </p:blipFill>
        <p:spPr>
          <a:xfrm>
            <a:off x="5105520" y="4114800"/>
            <a:ext cx="27813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Lo tradicional es de trabajadores del cigarr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Se usa pan tradicional de Cub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También hay sándwiches de medianoch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Elena Ruz – sandwich de postre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2" descr=""/>
          <p:cNvPicPr/>
          <p:nvPr/>
        </p:nvPicPr>
        <p:blipFill>
          <a:blip r:embed="rId2"/>
          <a:stretch/>
        </p:blipFill>
        <p:spPr>
          <a:xfrm>
            <a:off x="457200" y="3809880"/>
            <a:ext cx="2514600" cy="18828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3" descr=""/>
          <p:cNvPicPr/>
          <p:nvPr/>
        </p:nvPicPr>
        <p:blipFill>
          <a:blip r:embed="rId3"/>
          <a:stretch/>
        </p:blipFill>
        <p:spPr>
          <a:xfrm>
            <a:off x="3505320" y="434340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" descr=""/>
          <p:cNvPicPr/>
          <p:nvPr/>
        </p:nvPicPr>
        <p:blipFill>
          <a:blip r:embed="rId4"/>
          <a:stretch/>
        </p:blipFill>
        <p:spPr>
          <a:xfrm>
            <a:off x="6553080" y="4724280"/>
            <a:ext cx="221004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5T15:04:11Z</dcterms:created>
  <dc:creator>kaushikc</dc:creator>
  <dc:description/>
  <dc:language>en-US</dc:language>
  <cp:lastModifiedBy>kaushikc</cp:lastModifiedBy>
  <dcterms:modified xsi:type="dcterms:W3CDTF">2009-10-05T16:49:32Z</dcterms:modified>
  <cp:revision>24</cp:revision>
  <dc:subject/>
  <dc:title>La Comida Cubana</dc:title>
</cp:coreProperties>
</file>