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F60B-2A2C-46C8-9905-1DFE2BF221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5514-2CDB-4BAD-8336-5734B63D904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796-2CF4-49B8-B869-6D8FADE7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587F-9DA2-4966-B7DA-20A7901D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16D-AAA5-4515-BEB9-85A0A21C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3C80-E0F6-4D75-828D-094E7926B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E929-8C95-4202-95A0-37665E70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0F7E-E1AA-4F46-BDCE-5FF37BD2E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07AC7-0F5B-4575-9448-31E4B5F6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623F3-9A3C-445D-A713-66086C4E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5E67-708C-4030-9A3D-49B952278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57128-80B3-4408-9321-54CC7C72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DBE39-1526-4352-A659-B562B126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876A-7F5B-44E7-965A-4BD10CDC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CFD8-F454-4059-8E89-C509A211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4DD7-6A3A-45E2-8BCD-C18D9D71D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3828-5629-4CAC-BE83-62484DC2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AFAA-2BF2-4FBF-89B6-6766241C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ED16-8EA6-488E-B559-F8B1E6D1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8F37-C568-48FF-8959-646390D14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30765-5B29-4BD9-A70A-31CE4630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17824-3A7E-4D2E-AE11-F23DE9CA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6F93E-64C2-460A-AD05-AFA1F193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C3E0-755B-4956-9446-4999B61EC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B144-81B1-4028-BB22-EFC4C404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144DD-570C-453A-B45A-53729F3F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31980-1ADA-40D1-A59B-AA5F5F55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A1987-0BCD-49FA-80E3-5F8C14EC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2E83A-0171-48F4-B063-6881B5300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6FE1B-7A7B-4D31-97F3-A27EEE7E4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D98EB-A2D2-4347-987D-04E287B6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7C475-ADFA-42E7-8898-0D6B49CF5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1B9A5-A7BE-41BE-8680-A88705DE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61915-A92F-45F5-9B31-82021FD6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EEDF-6C8C-4841-93C8-8BD9B2DC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6C90-BC10-485E-BB7B-854A16A10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A49FA-DE92-4024-A601-998D94524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5596-0EBF-49AA-B743-E473160D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1ACB3-CB99-45C0-AEB1-0D4F2784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DA89-A081-45AA-B2BB-2A32258B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70137-7BCE-41E7-B67B-729DD1AA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28539-E213-46A8-BBA4-68566CF1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3A0C2-AAEB-43CA-9346-8A8E1EF6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65D7E-CED0-426D-B1D6-7B108B2E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65223-B98F-4F0E-B3A6-962CD57C6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72243-FFA9-4B73-9E25-D7328109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748-B87B-4722-9ABB-DF9E5D56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F4BC9-873C-4219-BEED-7A831F3C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15D1F-0018-4E32-955F-C448947CC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E3536-6472-42CB-9531-FCDD41B44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EDF40-A386-49FC-B2BB-510BD23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2E3EF-BD89-4101-9BE7-F5D37DB8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7D231-A737-4D01-9F35-7F885DFA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0C0F7-A223-4190-95A7-2A66F816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7D483-2478-4889-B05E-B2524C6D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95D0D-E8F1-4786-AC4D-C69A38E0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62E59-EA66-427C-BFE9-D7E165AD4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EBA-8692-4B8A-9842-133AE45A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FAC44-BEF6-4F40-B7CA-BF4F1D10C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9E75B-8D5F-4F77-84F0-D455E110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305EA-08FE-42C4-89BB-3E46E40C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43F2AF-2748-4A08-95D1-7579D97F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E95011-2994-4ED6-841D-B4640986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80666-D5B9-466E-8192-08DAE346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245F0-57A1-432A-BB50-A2332159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24208-4CAC-4C55-8060-FB60122C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4D6EB-2756-47D5-81B8-E2E70A34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06A37-82D4-417D-8F2F-5DFC527C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697A-FB69-4002-AE4A-DDB78881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902AF-5944-4D1A-8582-83AD29F5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F36EC-FFD7-475E-B814-C5FFF38B9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4E7A0D-705E-4214-BA8F-A9ACF3D71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6078-9EBE-41AF-A67B-1FE2E959C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189B6-6A99-4AB1-891C-8ECC2BDF8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6E54A3-40C0-4E6F-ADCE-EB5C84E6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243B00-D56D-40DF-82FE-5C250DFB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7124A-B75F-4440-887C-CE0B9048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58445-30A1-433A-A0B6-FA026A44F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9DDB-B717-4376-B17C-8D5B1202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A057-B5B2-4085-AFC1-E9223F0B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D5908-F546-484D-BD77-9F627AB8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A81B9-8B3B-4900-AEA2-104E1665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55B0F-3F2A-4015-A69A-6BBB7C86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24280-C1B9-4D8D-AA81-7139F6E59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B12B7-85B1-47FA-9FF8-462305677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AABD-0533-4CAE-9680-42D690E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3303-400B-4B78-8C03-5731ED911738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7DF9-C411-4E7B-A78F-F898A4BF1F17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CA36-26E1-4562-A13E-B9E92FA6A29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376CD-6CC0-42AA-AA58-72B375190F4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FDE1-0BC6-4365-B405-A5B2C350BCCD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40ED9-5DBF-44BB-9DFF-01C5915FFBEF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C57B-EA8A-4D38-B7F0-02D61521F11C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risten Popovi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arihu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etanfetami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extasis (MD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dietilamida de ácido lisérgico (LS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fenciclidina (PCP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estero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www.abc.net.au/health/library/img/heroin_m1387753.jpg"/>
          <p:cNvPicPr/>
          <p:nvPr/>
        </p:nvPicPr>
        <p:blipFill>
          <a:blip r:embed="rId1"/>
          <a:stretch/>
        </p:blipFill>
        <p:spPr>
          <a:xfrm>
            <a:off x="4648320" y="3048120"/>
            <a:ext cx="2705040" cy="135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i.neoseeker.com/n/2/marijuana_thumb.jpg"/>
          <p:cNvPicPr/>
          <p:nvPr/>
        </p:nvPicPr>
        <p:blipFill>
          <a:blip r:embed="rId2"/>
          <a:stretch/>
        </p:blipFill>
        <p:spPr>
          <a:xfrm rot="536400">
            <a:off x="5866920" y="1066320"/>
            <a:ext cx="2619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posi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violencia de drog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 gasto con las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sta más que $44 mil millones para hacer cumplir la prohibición de drog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bandona cerca de $33 mil millones en los ingresos para las dogras ileg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a reducción en el us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www.javno.com/slike/slike_3/r1/g2008/m06/y173273514528362.jpg"/>
          <p:cNvPicPr/>
          <p:nvPr/>
        </p:nvPicPr>
        <p:blipFill>
          <a:blip r:embed="rId1"/>
          <a:stretch/>
        </p:blipFill>
        <p:spPr>
          <a:xfrm>
            <a:off x="6248520" y="4419720"/>
            <a:ext cx="2527200" cy="189540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2"/>
          <a:stretch/>
        </p:blipFill>
        <p:spPr>
          <a:xfrm>
            <a:off x="6778800" y="1785960"/>
            <a:ext cx="2620800" cy="345600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6" descr=""/>
          <p:cNvPicPr/>
          <p:nvPr/>
        </p:nvPicPr>
        <p:blipFill>
          <a:blip r:embed="rId3"/>
          <a:stretch/>
        </p:blipFill>
        <p:spPr>
          <a:xfrm>
            <a:off x="4071960" y="4230720"/>
            <a:ext cx="3011400" cy="365760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7" descr=""/>
          <p:cNvPicPr/>
          <p:nvPr/>
        </p:nvPicPr>
        <p:blipFill>
          <a:blip r:embed="rId4"/>
          <a:stretch/>
        </p:blipFill>
        <p:spPr>
          <a:xfrm>
            <a:off x="5430960" y="396720"/>
            <a:ext cx="25668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os y riesgros de 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 2008, cerca de 3,000 personas se mueren de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iene los efectos negativos de su cerebro y el coraz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l muerte repentin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blogs.phillyburbs.com/news/bcct/wp-content/blogs.dir/2/files/2008/August/Thursday/a_cocaine.jpg"/>
          <p:cNvPicPr/>
          <p:nvPr/>
        </p:nvPicPr>
        <p:blipFill>
          <a:blip r:embed="rId1"/>
          <a:stretch/>
        </p:blipFill>
        <p:spPr>
          <a:xfrm>
            <a:off x="5105520" y="4876920"/>
            <a:ext cx="19047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ser adic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causar los AIDS y el HIV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capacidad para funcionar disminuirá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everystockphoto.s3.amazonaws.com/drug_dropps_danger_222974_l.jpg"/>
          <p:cNvPicPr/>
          <p:nvPr/>
        </p:nvPicPr>
        <p:blipFill>
          <a:blip r:embed="rId1"/>
          <a:stretch/>
        </p:blipFill>
        <p:spPr>
          <a:xfrm>
            <a:off x="4495680" y="3049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topnews.in/health/files/hiv-aids.jpg"/>
          <p:cNvPicPr/>
          <p:nvPr/>
        </p:nvPicPr>
        <p:blipFill>
          <a:blip r:embed="rId2"/>
          <a:stretch/>
        </p:blipFill>
        <p:spPr>
          <a:xfrm rot="387000">
            <a:off x="6629040" y="914040"/>
            <a:ext cx="16128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 pastillas de dorm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Picture 4" descr="http://www.docleaf.com/critique/Dec0707/tobacco.jpg"/>
          <p:cNvPicPr/>
          <p:nvPr/>
        </p:nvPicPr>
        <p:blipFill>
          <a:blip r:embed="rId1"/>
          <a:stretch/>
        </p:blipFill>
        <p:spPr>
          <a:xfrm rot="21120600">
            <a:off x="990720" y="4190760"/>
            <a:ext cx="2057400" cy="2228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andy.jpg candy image by MDA2007"/>
          <p:cNvPicPr/>
          <p:nvPr/>
        </p:nvPicPr>
        <p:blipFill>
          <a:blip r:embed="rId2"/>
          <a:stretch/>
        </p:blipFill>
        <p:spPr>
          <a:xfrm>
            <a:off x="3733920" y="4191120"/>
            <a:ext cx="2971800" cy="1985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www.brainandspinalcord.org/blog/wp-content/uploads/2009/10/alcohol.jpg"/>
          <p:cNvPicPr/>
          <p:nvPr/>
        </p:nvPicPr>
        <p:blipFill>
          <a:blip r:embed="rId3"/>
          <a:stretch/>
        </p:blipFill>
        <p:spPr>
          <a:xfrm rot="496200">
            <a:off x="5867280" y="1828800"/>
            <a:ext cx="28958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factos de 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,000 personas se mueren d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ás de 20,000 personas al año se mueren de conducir beb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alguien se muere cada 31 minut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ás de 33,00 personas se mueren de sobredosises de drog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www.sixwise.com/images/articles/2008/05/07/drunkdriving-lg.jpg"/>
          <p:cNvPicPr/>
          <p:nvPr/>
        </p:nvPicPr>
        <p:blipFill>
          <a:blip r:embed="rId1"/>
          <a:stretch/>
        </p:blipFill>
        <p:spPr>
          <a:xfrm>
            <a:off x="5943600" y="4352760"/>
            <a:ext cx="1752480" cy="2389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www.passenlaw.com/blog/wp-content/uploads/2009/08/drunk-driving-deaths.jpg"/>
          <p:cNvPicPr/>
          <p:nvPr/>
        </p:nvPicPr>
        <p:blipFill>
          <a:blip r:embed="rId2"/>
          <a:stretch/>
        </p:blipFill>
        <p:spPr>
          <a:xfrm rot="1213800">
            <a:off x="7313400" y="3483000"/>
            <a:ext cx="13906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riesg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truye su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umenta su tensi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lgunos tipos de cáncer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cáncer del pulmón, la boca, o la lengu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los daños del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Picture 2" descr="http://www.healingdaily.com/conditions/cirrhosis-liver.jpg"/>
          <p:cNvPicPr/>
          <p:nvPr/>
        </p:nvPicPr>
        <p:blipFill>
          <a:blip r:embed="rId1"/>
          <a:stretch/>
        </p:blipFill>
        <p:spPr>
          <a:xfrm rot="21382200">
            <a:off x="5105520" y="380520"/>
            <a:ext cx="2438280" cy="2533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dcdentistry.com/images/oral-cancer-3use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814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egun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¿Si no podemos controlar las drogas legales, cómo podemos controlor las drogas ilegale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número de problemas y riesgos aumentará, tambié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3:01:26Z</dcterms:created>
  <dc:creator>Kristen</dc:creator>
  <dc:description/>
  <dc:language>en-US</dc:language>
  <cp:lastModifiedBy>Kristen</cp:lastModifiedBy>
  <dcterms:modified xsi:type="dcterms:W3CDTF">2009-12-08T21:55:09Z</dcterms:modified>
  <cp:revision>26</cp:revision>
  <dc:subject/>
  <dc:title>La legalización de drogas</dc:title>
</cp:coreProperties>
</file>