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71700-8220-4EDE-8BDD-87CC55EE96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D44BC-14DC-4BA5-9B37-FBFA639D92F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ECA1-FAA4-481E-9148-0725EFD36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8EF2-D1A1-4B46-8553-3308B1E8C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ADF9-F38B-49F6-B2B8-006C8606F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1E2F-2336-4493-B8A7-C29C0E22F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E4D97-7E0D-4763-BDAC-70F45F7D5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157B0-5864-441C-BEF9-8E9E1F959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E57FD-E1B0-434D-8BA1-E9C487E93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A46C4-AF12-4F1B-8DE5-4EEDD6584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FA976-C3C3-4DC2-A103-B7D3580A0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121BB-7DD9-458D-803E-D5741B5A2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849F8-C004-4ECE-805C-E2F82B7C2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83A0-CC35-4EB2-B017-52AA76166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54EFE-EE6E-4953-9E18-C70C0E42B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B0B58-04E3-463C-B7F6-5BADE2ADC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9384C-7D54-4551-8C26-471141301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C544C-B382-4DAF-AC79-6AA56A55A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007D2-D498-4DFA-8807-60BAED492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A28D4-D574-41FE-A0A5-E972E03A6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027E3-8B6F-42A5-A3EC-025CD5450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8C82B-432C-42E1-90CA-9800B5C55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2ADEA-6095-47AA-92C6-6CDC05128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BEB45-4BD8-49FC-96A9-7860ABBD4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E57B-0DA8-401F-BDF8-884299429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610D4-2451-42BC-B9C6-12124E527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B0079-710B-441A-8CC9-94826F64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560D1-4FC1-45FA-8CA7-0B8521B60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C5869-ED5F-45E7-AA42-A7889CD26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76ABD-F0BF-48EC-BBA0-0EF2E1C10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F9432-BDAC-4AD7-955C-F8E5114F8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44F8B-71D2-40A6-9CE0-49F8073F0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142C1-7C6D-4A90-9405-F048DF868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8795F-2F70-4571-A452-8EEBDE09F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62701-8F59-4802-B831-7A26A176B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5F5F-7BC0-420D-ABE4-A48285805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801DE-105B-4092-BED6-990582BF5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D6A40-AABE-4CBF-BB20-AF3C87F2A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89C1E-7D1B-421B-830A-F2491AB4A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4A11A-BB6A-4E70-AC84-DDE233689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66030-CF14-4A1E-B069-10A5AE67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5840E-AC6F-46DB-9ACB-E8A37ED23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FF4E3-0D96-40E4-8AEB-3CD3C06A4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98238-0AC2-4E7E-AA3C-B18D1BE48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3DF1E-EF39-4349-941C-96CDAF46F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5322B-CF58-4BFF-81E9-2801A8500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1910-D601-4C91-97BB-47BA265CC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5DD37B-17E0-4365-B89B-95362F4E9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5AC69-09F2-46EE-B311-EB9597399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C56F68-3797-45BC-9BB8-11E4B9F79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6AC4D-C7B7-4185-A45B-E062B0410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DA3E6F-E076-4483-AAEA-FE96DEF3C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341320-EE51-45D1-9B01-23071CA5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36F89-C420-4AF7-96E8-2A93B4E5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29C51A-91C1-4FE9-9BEC-3EC14C69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8C55F0-E6FD-422E-99DC-E3B49E0AE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A933B4-6965-4EE6-8605-03B72A781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DEAD-56A4-4CE2-9D38-FF9006BF0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C0D98D-9460-4E91-847A-33383F7EF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C51084-9966-4875-B6B9-70D000FF0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8F92F6-405C-44EB-8CBB-7D87CC910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B0C06B-3EFF-474A-9990-C4D31E073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39CE49-BA16-459D-8306-A5BAAF99F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6CF698-B910-4A15-BD4C-AD356CE02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3576AB-27BF-470B-9BED-BC4E06C57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AF34FB-B9B6-4C49-A0D7-5CA10FD7E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4A948-54DC-49C8-BCFB-159ACDD49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CC5484-5EBA-486D-8330-081674D71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FB10-6BC1-45C3-BC2C-939A0E17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4A5285-1576-49A5-94A4-9250F55D4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8DCCAB-1CCC-4157-897C-51E915DE9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34FF9D-3BD3-4661-ACFF-AC73E0692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BB2842-42E6-477A-B8B7-D2D82927D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141418-9A66-469E-A7A4-86DC4529A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A4F0F3-C300-45B6-9413-55FA22594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6674CD-FB85-4715-A82D-70ED778A4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8FD19D-987D-41C1-912F-2102E9FC7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A750B1-B8E7-4727-9104-CE1858765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6B9BCC-8D91-40B5-BB77-4E00B439B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EFB0-FE85-46C5-B0E2-937478DD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B0AC54-B55E-4BE8-8A43-C1332617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8DDC8-8B6E-48F0-B586-E248A068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8CD0D7-19E7-4AC6-98CF-31E4BD373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9068DA-D082-4BF2-806D-AFF1B880B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7F9CFD-6332-40D8-AC55-F2E0761C4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2DC2-F71F-405E-B572-99846FEE1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A4F0A-FFDD-45C2-97E6-169574FD511C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0F57A-5775-4F0A-9D75-EB1A9E529DD4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4FC04-AC7E-4400-901E-79670CB0545C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310E2-24BC-446A-9691-F3A270DC0C2A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EA098-3048-4CED-83DA-77937AA74DCF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A61DF-924B-4E78-B807-C83E3DEDAFCA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73040" y="12175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26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3040" y="12823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26040" y="1370160"/>
              <a:ext cx="723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320"/>
              <a:ext cx="1022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6040" y="1434960"/>
              <a:ext cx="723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77920" y="14731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2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7920" y="15379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138DB-EDA2-41CA-9985-7FC40A63CADC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Title 1" descr=""/>
          <p:cNvPicPr/>
          <p:nvPr/>
        </p:nvPicPr>
        <p:blipFill>
          <a:blip r:embed="rId1"/>
          <a:stretch/>
        </p:blipFill>
        <p:spPr>
          <a:xfrm>
            <a:off x="682560" y="4237200"/>
            <a:ext cx="8010720" cy="20905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Kristen Popovich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Drogas ilegale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a cocaín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a heroín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a marihuan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a metanfetamin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l extasis (MDMA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a dietilamida de ácido lisérgico (LSD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a fenciclidina (PCP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os esteroid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9" name="Picture 2" descr="http://www.abc.net.au/health/library/img/heroin_m1387753.jpg"/>
          <p:cNvPicPr/>
          <p:nvPr/>
        </p:nvPicPr>
        <p:blipFill>
          <a:blip r:embed="rId1"/>
          <a:stretch/>
        </p:blipFill>
        <p:spPr>
          <a:xfrm>
            <a:off x="4648320" y="3048120"/>
            <a:ext cx="2705040" cy="13525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6" descr="http://i.neoseeker.com/n/2/marijuana_thumb.jpg"/>
          <p:cNvPicPr/>
          <p:nvPr/>
        </p:nvPicPr>
        <p:blipFill>
          <a:blip r:embed="rId2"/>
          <a:stretch/>
        </p:blipFill>
        <p:spPr>
          <a:xfrm rot="536400">
            <a:off x="5866920" y="1066320"/>
            <a:ext cx="261936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Los positivo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a violencia de drog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Un gasto con las drogas ilegal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Gasta más que $44 mil millones para hacer cumplir la prohibición de drog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Abandona cerca de $33 mil millones en los ingresos para las dogras ilegale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Una reducción en el uso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3" name="Picture 2" descr="http://www.javno.com/slike/slike_3/r1/g2008/m06/y173273514528362.jpg"/>
          <p:cNvPicPr/>
          <p:nvPr/>
        </p:nvPicPr>
        <p:blipFill>
          <a:blip r:embed="rId1"/>
          <a:stretch/>
        </p:blipFill>
        <p:spPr>
          <a:xfrm>
            <a:off x="6248520" y="4419720"/>
            <a:ext cx="2527200" cy="1895400"/>
          </a:xfrm>
          <a:prstGeom prst="rect">
            <a:avLst/>
          </a:prstGeom>
          <a:ln w="0">
            <a:noFill/>
          </a:ln>
        </p:spPr>
      </p:pic>
      <p:pic>
        <p:nvPicPr>
          <p:cNvPr id="384" name="Rectangle 5" descr=""/>
          <p:cNvPicPr/>
          <p:nvPr/>
        </p:nvPicPr>
        <p:blipFill>
          <a:blip r:embed="rId2"/>
          <a:stretch/>
        </p:blipFill>
        <p:spPr>
          <a:xfrm>
            <a:off x="6778800" y="1785960"/>
            <a:ext cx="2620800" cy="3456000"/>
          </a:xfrm>
          <a:prstGeom prst="rect">
            <a:avLst/>
          </a:prstGeom>
          <a:ln w="0">
            <a:noFill/>
          </a:ln>
        </p:spPr>
      </p:pic>
      <p:pic>
        <p:nvPicPr>
          <p:cNvPr id="385" name="Rectangle 6" descr=""/>
          <p:cNvPicPr/>
          <p:nvPr/>
        </p:nvPicPr>
        <p:blipFill>
          <a:blip r:embed="rId3"/>
          <a:stretch/>
        </p:blipFill>
        <p:spPr>
          <a:xfrm>
            <a:off x="4071960" y="4230720"/>
            <a:ext cx="3011400" cy="3657600"/>
          </a:xfrm>
          <a:prstGeom prst="rect">
            <a:avLst/>
          </a:prstGeom>
          <a:ln w="0">
            <a:noFill/>
          </a:ln>
        </p:spPr>
      </p:pic>
      <p:pic>
        <p:nvPicPr>
          <p:cNvPr id="386" name="Rectangle 7" descr=""/>
          <p:cNvPicPr/>
          <p:nvPr/>
        </p:nvPicPr>
        <p:blipFill>
          <a:blip r:embed="rId4"/>
          <a:stretch/>
        </p:blipFill>
        <p:spPr>
          <a:xfrm>
            <a:off x="5430960" y="396720"/>
            <a:ext cx="2566800" cy="34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Factos y riesgros de drogas ilegale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n 2008, cerca de 3,000 personas se mueren de drogas ilegal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a cocaín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iene los efectos negativos de su cerebro y el corazón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La adicción puede resultar en las consequencías de vida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El muerte repentino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9" name="Picture 2" descr="http://blogs.phillyburbs.com/news/bcct/wp-content/blogs.dir/2/files/2008/August/Thursday/a_cocaine.jpg"/>
          <p:cNvPicPr/>
          <p:nvPr/>
        </p:nvPicPr>
        <p:blipFill>
          <a:blip r:embed="rId1"/>
          <a:stretch/>
        </p:blipFill>
        <p:spPr>
          <a:xfrm>
            <a:off x="5105520" y="4876920"/>
            <a:ext cx="1904760" cy="15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a heroín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Puede ser adicto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Puede causar los AIDS y el HIV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La capacidad para funcionar disminuirá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La adicción puede resultar en las consequencías de vida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92" name="Picture 2" descr="http://everystockphoto.s3.amazonaws.com/drug_dropps_danger_222974_l.jpg"/>
          <p:cNvPicPr/>
          <p:nvPr/>
        </p:nvPicPr>
        <p:blipFill>
          <a:blip r:embed="rId1"/>
          <a:stretch/>
        </p:blipFill>
        <p:spPr>
          <a:xfrm>
            <a:off x="4495680" y="304920"/>
            <a:ext cx="2235240" cy="167616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4" descr="http://www.topnews.in/health/files/hiv-aids.jpg"/>
          <p:cNvPicPr/>
          <p:nvPr/>
        </p:nvPicPr>
        <p:blipFill>
          <a:blip r:embed="rId2"/>
          <a:stretch/>
        </p:blipFill>
        <p:spPr>
          <a:xfrm rot="387000">
            <a:off x="6629040" y="914040"/>
            <a:ext cx="1612800" cy="22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Drogas legale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l alcoho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l tobaco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os asesinos de dolo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as pastillas de dormido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96" name="Picture 4" descr="http://www.docleaf.com/critique/Dec0707/tobacco.jpg"/>
          <p:cNvPicPr/>
          <p:nvPr/>
        </p:nvPicPr>
        <p:blipFill>
          <a:blip r:embed="rId1"/>
          <a:stretch/>
        </p:blipFill>
        <p:spPr>
          <a:xfrm rot="21120600">
            <a:off x="990720" y="4190760"/>
            <a:ext cx="2057400" cy="2228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6" descr="candy.jpg candy image by MDA2007"/>
          <p:cNvPicPr/>
          <p:nvPr/>
        </p:nvPicPr>
        <p:blipFill>
          <a:blip r:embed="rId2"/>
          <a:stretch/>
        </p:blipFill>
        <p:spPr>
          <a:xfrm>
            <a:off x="3733920" y="4191120"/>
            <a:ext cx="2971800" cy="19857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http://www.brainandspinalcord.org/blog/wp-content/uploads/2009/10/alcohol.jpg"/>
          <p:cNvPicPr/>
          <p:nvPr/>
        </p:nvPicPr>
        <p:blipFill>
          <a:blip r:embed="rId3"/>
          <a:stretch/>
        </p:blipFill>
        <p:spPr>
          <a:xfrm rot="496200">
            <a:off x="5867280" y="1828800"/>
            <a:ext cx="2895840" cy="25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Los factos de drogas legale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100,000 personas se mueren del alcoho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Más de 20,000 personas al año se mueren de conducir bebido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rbel"/>
              </a:rPr>
              <a:t>alguien se muere cada 31 minuto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Más de 33,00 personas se mueren de sobredosises de droga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01" name="Picture 2" descr="http://www.sixwise.com/images/articles/2008/05/07/drunkdriving-lg.jpg"/>
          <p:cNvPicPr/>
          <p:nvPr/>
        </p:nvPicPr>
        <p:blipFill>
          <a:blip r:embed="rId1"/>
          <a:stretch/>
        </p:blipFill>
        <p:spPr>
          <a:xfrm>
            <a:off x="5943600" y="4352760"/>
            <a:ext cx="1752480" cy="23893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4" descr="http://www.passenlaw.com/blog/wp-content/uploads/2009/08/drunk-driving-deaths.jpg"/>
          <p:cNvPicPr/>
          <p:nvPr/>
        </p:nvPicPr>
        <p:blipFill>
          <a:blip r:embed="rId2"/>
          <a:stretch/>
        </p:blipFill>
        <p:spPr>
          <a:xfrm rot="1213800">
            <a:off x="7313400" y="3483000"/>
            <a:ext cx="1390680" cy="10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Los riesgo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l alcoho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destruye su hígado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aumenta su tensión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lleva algunos tipos de cáncere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l tobaco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lleva a cáncer del pulmón, la boca, o la lengu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os asesinos de dolo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Lleva a los daños del hígado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05" name="Picture 2" descr="http://www.healingdaily.com/conditions/cirrhosis-liver.jpg"/>
          <p:cNvPicPr/>
          <p:nvPr/>
        </p:nvPicPr>
        <p:blipFill>
          <a:blip r:embed="rId1"/>
          <a:stretch/>
        </p:blipFill>
        <p:spPr>
          <a:xfrm rot="21382200">
            <a:off x="5105520" y="380520"/>
            <a:ext cx="2438280" cy="25336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4" descr="http://www.pdcdentistry.com/images/oral-cancer-3use.jpg"/>
          <p:cNvPicPr/>
          <p:nvPr/>
        </p:nvPicPr>
        <p:blipFill>
          <a:blip r:embed="rId2"/>
          <a:stretch/>
        </p:blipFill>
        <p:spPr>
          <a:xfrm>
            <a:off x="6400800" y="2514600"/>
            <a:ext cx="238140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Pregunt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¿Si no podemos controlar las drogas legales, cómo podemos controlor las drogas ilegales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l número de problemas y riesgos aumentará, también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3T23:01:26Z</dcterms:created>
  <dc:creator>Kristen</dc:creator>
  <dc:description/>
  <dc:language>en-US</dc:language>
  <cp:lastModifiedBy>Kristen</cp:lastModifiedBy>
  <dcterms:modified xsi:type="dcterms:W3CDTF">2009-12-08T21:55:09Z</dcterms:modified>
  <cp:revision>26</cp:revision>
  <dc:subject/>
  <dc:title>La legalización de drogas</dc:title>
</cp:coreProperties>
</file>