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EEDBF-C0D3-44AE-86A2-8D7C77F5D6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1386-A6DA-4077-B599-251F5DC637D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3F74-41ED-413B-BAAD-A7FA01044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B50B-B200-4719-98F0-C129B304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9EDD-5C88-4C94-BFDC-8FE84A332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248F-1B65-45E7-A5B3-C2E742CE4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DD426-3456-4B6E-A957-651C57DD1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2478-8E1A-4744-B27A-02025660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BD848-1220-49ED-9C53-C32753449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B4DD-60B1-42C1-8421-B988A297F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C6261-A521-40CC-941A-0C07FCF3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7C86-F0AC-4197-AD64-2B0A9575A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2D40-A013-4A27-A847-2F082F2D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A7DD-C983-4C7E-A47A-64AC64F3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0AE1-495D-4BF9-A2EF-196826870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18AC-8C41-4241-B830-0FFCA564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F3BC-9BCC-4278-B519-A5A606A6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775F-F1F9-4CBC-B14B-24D276330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757C-DF07-4B5E-9B02-188D3E3CE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DF0C6-4E2B-41DA-96F8-49358F878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97EAE-626E-41CF-8644-3D3D2A6A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0082B-38EF-46AE-AECE-885ABBAD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1D951-63B0-494B-94F1-96CACAA3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71C14-0E07-4DD5-94A0-E432A20AF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8D6E-0416-4148-AB92-4FC291241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57D89-4C99-4A30-ADA0-3B7196059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A8F4C1-F64F-404B-9416-7A02F2FC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86B1F-45F6-4558-B57F-9C1B8BCE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BE833-6C99-4549-AD06-4DFDF648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05C81-9478-4AC1-A277-971A5C08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DCDE5-4C45-482D-BB42-8C430045E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0AA87-D1AC-42DD-98B8-B8F0EBF64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E6D54-13D0-4AF2-B7D3-9089BF1C6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E3E51-9162-4EE2-88A6-DE40F69A6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BEC87-3758-4C38-AECA-974F27D85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6783-C94D-4069-B2FF-ADB776CD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E2992-C674-4DF8-89D2-AC739F724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C0E5D-74F7-4223-B391-92670BA7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D717E-177B-4BA9-90BB-C0AA1B86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3165AD-27F3-4405-A852-7F7D96AD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9CA1B-4F74-4DF8-B694-216D681F5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4CDDB-EBEA-4491-9308-81414072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2E2398-543F-47C3-A9CA-31BF0E1F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67981-3A17-4208-BDB0-2301FEF55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1A878-013C-49BF-BE4D-9502BDA8F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35456-B7EA-4EA0-8D56-F1207A446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9629-3B53-4C39-8842-C40D1EBF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ED89B-DC60-48AE-ACCC-ED3952E9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00A93-1F62-4C3B-A1EB-9BE7C6D5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09334-5E33-415B-AEC7-FA246A1B1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614E2-85B0-46B7-A63F-4B4521AF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15969-6A74-44B1-8CCF-001785A6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2453F-2800-46B7-8545-17D2C8B76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8B8AE-722F-479D-B33D-D48A5408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13414-1AFC-485E-9B82-8763ECCF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095ADE-5AFD-4300-A8A5-C94F4A44A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A78F1-C715-4EF8-B3DC-79E80655F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0C0B-B2A6-4A47-9FD8-B796967C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2F387-AB11-4EF7-846B-8A080777F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C2D61-0C7F-47CE-BE63-18C260E58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862CB-2B15-4D9A-9891-4ACC38ED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12463-FA02-42C8-89EA-2BF8BE797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12D44-DA73-4581-8F84-1B9FA003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5CAF55-9291-4D6D-A59C-724F84EA2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5BE873-AE6F-42D0-B502-FC30FF38A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822FEC-7D6E-42C8-95BC-01970C50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82FC5-9DA1-403C-8137-D4C696F69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1C905C-A8AD-42D7-94BA-7B8F2953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BC13-0FD8-4B69-A432-1B06131B9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C3FC1B-381F-43FD-8ABB-2AC6B8DD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940A80-5D44-4A61-8414-F193A08FD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001CB-B0F7-4616-A366-C910563F4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6BEE4F-2DDE-4BF8-BFAA-E615AE9D8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0CC1E-2A60-4799-8E6F-F4CEAC05E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538BF-56A9-4358-8CCC-FEA4A3FF8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5A084-5506-47D1-A774-9AE88E76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F73F57-2DFE-46EA-A4DF-4B4B75A5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85589-AA0E-40A1-AFA2-A60B45BC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5AAC2F-D2EB-480F-840C-DE6049D6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1DF1-7D17-44DF-A3DA-D372F2E9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4B229-30C1-4158-878A-234BE521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C35EB-CB73-4A25-8F91-A14921B5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6A631-8548-4D96-91C0-ED7482D4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D9525-E91D-47B0-BEA8-D5A6D158F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527F99-97E9-4E67-881B-3BD4F7DE0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C4CE-3DFD-4EA3-B349-620AC411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99E1-4336-4C8F-A8F0-5C9FFF00E763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D05B-5DFE-41A6-97D1-F3B17AF0ACEA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7038-6990-4FBC-B07E-1F8B908A016B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61562-8C2A-4796-89E7-650C5ABB3145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0B01-0D9A-4839-B526-96B781B7D149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EB0C-D5AB-42E4-BF48-6B4191F2F356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20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F79A-9C8F-4BD4-9B41-7E3F71B8E735}" type="slidenum">
              <a:rPr b="0" lang="en-US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682560" y="4237200"/>
            <a:ext cx="8010720" cy="2090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Kristen Popovich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rogas ilegal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cocaí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heroí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marihua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metanfetami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l extasis (MDMA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dietilamida de ácido lisérgico (LSD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fenciclidina (PCP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os esteroid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79" name="Picture 2" descr="http://www.abc.net.au/health/library/img/heroin_m1387753.jpg"/>
          <p:cNvPicPr/>
          <p:nvPr/>
        </p:nvPicPr>
        <p:blipFill>
          <a:blip r:embed="rId1"/>
          <a:stretch/>
        </p:blipFill>
        <p:spPr>
          <a:xfrm>
            <a:off x="4648320" y="3048120"/>
            <a:ext cx="2705040" cy="13525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6" descr="http://i.neoseeker.com/n/2/marijuana_thumb.jpg"/>
          <p:cNvPicPr/>
          <p:nvPr/>
        </p:nvPicPr>
        <p:blipFill>
          <a:blip r:embed="rId2"/>
          <a:stretch/>
        </p:blipFill>
        <p:spPr>
          <a:xfrm rot="536400">
            <a:off x="5866920" y="1066320"/>
            <a:ext cx="26193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Los positivo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violencia de drog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n gasto con las drogas ilegal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Gasta más que $44 mil millones para hacer cumplir la prohibición de drog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bandona cerca de $33 mil millones en los ingresos para las dogras ilegale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Una reducción en el us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3" name="Picture 2" descr="http://www.javno.com/slike/slike_3/r1/g2008/m06/y173273514528362.jpg"/>
          <p:cNvPicPr/>
          <p:nvPr/>
        </p:nvPicPr>
        <p:blipFill>
          <a:blip r:embed="rId1"/>
          <a:stretch/>
        </p:blipFill>
        <p:spPr>
          <a:xfrm>
            <a:off x="6248520" y="4419720"/>
            <a:ext cx="2527200" cy="1895400"/>
          </a:xfrm>
          <a:prstGeom prst="rect">
            <a:avLst/>
          </a:prstGeom>
          <a:ln w="0">
            <a:noFill/>
          </a:ln>
        </p:spPr>
      </p:pic>
      <p:pic>
        <p:nvPicPr>
          <p:cNvPr id="384" name="Rectangle 5" descr=""/>
          <p:cNvPicPr/>
          <p:nvPr/>
        </p:nvPicPr>
        <p:blipFill>
          <a:blip r:embed="rId2"/>
          <a:stretch/>
        </p:blipFill>
        <p:spPr>
          <a:xfrm>
            <a:off x="6778800" y="1785960"/>
            <a:ext cx="2620800" cy="3456000"/>
          </a:xfrm>
          <a:prstGeom prst="rect">
            <a:avLst/>
          </a:prstGeom>
          <a:ln w="0">
            <a:noFill/>
          </a:ln>
        </p:spPr>
      </p:pic>
      <p:pic>
        <p:nvPicPr>
          <p:cNvPr id="385" name="Rectangle 6" descr=""/>
          <p:cNvPicPr/>
          <p:nvPr/>
        </p:nvPicPr>
        <p:blipFill>
          <a:blip r:embed="rId3"/>
          <a:stretch/>
        </p:blipFill>
        <p:spPr>
          <a:xfrm>
            <a:off x="4071960" y="4230720"/>
            <a:ext cx="3011400" cy="3657600"/>
          </a:xfrm>
          <a:prstGeom prst="rect">
            <a:avLst/>
          </a:prstGeom>
          <a:ln w="0">
            <a:noFill/>
          </a:ln>
        </p:spPr>
      </p:pic>
      <p:pic>
        <p:nvPicPr>
          <p:cNvPr id="386" name="Rectangle 7" descr=""/>
          <p:cNvPicPr/>
          <p:nvPr/>
        </p:nvPicPr>
        <p:blipFill>
          <a:blip r:embed="rId4"/>
          <a:stretch/>
        </p:blipFill>
        <p:spPr>
          <a:xfrm>
            <a:off x="5430960" y="396720"/>
            <a:ext cx="2566800" cy="34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Factos y riesgros de drogas ilegal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n 2008, cerca de 3,000 personas se mueren de drogas ilegale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cocaí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Tiene los efectos negativos de su cerebro y el corazó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a adicción puede resultar en las consequencías de vida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l muerte repentino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9" name="Picture 2" descr="http://blogs.phillyburbs.com/news/bcct/wp-content/blogs.dir/2/files/2008/August/Thursday/a_cocaine.jpg"/>
          <p:cNvPicPr/>
          <p:nvPr/>
        </p:nvPicPr>
        <p:blipFill>
          <a:blip r:embed="rId1"/>
          <a:stretch/>
        </p:blipFill>
        <p:spPr>
          <a:xfrm>
            <a:off x="5105520" y="4876920"/>
            <a:ext cx="190476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 heroína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uede ser adicto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Puede causar los AIDS y el HIV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a capacidad para funcionar disminuirá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a adicción puede resultar en las consequencías de vida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2" name="Picture 2" descr="http://everystockphoto.s3.amazonaws.com/drug_dropps_danger_222974_l.jpg"/>
          <p:cNvPicPr/>
          <p:nvPr/>
        </p:nvPicPr>
        <p:blipFill>
          <a:blip r:embed="rId1"/>
          <a:stretch/>
        </p:blipFill>
        <p:spPr>
          <a:xfrm>
            <a:off x="4495680" y="304920"/>
            <a:ext cx="2235240" cy="16761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4" descr="http://www.topnews.in/health/files/hiv-aids.jpg"/>
          <p:cNvPicPr/>
          <p:nvPr/>
        </p:nvPicPr>
        <p:blipFill>
          <a:blip r:embed="rId2"/>
          <a:stretch/>
        </p:blipFill>
        <p:spPr>
          <a:xfrm rot="387000">
            <a:off x="6629040" y="914040"/>
            <a:ext cx="161280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Drogas legal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l alcoho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l tobac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os asesinos de dolo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as pastillas de dormid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6" name="Picture 4" descr="http://www.docleaf.com/critique/Dec0707/tobacco.jpg"/>
          <p:cNvPicPr/>
          <p:nvPr/>
        </p:nvPicPr>
        <p:blipFill>
          <a:blip r:embed="rId1"/>
          <a:stretch/>
        </p:blipFill>
        <p:spPr>
          <a:xfrm rot="21120600">
            <a:off x="990720" y="4190760"/>
            <a:ext cx="2057400" cy="22287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candy.jpg candy image by MDA2007"/>
          <p:cNvPicPr/>
          <p:nvPr/>
        </p:nvPicPr>
        <p:blipFill>
          <a:blip r:embed="rId2"/>
          <a:stretch/>
        </p:blipFill>
        <p:spPr>
          <a:xfrm>
            <a:off x="3733920" y="4191120"/>
            <a:ext cx="2971800" cy="19857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http://www.brainandspinalcord.org/blog/wp-content/uploads/2009/10/alcohol.jpg"/>
          <p:cNvPicPr/>
          <p:nvPr/>
        </p:nvPicPr>
        <p:blipFill>
          <a:blip r:embed="rId3"/>
          <a:stretch/>
        </p:blipFill>
        <p:spPr>
          <a:xfrm rot="496200">
            <a:off x="5867280" y="1828800"/>
            <a:ext cx="289584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Los factos de drogas legale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100,000 personas se mueren del alcoho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Corbel"/>
              </a:rPr>
              <a:t>Más de 20,000 personas al año se mueren de conducir bebid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Corbel"/>
              </a:rPr>
              <a:t>alguien se muere cada 31 minuto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Más de 33,00 personas se mueren de sobredosises de drogas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1" name="Picture 2" descr="http://www.sixwise.com/images/articles/2008/05/07/drunkdriving-lg.jpg"/>
          <p:cNvPicPr/>
          <p:nvPr/>
        </p:nvPicPr>
        <p:blipFill>
          <a:blip r:embed="rId1"/>
          <a:stretch/>
        </p:blipFill>
        <p:spPr>
          <a:xfrm>
            <a:off x="5943600" y="4352760"/>
            <a:ext cx="1752480" cy="23893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4" descr="http://www.passenlaw.com/blog/wp-content/uploads/2009/08/drunk-driving-deaths.jpg"/>
          <p:cNvPicPr/>
          <p:nvPr/>
        </p:nvPicPr>
        <p:blipFill>
          <a:blip r:embed="rId2"/>
          <a:stretch/>
        </p:blipFill>
        <p:spPr>
          <a:xfrm rot="1213800">
            <a:off x="7313400" y="3483000"/>
            <a:ext cx="1390680" cy="10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Los riesgos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l alcoho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destruye su hígado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aumenta su tensión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leva algunos tipos de cáncere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l tobaco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leva a cáncer del pulmón, la boca, o la lengu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Los asesinos de dolor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649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Lleva a los daños del hígado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5" name="Picture 2" descr="http://www.healingdaily.com/conditions/cirrhosis-liver.jpg"/>
          <p:cNvPicPr/>
          <p:nvPr/>
        </p:nvPicPr>
        <p:blipFill>
          <a:blip r:embed="rId1"/>
          <a:stretch/>
        </p:blipFill>
        <p:spPr>
          <a:xfrm rot="21382200">
            <a:off x="5105520" y="380520"/>
            <a:ext cx="2438280" cy="25336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http://www.pdcdentistry.com/images/oral-cancer-3use.jpg"/>
          <p:cNvPicPr/>
          <p:nvPr/>
        </p:nvPicPr>
        <p:blipFill>
          <a:blip r:embed="rId2"/>
          <a:stretch/>
        </p:blipFill>
        <p:spPr>
          <a:xfrm>
            <a:off x="6400800" y="2514600"/>
            <a:ext cx="2381400" cy="16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Pregunta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¿Si no podemos controlar las drogas legales, cómo podemos controlor las drogas ilegales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El número de problemas y riesgos aumentará, también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23:01:26Z</dcterms:created>
  <dc:creator>Kristen</dc:creator>
  <dc:description/>
  <dc:language>en-US</dc:language>
  <cp:lastModifiedBy>Kristen</cp:lastModifiedBy>
  <dcterms:modified xsi:type="dcterms:W3CDTF">2009-12-08T21:55:09Z</dcterms:modified>
  <cp:revision>26</cp:revision>
  <dc:subject/>
  <dc:title>La legalización de drogas</dc:title>
</cp:coreProperties>
</file>