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7427-4B8A-4BFC-8433-789E0F99F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F397-CA65-4569-9080-ECF000716D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986-069C-43CE-AF86-D2559A91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ABF-66BD-4035-B14F-0F7381FF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D778-B526-4795-818D-F51DFF37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1B59-1C1B-4922-92E3-83A2A7F5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CABB-4BC4-4B51-86A8-041D03B9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B42C-4C03-47B2-9B1E-41C364F9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91FB-292E-4F45-BF47-1370450F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71FE-4975-4DD8-A918-C5E5BC0E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9591-794E-4E1F-9232-94CAF646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D130-1994-45D6-9FF6-31151811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1165-91A6-42D8-872C-FF7CCF09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0DA-A8FE-4FEA-9335-1346065C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6823-0845-4600-8302-79812FB5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58AC-639F-400F-BB99-406619F5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D509-AD62-4020-8B10-B2E683A4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F389-9BBE-4C11-AEC9-66D74749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CCE4-75D6-4FFF-AF61-C8085854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F78A-5171-46FE-906E-50A083F8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0EDE7-CB48-4ED5-8940-53F66DD6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C8CC0-855B-433B-BD7F-E2ABD46F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D6167-7F21-44D1-B03A-85A14212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128FE-05A1-405A-9D3A-6193F09E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1CA-2EAA-414E-81A2-ACED7A5E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B7C4B-0705-4088-B3B6-85D395B3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18672-1534-4238-8511-471753B3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DEB51-3657-41BC-AE01-983C773C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B34FD-39AC-4094-A563-36CCE481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C67D1-12F8-46E0-8C5A-4532FEE3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833CF-B822-4A58-9F9B-45B8A348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E5AF7-5F97-4B80-80BB-0E04B016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F16D4-4FED-4360-BDC3-45B61BFE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32125-DAA3-4371-855A-E789ABBC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8ADAA-BD6C-4FAD-BE4F-C1BE30A2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64C-965C-499E-893F-8773D436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B981E-D3E5-4431-B316-27426C83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B78A2-4832-43AC-B6D3-3D10FABB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5EAD7-7C35-4ACD-A43A-FE759E57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3C6A8-2739-490E-8902-DCCA4F02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FF52C-0C83-4764-9C03-1644689F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9C166-E141-4573-B304-C4D6B803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ECD17-A238-4947-BC7B-DE9196E6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1C5DA-3850-43C0-9B74-F1DC93BD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E0B0E-A564-4AA7-A7FF-60E1DDFF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A60B1-A5CD-44AA-A852-92E9179E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3B7-9EF0-432F-8AC5-812845A8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5D843-9CBB-45E1-B3BE-AC71647D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1FE07-8887-4CE8-A220-15402960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444EB-9F7B-4B8A-946A-11BBAF90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F9C79-5BAB-40B8-95D1-B446AFAC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2B7A6-6B44-4A20-8355-03245C20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52847-1F82-4AEC-9665-A7B29753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7C74A-814B-4FAB-8CAD-39B8BA2E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AFFEE-4604-4E1B-8AE6-2BD2EF7E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1A60B-7D82-4BF9-A64D-A29106F5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0EEDB-9E06-4AB2-9A4C-7F62604D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CE6-663C-4AE1-909D-EC2FEC09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159E5-C278-4B3A-9ADA-466F4BC9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8F77B-D863-4CC5-B143-D0D07193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7DC6B-F4E3-403F-AD71-6B32926E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A650F-9DA8-46D4-B836-37EEFA6D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388CD-4C4F-4610-9952-63816C88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BE759-1E6D-4E3F-88D4-09B9DFE5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A0DFE-A31C-416F-AD01-ADED4695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776AF-8383-4E40-A053-8282ECCE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8CB2D-9DB7-40AF-942A-1C304B94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31421-33D4-483D-BB41-39C28ADC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529-903C-49FA-AFA8-BEDF49D1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12EEE-7922-4F0A-9526-526E922D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66968-C20B-4740-96E3-621D339C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A39F5-B384-485B-9BE9-1CE5605F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D7890-B7DD-421B-885B-8AAA771E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1AAFB-D373-48AA-B3B7-E5DAEB0F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CCD1D-EE29-4EEF-AC35-41FC2787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191A4-8F67-4110-894D-33593CC7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583DB-95E6-4961-BB4F-483C1455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EE68C-D694-4CA0-BCDA-62BC2BCC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36EA2-0C5D-42DF-BF48-AD9A9E6F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A2C-74A5-41A2-B562-239178A3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09529-6CA3-4CC5-84DD-BEDA6CFC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41310-93F9-4347-A4CF-D014E82D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BAA17-1F91-4BBD-BD9F-09945358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F4E34-2EA8-45D6-A7ED-5D369872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611C5-ABE2-4C2E-A1F1-64C94333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F1E0-ED4C-43E5-BF64-F877266A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6B2C-56B4-4466-A610-3D273164039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9B78-A826-4688-A327-73E3A7EB48D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4FE0-EC95-48ED-A765-8FC1B709BF3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BF15-BBB7-4321-B6D5-0E3C5A4FD68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8D07-3D98-4946-AA50-5979E203B25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95DF-6219-47D2-8FB8-F1845DEAC41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A85F-A8DE-41B3-A7CA-9EF17CD13AD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Kristen Popovic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ogas i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coca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hero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marihu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metanfetami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extasis (MD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dietilamida de ácido lisérgico (LSD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fenciclidina (PCP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s esteroid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Picture 2" descr="http://www.abc.net.au/health/library/img/heroin_m1387753.jpg"/>
          <p:cNvPicPr/>
          <p:nvPr/>
        </p:nvPicPr>
        <p:blipFill>
          <a:blip r:embed="rId1"/>
          <a:stretch/>
        </p:blipFill>
        <p:spPr>
          <a:xfrm>
            <a:off x="4648320" y="3048120"/>
            <a:ext cx="2705040" cy="1352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http://i.neoseeker.com/n/2/marijuana_thumb.jpg"/>
          <p:cNvPicPr/>
          <p:nvPr/>
        </p:nvPicPr>
        <p:blipFill>
          <a:blip r:embed="rId2"/>
          <a:stretch/>
        </p:blipFill>
        <p:spPr>
          <a:xfrm rot="536400">
            <a:off x="5866920" y="1066320"/>
            <a:ext cx="26193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s positiv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violencia de drog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n gasto con las drogas ilega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asta más que $44 mil millones para hacer cumplir la prohibición de drog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bandona cerca de $33 mil millones en los ingresos para las dogras ilegal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na reducción en el us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2" descr="http://www.javno.com/slike/slike_3/r1/g2008/m06/y173273514528362.jpg"/>
          <p:cNvPicPr/>
          <p:nvPr/>
        </p:nvPicPr>
        <p:blipFill>
          <a:blip r:embed="rId1"/>
          <a:stretch/>
        </p:blipFill>
        <p:spPr>
          <a:xfrm>
            <a:off x="6248520" y="4419720"/>
            <a:ext cx="2527200" cy="1895400"/>
          </a:xfrm>
          <a:prstGeom prst="rect">
            <a:avLst/>
          </a:prstGeom>
          <a:ln w="0">
            <a:noFill/>
          </a:ln>
        </p:spPr>
      </p:pic>
      <p:pic>
        <p:nvPicPr>
          <p:cNvPr id="384" name="Rectangle 5" descr=""/>
          <p:cNvPicPr/>
          <p:nvPr/>
        </p:nvPicPr>
        <p:blipFill>
          <a:blip r:embed="rId2"/>
          <a:stretch/>
        </p:blipFill>
        <p:spPr>
          <a:xfrm>
            <a:off x="6778800" y="1785960"/>
            <a:ext cx="2620800" cy="3456000"/>
          </a:xfrm>
          <a:prstGeom prst="rect">
            <a:avLst/>
          </a:prstGeom>
          <a:ln w="0">
            <a:noFill/>
          </a:ln>
        </p:spPr>
      </p:pic>
      <p:pic>
        <p:nvPicPr>
          <p:cNvPr id="385" name="Rectangle 6" descr=""/>
          <p:cNvPicPr/>
          <p:nvPr/>
        </p:nvPicPr>
        <p:blipFill>
          <a:blip r:embed="rId3"/>
          <a:stretch/>
        </p:blipFill>
        <p:spPr>
          <a:xfrm>
            <a:off x="4071960" y="4230720"/>
            <a:ext cx="3011400" cy="3657600"/>
          </a:xfrm>
          <a:prstGeom prst="rect">
            <a:avLst/>
          </a:prstGeom>
          <a:ln w="0">
            <a:noFill/>
          </a:ln>
        </p:spPr>
      </p:pic>
      <p:pic>
        <p:nvPicPr>
          <p:cNvPr id="386" name="Rectangle 7" descr=""/>
          <p:cNvPicPr/>
          <p:nvPr/>
        </p:nvPicPr>
        <p:blipFill>
          <a:blip r:embed="rId4"/>
          <a:stretch/>
        </p:blipFill>
        <p:spPr>
          <a:xfrm>
            <a:off x="5430960" y="396720"/>
            <a:ext cx="256680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actos y riesgros de drogas i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n 2008, cerca de 3,000 personas se mueren de drogas ilega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coca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iene los efectos negativos de su cerebro y el corazó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 adicción puede resultar en las consequencías de vid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l muerte repentin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2" descr="http://blogs.phillyburbs.com/news/bcct/wp-content/blogs.dir/2/files/2008/August/Thursday/a_cocaine.jpg"/>
          <p:cNvPicPr/>
          <p:nvPr/>
        </p:nvPicPr>
        <p:blipFill>
          <a:blip r:embed="rId1"/>
          <a:stretch/>
        </p:blipFill>
        <p:spPr>
          <a:xfrm>
            <a:off x="5105520" y="4876920"/>
            <a:ext cx="19047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hero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uede ser adict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uede causar los AIDS y el HIV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 capacidad para funcionar disminuirá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 adicción puede resultar en las consequencías de vid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2" descr="http://everystockphoto.s3.amazonaws.com/drug_dropps_danger_222974_l.jpg"/>
          <p:cNvPicPr/>
          <p:nvPr/>
        </p:nvPicPr>
        <p:blipFill>
          <a:blip r:embed="rId1"/>
          <a:stretch/>
        </p:blipFill>
        <p:spPr>
          <a:xfrm>
            <a:off x="4495680" y="304920"/>
            <a:ext cx="2235240" cy="1676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http://www.topnews.in/health/files/hiv-aids.jpg"/>
          <p:cNvPicPr/>
          <p:nvPr/>
        </p:nvPicPr>
        <p:blipFill>
          <a:blip r:embed="rId2"/>
          <a:stretch/>
        </p:blipFill>
        <p:spPr>
          <a:xfrm rot="387000">
            <a:off x="6629040" y="914040"/>
            <a:ext cx="16128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ogas 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alcoh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tobac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s asesinos de dol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s pastillas de dormid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6" name="Picture 4" descr="http://www.docleaf.com/critique/Dec0707/tobacco.jpg"/>
          <p:cNvPicPr/>
          <p:nvPr/>
        </p:nvPicPr>
        <p:blipFill>
          <a:blip r:embed="rId1"/>
          <a:stretch/>
        </p:blipFill>
        <p:spPr>
          <a:xfrm rot="21120600">
            <a:off x="990720" y="4190760"/>
            <a:ext cx="2057400" cy="2228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candy.jpg candy image by MDA2007"/>
          <p:cNvPicPr/>
          <p:nvPr/>
        </p:nvPicPr>
        <p:blipFill>
          <a:blip r:embed="rId2"/>
          <a:stretch/>
        </p:blipFill>
        <p:spPr>
          <a:xfrm>
            <a:off x="3733920" y="4191120"/>
            <a:ext cx="2971800" cy="1985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http://www.brainandspinalcord.org/blog/wp-content/uploads/2009/10/alcohol.jpg"/>
          <p:cNvPicPr/>
          <p:nvPr/>
        </p:nvPicPr>
        <p:blipFill>
          <a:blip r:embed="rId3"/>
          <a:stretch/>
        </p:blipFill>
        <p:spPr>
          <a:xfrm rot="496200">
            <a:off x="5867280" y="1828800"/>
            <a:ext cx="289584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s factos de drogas 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,000 personas se mueren del alcoh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Más de 20,000 personas al año se mueren de conducir bebid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alguien se muere cada 31 minut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ás de 33,00 personas se mueren de sobredosises de droga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Picture 2" descr="http://www.sixwise.com/images/articles/2008/05/07/drunkdriving-lg.jpg"/>
          <p:cNvPicPr/>
          <p:nvPr/>
        </p:nvPicPr>
        <p:blipFill>
          <a:blip r:embed="rId1"/>
          <a:stretch/>
        </p:blipFill>
        <p:spPr>
          <a:xfrm>
            <a:off x="5943600" y="4352760"/>
            <a:ext cx="1752480" cy="2389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http://www.passenlaw.com/blog/wp-content/uploads/2009/08/drunk-driving-deaths.jpg"/>
          <p:cNvPicPr/>
          <p:nvPr/>
        </p:nvPicPr>
        <p:blipFill>
          <a:blip r:embed="rId2"/>
          <a:stretch/>
        </p:blipFill>
        <p:spPr>
          <a:xfrm rot="1213800">
            <a:off x="7313400" y="3483000"/>
            <a:ext cx="139068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s riesg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alcoh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estruye su hígad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umenta su tensió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leva algunos tipos de cáncer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tobac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leva a cáncer del pulmón, la boca, o la lengu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s asesinos de dol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leva a los daños del hígad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5" name="Picture 2" descr="http://www.healingdaily.com/conditions/cirrhosis-liver.jpg"/>
          <p:cNvPicPr/>
          <p:nvPr/>
        </p:nvPicPr>
        <p:blipFill>
          <a:blip r:embed="rId1"/>
          <a:stretch/>
        </p:blipFill>
        <p:spPr>
          <a:xfrm rot="21382200">
            <a:off x="5105520" y="380520"/>
            <a:ext cx="2438280" cy="2533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pdcdentistry.com/images/oral-cancer-3use.jpg"/>
          <p:cNvPicPr/>
          <p:nvPr/>
        </p:nvPicPr>
        <p:blipFill>
          <a:blip r:embed="rId2"/>
          <a:stretch/>
        </p:blipFill>
        <p:spPr>
          <a:xfrm>
            <a:off x="6400800" y="2514600"/>
            <a:ext cx="23814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regun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¿Si no podemos controlar las drogas legales, cómo podemos controlor las drogas ilegale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número de problemas y riesgos aumentará, tambié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23:01:26Z</dcterms:created>
  <dc:creator>Kristen</dc:creator>
  <dc:description/>
  <dc:language>en-US</dc:language>
  <cp:lastModifiedBy>Kristen</cp:lastModifiedBy>
  <dcterms:modified xsi:type="dcterms:W3CDTF">2009-12-08T21:55:09Z</dcterms:modified>
  <cp:revision>26</cp:revision>
  <dc:subject/>
  <dc:title>La legalización de drogas</dc:title>
</cp:coreProperties>
</file>