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83E2-9738-462D-91B9-0245495D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F05-F28A-4B4D-A2BE-8210B63E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8A7A-EBA4-4476-BF6A-B026F735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9B0-4186-4352-A98E-0F92EFA4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D4B2-3238-472B-96C4-98234DF4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54FC-0D5A-4D81-B033-51C5AC4B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563-DE66-4B28-873C-14C38990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04CC-1E96-489F-8183-3A3D6EDA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3C5-3B04-4CF9-BDD7-FD3F3407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4B43-8C99-4718-A7F9-860EE8ED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D03-57B4-40F6-B341-D1D4B6C2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1F87-6359-4F11-AB49-AE541801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6B47-B82F-401F-A157-F57C4C23B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31800" y="236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Informal Roman"/>
              </a:rPr>
              <a:t>Mi Dieta Ideal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nformal Roman"/>
              </a:rPr>
              <a:t>Por Danielle Wea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pancakes%202.jpg"/>
          <p:cNvPicPr/>
          <p:nvPr/>
        </p:nvPicPr>
        <p:blipFill>
          <a:blip r:embed="rId1"/>
          <a:stretch/>
        </p:blipFill>
        <p:spPr>
          <a:xfrm rot="560400">
            <a:off x="704880" y="364680"/>
            <a:ext cx="1879560" cy="2822760"/>
          </a:xfrm>
          <a:prstGeom prst="rect">
            <a:avLst/>
          </a:prstGeom>
          <a:ln w="38160">
            <a:solidFill>
              <a:srgbClr val="0d0d0d"/>
            </a:solidFill>
            <a:miter/>
          </a:ln>
        </p:spPr>
      </p:pic>
      <p:pic>
        <p:nvPicPr>
          <p:cNvPr id="44" name="Picture 5" descr="cheeseburger_web_201234704.jpg"/>
          <p:cNvPicPr/>
          <p:nvPr/>
        </p:nvPicPr>
        <p:blipFill>
          <a:blip r:embed="rId2"/>
          <a:stretch/>
        </p:blipFill>
        <p:spPr>
          <a:xfrm rot="20991600">
            <a:off x="6540480" y="310680"/>
            <a:ext cx="2108160" cy="1917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5" name="Picture 6" descr="cheesecake.jpg"/>
          <p:cNvPicPr/>
          <p:nvPr/>
        </p:nvPicPr>
        <p:blipFill>
          <a:blip r:embed="rId3"/>
          <a:stretch/>
        </p:blipFill>
        <p:spPr>
          <a:xfrm rot="21296400">
            <a:off x="466560" y="4090680"/>
            <a:ext cx="3009960" cy="2093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6" name="Picture 8" descr="ChickenFettucini.jpg"/>
          <p:cNvPicPr/>
          <p:nvPr/>
        </p:nvPicPr>
        <p:blipFill>
          <a:blip r:embed="rId4"/>
          <a:stretch/>
        </p:blipFill>
        <p:spPr>
          <a:xfrm rot="21320400">
            <a:off x="3657240" y="533520"/>
            <a:ext cx="1833480" cy="196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7" name="Picture 9" descr="hot_chocolate.jpg"/>
          <p:cNvPicPr/>
          <p:nvPr/>
        </p:nvPicPr>
        <p:blipFill>
          <a:blip r:embed="rId5"/>
          <a:stretch/>
        </p:blipFill>
        <p:spPr>
          <a:xfrm>
            <a:off x="5029200" y="4694400"/>
            <a:ext cx="2895480" cy="1731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ero yo com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Grilled Chicken Salad.jpg"/>
          <p:cNvPicPr/>
          <p:nvPr/>
        </p:nvPicPr>
        <p:blipFill>
          <a:blip r:embed="rId1"/>
          <a:stretch/>
        </p:blipFill>
        <p:spPr>
          <a:xfrm rot="21158400">
            <a:off x="588960" y="2031480"/>
            <a:ext cx="3475080" cy="347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1" name="Picture 4" descr="swanson-sensational-chicken-noodle-soup-l.jpg"/>
          <p:cNvPicPr/>
          <p:nvPr/>
        </p:nvPicPr>
        <p:blipFill>
          <a:blip r:embed="rId2"/>
          <a:stretch/>
        </p:blipFill>
        <p:spPr>
          <a:xfrm rot="413400">
            <a:off x="4884840" y="1725120"/>
            <a:ext cx="3378240" cy="337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ara el postre yo quier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cheesecake.jpg"/>
          <p:cNvPicPr/>
          <p:nvPr/>
        </p:nvPicPr>
        <p:blipFill>
          <a:blip r:embed="rId1"/>
          <a:stretch/>
        </p:blipFill>
        <p:spPr>
          <a:xfrm rot="20239200">
            <a:off x="741240" y="2390760"/>
            <a:ext cx="3776760" cy="262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Picture 4" descr="mocha-ice-cream-sl-257433-l.jpg"/>
          <p:cNvPicPr/>
          <p:nvPr/>
        </p:nvPicPr>
        <p:blipFill>
          <a:blip r:embed="rId2"/>
          <a:stretch/>
        </p:blipFill>
        <p:spPr>
          <a:xfrm>
            <a:off x="5334120" y="2895480"/>
            <a:ext cx="2857320" cy="2857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ara yo com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chopped-bananas-and-peanut-butter-in-food-processor-4x4.jpg"/>
          <p:cNvPicPr/>
          <p:nvPr/>
        </p:nvPicPr>
        <p:blipFill>
          <a:blip r:embed="rId1"/>
          <a:stretch/>
        </p:blipFill>
        <p:spPr>
          <a:xfrm rot="21048600">
            <a:off x="2631600" y="1773360"/>
            <a:ext cx="3672000" cy="3671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609480" y="133200"/>
            <a:ext cx="5333760" cy="13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Que yo quier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14440" y="4952520"/>
            <a:ext cx="44197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nformal Roman"/>
              </a:rPr>
              <a:t>Que yo como.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ist2_6136947-fries-chicken-nuggets.jpg"/>
          <p:cNvPicPr/>
          <p:nvPr/>
        </p:nvPicPr>
        <p:blipFill>
          <a:blip r:embed="rId1"/>
          <a:stretch/>
        </p:blipFill>
        <p:spPr>
          <a:xfrm>
            <a:off x="457200" y="1542960"/>
            <a:ext cx="3276720" cy="470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1" name="Picture 2" descr="http://www.eatgardencafe.com/imgrep/Image/112.JPG"/>
          <p:cNvPicPr/>
          <p:nvPr/>
        </p:nvPicPr>
        <p:blipFill>
          <a:blip r:embed="rId2"/>
          <a:stretch/>
        </p:blipFill>
        <p:spPr>
          <a:xfrm>
            <a:off x="4038480" y="533520"/>
            <a:ext cx="4724640" cy="4114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ara desayuno yo quier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hot_chocolate.jpg"/>
          <p:cNvPicPr/>
          <p:nvPr/>
        </p:nvPicPr>
        <p:blipFill>
          <a:blip r:embed="rId1"/>
          <a:stretch/>
        </p:blipFill>
        <p:spPr>
          <a:xfrm rot="20943000">
            <a:off x="609480" y="4190760"/>
            <a:ext cx="2845080" cy="2006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4" name="Picture 4" descr="pancakes1.jpg"/>
          <p:cNvPicPr/>
          <p:nvPr/>
        </p:nvPicPr>
        <p:blipFill>
          <a:blip r:embed="rId2"/>
          <a:stretch/>
        </p:blipFill>
        <p:spPr>
          <a:xfrm rot="444600">
            <a:off x="5284800" y="788760"/>
            <a:ext cx="297180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5" name="Picture 5" descr="crispy_bacon_1.jpg"/>
          <p:cNvPicPr/>
          <p:nvPr/>
        </p:nvPicPr>
        <p:blipFill>
          <a:blip r:embed="rId3"/>
          <a:stretch/>
        </p:blipFill>
        <p:spPr>
          <a:xfrm>
            <a:off x="1371600" y="1447920"/>
            <a:ext cx="2743200" cy="2057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6" descr="hash-browns-ck-520956-l.jpg"/>
          <p:cNvPicPr/>
          <p:nvPr/>
        </p:nvPicPr>
        <p:blipFill>
          <a:blip r:embed="rId4"/>
          <a:stretch/>
        </p:blipFill>
        <p:spPr>
          <a:xfrm rot="218400">
            <a:off x="4800600" y="4295520"/>
            <a:ext cx="2590920" cy="2104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ero yo comer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041209_egg03.jpg"/>
          <p:cNvPicPr/>
          <p:nvPr/>
        </p:nvPicPr>
        <p:blipFill>
          <a:blip r:embed="rId1"/>
          <a:stretch/>
        </p:blipFill>
        <p:spPr>
          <a:xfrm>
            <a:off x="1143000" y="1333440"/>
            <a:ext cx="3200400" cy="2400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4" descr="lois_fruit_tray.jpg"/>
          <p:cNvPicPr/>
          <p:nvPr/>
        </p:nvPicPr>
        <p:blipFill>
          <a:blip r:embed="rId2"/>
          <a:stretch/>
        </p:blipFill>
        <p:spPr>
          <a:xfrm rot="363000">
            <a:off x="477720" y="4344840"/>
            <a:ext cx="3017880" cy="2003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5" descr="yogurt_6864701.jpg"/>
          <p:cNvPicPr/>
          <p:nvPr/>
        </p:nvPicPr>
        <p:blipFill>
          <a:blip r:embed="rId3"/>
          <a:stretch/>
        </p:blipFill>
        <p:spPr>
          <a:xfrm rot="292200">
            <a:off x="5086440" y="4393800"/>
            <a:ext cx="3062160" cy="2048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Picture 6" descr="orange-juice-freeze-md.jpg"/>
          <p:cNvPicPr/>
          <p:nvPr/>
        </p:nvPicPr>
        <p:blipFill>
          <a:blip r:embed="rId4"/>
          <a:stretch/>
        </p:blipFill>
        <p:spPr>
          <a:xfrm rot="21175800">
            <a:off x="5486040" y="1571400"/>
            <a:ext cx="2620800" cy="2009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ara una merienda yo quier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a-packet-of-cookies.jpg"/>
          <p:cNvPicPr/>
          <p:nvPr/>
        </p:nvPicPr>
        <p:blipFill>
          <a:blip r:embed="rId1"/>
          <a:stretch/>
        </p:blipFill>
        <p:spPr>
          <a:xfrm rot="21228000">
            <a:off x="531360" y="1788840"/>
            <a:ext cx="3943440" cy="441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4" name="Picture 5" descr="12103455362KB0d3.jpg"/>
          <p:cNvPicPr/>
          <p:nvPr/>
        </p:nvPicPr>
        <p:blipFill>
          <a:blip r:embed="rId2"/>
          <a:stretch/>
        </p:blipFill>
        <p:spPr>
          <a:xfrm rot="267000">
            <a:off x="5410080" y="1779120"/>
            <a:ext cx="2805120" cy="3719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ero yo com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celery_carrots.jpg"/>
          <p:cNvPicPr/>
          <p:nvPr/>
        </p:nvPicPr>
        <p:blipFill>
          <a:blip r:embed="rId1"/>
          <a:stretch/>
        </p:blipFill>
        <p:spPr>
          <a:xfrm rot="624000">
            <a:off x="560520" y="1765440"/>
            <a:ext cx="3884400" cy="300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7" name="Picture 4" descr="cucumbers.jpg"/>
          <p:cNvPicPr/>
          <p:nvPr/>
        </p:nvPicPr>
        <p:blipFill>
          <a:blip r:embed="rId2"/>
          <a:stretch/>
        </p:blipFill>
        <p:spPr>
          <a:xfrm rot="21221400">
            <a:off x="4933440" y="3231720"/>
            <a:ext cx="3505320" cy="262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ara almuerzo yo quier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cheeseburger_web_201234704.jpg"/>
          <p:cNvPicPr/>
          <p:nvPr/>
        </p:nvPicPr>
        <p:blipFill>
          <a:blip r:embed="rId1"/>
          <a:stretch/>
        </p:blipFill>
        <p:spPr>
          <a:xfrm rot="209400">
            <a:off x="375840" y="2746080"/>
            <a:ext cx="2660760" cy="2419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4" descr="MacDonalds-French-Fries-psd8992.png"/>
          <p:cNvPicPr/>
          <p:nvPr/>
        </p:nvPicPr>
        <p:blipFill>
          <a:blip r:embed="rId2"/>
          <a:stretch/>
        </p:blipFill>
        <p:spPr>
          <a:xfrm rot="21229200">
            <a:off x="5876640" y="1422000"/>
            <a:ext cx="2519280" cy="3138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1" name="Picture 5" descr="new-coca-cola-bottle.jpg"/>
          <p:cNvPicPr/>
          <p:nvPr/>
        </p:nvPicPr>
        <p:blipFill>
          <a:blip r:embed="rId3"/>
          <a:stretch/>
        </p:blipFill>
        <p:spPr>
          <a:xfrm>
            <a:off x="3657600" y="2057400"/>
            <a:ext cx="1405080" cy="36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ero yo com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turkey-sandwich.jpg"/>
          <p:cNvPicPr/>
          <p:nvPr/>
        </p:nvPicPr>
        <p:blipFill>
          <a:blip r:embed="rId1"/>
          <a:stretch/>
        </p:blipFill>
        <p:spPr>
          <a:xfrm rot="303600">
            <a:off x="5365800" y="4328640"/>
            <a:ext cx="3230640" cy="220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4" name="Picture 7" descr="lg_ko_dasani_bottle.jpg"/>
          <p:cNvPicPr/>
          <p:nvPr/>
        </p:nvPicPr>
        <p:blipFill>
          <a:blip r:embed="rId2"/>
          <a:stretch/>
        </p:blipFill>
        <p:spPr>
          <a:xfrm>
            <a:off x="762120" y="2209680"/>
            <a:ext cx="1295280" cy="3899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Picture 9" descr="greenapple.jpg"/>
          <p:cNvPicPr/>
          <p:nvPr/>
        </p:nvPicPr>
        <p:blipFill>
          <a:blip r:embed="rId3"/>
          <a:stretch/>
        </p:blipFill>
        <p:spPr>
          <a:xfrm rot="591000">
            <a:off x="3104640" y="1836360"/>
            <a:ext cx="2102040" cy="262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ara la cena yo quier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ChickenFettucini.jpg"/>
          <p:cNvPicPr/>
          <p:nvPr/>
        </p:nvPicPr>
        <p:blipFill>
          <a:blip r:embed="rId1"/>
          <a:stretch/>
        </p:blipFill>
        <p:spPr>
          <a:xfrm rot="21138000">
            <a:off x="469440" y="1859040"/>
            <a:ext cx="3988080" cy="4263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8" name="Picture 4" descr="garlic-toast.jpg"/>
          <p:cNvPicPr/>
          <p:nvPr/>
        </p:nvPicPr>
        <p:blipFill>
          <a:blip r:embed="rId2"/>
          <a:stretch/>
        </p:blipFill>
        <p:spPr>
          <a:xfrm>
            <a:off x="4952880" y="2057400"/>
            <a:ext cx="3524400" cy="3030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2:05:08Z</dcterms:created>
  <dc:creator>weaverds</dc:creator>
  <dc:description/>
  <dc:language>en-US</dc:language>
  <cp:lastModifiedBy>weaverds</cp:lastModifiedBy>
  <dcterms:modified xsi:type="dcterms:W3CDTF">2009-10-05T16:27:14Z</dcterms:modified>
  <cp:revision>12</cp:revision>
  <dc:subject/>
  <dc:title>Mi Dieta Ideal</dc:title>
</cp:coreProperties>
</file>