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A93-BE51-49A7-B48E-093563ED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5DC-AA58-40C4-905E-34EF59FD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8FB-5AD6-415F-AF96-A6A8D2D3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933-2B31-4537-B637-096177A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BAB-E73B-4811-93AC-E18AB57A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ECA-E76E-45C4-A927-EE0E79AD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878-DA73-4669-879A-0C2B9CD9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CAE-0B29-440A-9392-FA96FE3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111-999B-4D6B-9538-7C0C23DA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245-6C03-4EA3-9340-848021C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A4E-DADD-4F9A-8545-BFEADE56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12A-A11A-4842-B704-A30E58B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45C-C9D0-4060-8A75-2A4D67FE4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1800" y="236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Informal Roman"/>
              </a:rPr>
              <a:t>Mi Dieta Ide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nformal Roman"/>
              </a:rPr>
              <a:t>Por Danielle Wea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ancakes%202.jpg"/>
          <p:cNvPicPr/>
          <p:nvPr/>
        </p:nvPicPr>
        <p:blipFill>
          <a:blip r:embed="rId1"/>
          <a:stretch/>
        </p:blipFill>
        <p:spPr>
          <a:xfrm rot="560400">
            <a:off x="704880" y="364680"/>
            <a:ext cx="1879560" cy="282276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4" name="Picture 5" descr="cheeseburger_web_201234704.jpg"/>
          <p:cNvPicPr/>
          <p:nvPr/>
        </p:nvPicPr>
        <p:blipFill>
          <a:blip r:embed="rId2"/>
          <a:stretch/>
        </p:blipFill>
        <p:spPr>
          <a:xfrm rot="20991600">
            <a:off x="6540480" y="310680"/>
            <a:ext cx="2108160" cy="1917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6" descr="cheesecake.jpg"/>
          <p:cNvPicPr/>
          <p:nvPr/>
        </p:nvPicPr>
        <p:blipFill>
          <a:blip r:embed="rId3"/>
          <a:stretch/>
        </p:blipFill>
        <p:spPr>
          <a:xfrm rot="21296400">
            <a:off x="466560" y="4090680"/>
            <a:ext cx="3009960" cy="209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8" descr="ChickenFettucini.jpg"/>
          <p:cNvPicPr/>
          <p:nvPr/>
        </p:nvPicPr>
        <p:blipFill>
          <a:blip r:embed="rId4"/>
          <a:stretch/>
        </p:blipFill>
        <p:spPr>
          <a:xfrm rot="21320400">
            <a:off x="3657240" y="533520"/>
            <a:ext cx="1833480" cy="196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9" descr="hot_chocolate.jpg"/>
          <p:cNvPicPr/>
          <p:nvPr/>
        </p:nvPicPr>
        <p:blipFill>
          <a:blip r:embed="rId5"/>
          <a:stretch/>
        </p:blipFill>
        <p:spPr>
          <a:xfrm>
            <a:off x="5029200" y="4694400"/>
            <a:ext cx="2895480" cy="173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illed Chicken Salad.jpg"/>
          <p:cNvPicPr/>
          <p:nvPr/>
        </p:nvPicPr>
        <p:blipFill>
          <a:blip r:embed="rId1"/>
          <a:stretch/>
        </p:blipFill>
        <p:spPr>
          <a:xfrm rot="21158400">
            <a:off x="588960" y="2031480"/>
            <a:ext cx="347508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4" descr="swanson-sensational-chicken-noodle-soup-l.jpg"/>
          <p:cNvPicPr/>
          <p:nvPr/>
        </p:nvPicPr>
        <p:blipFill>
          <a:blip r:embed="rId2"/>
          <a:stretch/>
        </p:blipFill>
        <p:spPr>
          <a:xfrm rot="413400">
            <a:off x="4884840" y="1725120"/>
            <a:ext cx="3378240" cy="33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el postre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heesecake.jpg"/>
          <p:cNvPicPr/>
          <p:nvPr/>
        </p:nvPicPr>
        <p:blipFill>
          <a:blip r:embed="rId1"/>
          <a:stretch/>
        </p:blipFill>
        <p:spPr>
          <a:xfrm rot="20239200">
            <a:off x="741240" y="2390760"/>
            <a:ext cx="3776760" cy="26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4" descr="mocha-ice-cream-sl-257433-l.jpg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hopped-bananas-and-peanut-butter-in-food-processor-4x4.jpg"/>
          <p:cNvPicPr/>
          <p:nvPr/>
        </p:nvPicPr>
        <p:blipFill>
          <a:blip r:embed="rId1"/>
          <a:stretch/>
        </p:blipFill>
        <p:spPr>
          <a:xfrm rot="21048600">
            <a:off x="2631600" y="1773360"/>
            <a:ext cx="3672000" cy="36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09480" y="133200"/>
            <a:ext cx="53337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Que yo quier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14440" y="495252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nformal Roman"/>
              </a:rPr>
              <a:t>Que yo como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ist2_6136947-fries-chicken-nuggets.jpg"/>
          <p:cNvPicPr/>
          <p:nvPr/>
        </p:nvPicPr>
        <p:blipFill>
          <a:blip r:embed="rId1"/>
          <a:stretch/>
        </p:blipFill>
        <p:spPr>
          <a:xfrm>
            <a:off x="457200" y="1542960"/>
            <a:ext cx="3276720" cy="470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2" descr="http://www.eatgardencafe.com/imgrep/Image/112.JPG"/>
          <p:cNvPicPr/>
          <p:nvPr/>
        </p:nvPicPr>
        <p:blipFill>
          <a:blip r:embed="rId2"/>
          <a:stretch/>
        </p:blipFill>
        <p:spPr>
          <a:xfrm>
            <a:off x="4038480" y="533520"/>
            <a:ext cx="472464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desayun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hot_chocolate.jpg"/>
          <p:cNvPicPr/>
          <p:nvPr/>
        </p:nvPicPr>
        <p:blipFill>
          <a:blip r:embed="rId1"/>
          <a:stretch/>
        </p:blipFill>
        <p:spPr>
          <a:xfrm rot="20943000">
            <a:off x="609480" y="4190760"/>
            <a:ext cx="2845080" cy="2006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4" descr="pancakes1.jpg"/>
          <p:cNvPicPr/>
          <p:nvPr/>
        </p:nvPicPr>
        <p:blipFill>
          <a:blip r:embed="rId2"/>
          <a:stretch/>
        </p:blipFill>
        <p:spPr>
          <a:xfrm rot="444600">
            <a:off x="5284800" y="788760"/>
            <a:ext cx="2971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5" descr="crispy_bacon_1.jpg"/>
          <p:cNvPicPr/>
          <p:nvPr/>
        </p:nvPicPr>
        <p:blipFill>
          <a:blip r:embed="rId3"/>
          <a:stretch/>
        </p:blipFill>
        <p:spPr>
          <a:xfrm>
            <a:off x="1371600" y="1447920"/>
            <a:ext cx="27432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6" descr="hash-browns-ck-520956-l.jpg"/>
          <p:cNvPicPr/>
          <p:nvPr/>
        </p:nvPicPr>
        <p:blipFill>
          <a:blip r:embed="rId4"/>
          <a:stretch/>
        </p:blipFill>
        <p:spPr>
          <a:xfrm rot="218400">
            <a:off x="4800600" y="4295520"/>
            <a:ext cx="2590920" cy="21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er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041209_egg03.jpg"/>
          <p:cNvPicPr/>
          <p:nvPr/>
        </p:nvPicPr>
        <p:blipFill>
          <a:blip r:embed="rId1"/>
          <a:stretch/>
        </p:blipFill>
        <p:spPr>
          <a:xfrm>
            <a:off x="1143000" y="1333440"/>
            <a:ext cx="320040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4" descr="lois_fruit_tray.jpg"/>
          <p:cNvPicPr/>
          <p:nvPr/>
        </p:nvPicPr>
        <p:blipFill>
          <a:blip r:embed="rId2"/>
          <a:stretch/>
        </p:blipFill>
        <p:spPr>
          <a:xfrm rot="363000">
            <a:off x="477720" y="4344840"/>
            <a:ext cx="3017880" cy="200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" descr="yogurt_6864701.jpg"/>
          <p:cNvPicPr/>
          <p:nvPr/>
        </p:nvPicPr>
        <p:blipFill>
          <a:blip r:embed="rId3"/>
          <a:stretch/>
        </p:blipFill>
        <p:spPr>
          <a:xfrm rot="292200">
            <a:off x="5086440" y="4393800"/>
            <a:ext cx="3062160" cy="20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6" descr="orange-juice-freeze-md.jpg"/>
          <p:cNvPicPr/>
          <p:nvPr/>
        </p:nvPicPr>
        <p:blipFill>
          <a:blip r:embed="rId4"/>
          <a:stretch/>
        </p:blipFill>
        <p:spPr>
          <a:xfrm rot="21175800">
            <a:off x="5486040" y="1571400"/>
            <a:ext cx="2620800" cy="200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una meriend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-packet-of-cookies.jpg"/>
          <p:cNvPicPr/>
          <p:nvPr/>
        </p:nvPicPr>
        <p:blipFill>
          <a:blip r:embed="rId1"/>
          <a:stretch/>
        </p:blipFill>
        <p:spPr>
          <a:xfrm rot="21228000">
            <a:off x="531360" y="1788840"/>
            <a:ext cx="3943440" cy="441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5" descr="12103455362KB0d3.jpg"/>
          <p:cNvPicPr/>
          <p:nvPr/>
        </p:nvPicPr>
        <p:blipFill>
          <a:blip r:embed="rId2"/>
          <a:stretch/>
        </p:blipFill>
        <p:spPr>
          <a:xfrm rot="267000">
            <a:off x="5410080" y="1779120"/>
            <a:ext cx="2805120" cy="37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elery_carrots.jpg"/>
          <p:cNvPicPr/>
          <p:nvPr/>
        </p:nvPicPr>
        <p:blipFill>
          <a:blip r:embed="rId1"/>
          <a:stretch/>
        </p:blipFill>
        <p:spPr>
          <a:xfrm rot="624000">
            <a:off x="560520" y="1765440"/>
            <a:ext cx="3884400" cy="300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4" descr="cucumbers.jpg"/>
          <p:cNvPicPr/>
          <p:nvPr/>
        </p:nvPicPr>
        <p:blipFill>
          <a:blip r:embed="rId2"/>
          <a:stretch/>
        </p:blipFill>
        <p:spPr>
          <a:xfrm rot="21221400">
            <a:off x="4933440" y="3231720"/>
            <a:ext cx="3505320" cy="26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almuerz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heeseburger_web_201234704.jpg"/>
          <p:cNvPicPr/>
          <p:nvPr/>
        </p:nvPicPr>
        <p:blipFill>
          <a:blip r:embed="rId1"/>
          <a:stretch/>
        </p:blipFill>
        <p:spPr>
          <a:xfrm rot="209400">
            <a:off x="375840" y="2746080"/>
            <a:ext cx="2660760" cy="24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4" descr="MacDonalds-French-Fries-psd8992.png"/>
          <p:cNvPicPr/>
          <p:nvPr/>
        </p:nvPicPr>
        <p:blipFill>
          <a:blip r:embed="rId2"/>
          <a:stretch/>
        </p:blipFill>
        <p:spPr>
          <a:xfrm rot="21229200">
            <a:off x="5876640" y="1422000"/>
            <a:ext cx="2519280" cy="3138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1" name="Picture 5" descr="new-coca-cola-bottle.jpg"/>
          <p:cNvPicPr/>
          <p:nvPr/>
        </p:nvPicPr>
        <p:blipFill>
          <a:blip r:embed="rId3"/>
          <a:stretch/>
        </p:blipFill>
        <p:spPr>
          <a:xfrm>
            <a:off x="3657600" y="2057400"/>
            <a:ext cx="14050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turkey-sandwich.jpg"/>
          <p:cNvPicPr/>
          <p:nvPr/>
        </p:nvPicPr>
        <p:blipFill>
          <a:blip r:embed="rId1"/>
          <a:stretch/>
        </p:blipFill>
        <p:spPr>
          <a:xfrm rot="303600">
            <a:off x="5365800" y="4328640"/>
            <a:ext cx="3230640" cy="220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4" name="Picture 7" descr="lg_ko_dasani_bottle.jpg"/>
          <p:cNvPicPr/>
          <p:nvPr/>
        </p:nvPicPr>
        <p:blipFill>
          <a:blip r:embed="rId2"/>
          <a:stretch/>
        </p:blipFill>
        <p:spPr>
          <a:xfrm>
            <a:off x="762120" y="2209680"/>
            <a:ext cx="1295280" cy="389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9" descr="greenapple.jpg"/>
          <p:cNvPicPr/>
          <p:nvPr/>
        </p:nvPicPr>
        <p:blipFill>
          <a:blip r:embed="rId3"/>
          <a:stretch/>
        </p:blipFill>
        <p:spPr>
          <a:xfrm rot="591000">
            <a:off x="3104640" y="1836360"/>
            <a:ext cx="2102040" cy="26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la cen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hickenFettucini.jpg"/>
          <p:cNvPicPr/>
          <p:nvPr/>
        </p:nvPicPr>
        <p:blipFill>
          <a:blip r:embed="rId1"/>
          <a:stretch/>
        </p:blipFill>
        <p:spPr>
          <a:xfrm rot="21138000">
            <a:off x="469440" y="1859040"/>
            <a:ext cx="398808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4" descr="garlic-toast.jpg"/>
          <p:cNvPicPr/>
          <p:nvPr/>
        </p:nvPicPr>
        <p:blipFill>
          <a:blip r:embed="rId2"/>
          <a:stretch/>
        </p:blipFill>
        <p:spPr>
          <a:xfrm>
            <a:off x="4952880" y="2057400"/>
            <a:ext cx="3524400" cy="3030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2:05:08Z</dcterms:created>
  <dc:creator>weaverds</dc:creator>
  <dc:description/>
  <dc:language>en-US</dc:language>
  <cp:lastModifiedBy>weaverds</cp:lastModifiedBy>
  <dcterms:modified xsi:type="dcterms:W3CDTF">2009-10-05T16:27:14Z</dcterms:modified>
  <cp:revision>12</cp:revision>
  <dc:subject/>
  <dc:title>Mi Dieta Ideal</dc:title>
</cp:coreProperties>
</file>