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CCA7-965F-4856-8108-C6A601317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D7C5-D742-4418-A1CD-7C7C4DAD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B731-5F1E-42DA-AA4A-B513A43A2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3438-FE9A-481F-8135-DDA8AF18B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18D-A5BC-4408-A198-49FD4C3A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7FEE-FDBE-4ABF-9057-0EBBCD51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BA97-5158-4FD4-9946-2D7DBB27E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D69A-C98F-4444-8708-387A1EF0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6C99-867E-47A4-8698-5E5A82B7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2ABA-6DC2-4CB1-805D-7678B65D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068E-9BFC-414D-8ACC-E1170E52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1D65-4DB8-4F4F-8422-334D1DFD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>
            <a:alpha val="7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991A-73E4-4D5A-98F2-112D0B546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31800" y="236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Informal Roman"/>
              </a:rPr>
              <a:t>Mi Dieta Ideal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37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nformal Roman"/>
              </a:rPr>
              <a:t>Por Danielle Wea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pancakes%202.jpg"/>
          <p:cNvPicPr/>
          <p:nvPr/>
        </p:nvPicPr>
        <p:blipFill>
          <a:blip r:embed="rId1"/>
          <a:stretch/>
        </p:blipFill>
        <p:spPr>
          <a:xfrm rot="560400">
            <a:off x="704880" y="364680"/>
            <a:ext cx="1879560" cy="2822760"/>
          </a:xfrm>
          <a:prstGeom prst="rect">
            <a:avLst/>
          </a:prstGeom>
          <a:ln w="38160">
            <a:solidFill>
              <a:srgbClr val="0d0d0d"/>
            </a:solidFill>
            <a:miter/>
          </a:ln>
        </p:spPr>
      </p:pic>
      <p:pic>
        <p:nvPicPr>
          <p:cNvPr id="44" name="Picture 5" descr="cheeseburger_web_201234704.jpg"/>
          <p:cNvPicPr/>
          <p:nvPr/>
        </p:nvPicPr>
        <p:blipFill>
          <a:blip r:embed="rId2"/>
          <a:stretch/>
        </p:blipFill>
        <p:spPr>
          <a:xfrm rot="20991600">
            <a:off x="6540480" y="310680"/>
            <a:ext cx="2108160" cy="1917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5" name="Picture 6" descr="cheesecake.jpg"/>
          <p:cNvPicPr/>
          <p:nvPr/>
        </p:nvPicPr>
        <p:blipFill>
          <a:blip r:embed="rId3"/>
          <a:stretch/>
        </p:blipFill>
        <p:spPr>
          <a:xfrm rot="21296400">
            <a:off x="466560" y="4090680"/>
            <a:ext cx="3009960" cy="20937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6" name="Picture 8" descr="ChickenFettucini.jpg"/>
          <p:cNvPicPr/>
          <p:nvPr/>
        </p:nvPicPr>
        <p:blipFill>
          <a:blip r:embed="rId4"/>
          <a:stretch/>
        </p:blipFill>
        <p:spPr>
          <a:xfrm rot="21320400">
            <a:off x="3657240" y="533520"/>
            <a:ext cx="1833480" cy="1962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47" name="Picture 9" descr="hot_chocolate.jpg"/>
          <p:cNvPicPr/>
          <p:nvPr/>
        </p:nvPicPr>
        <p:blipFill>
          <a:blip r:embed="rId5"/>
          <a:stretch/>
        </p:blipFill>
        <p:spPr>
          <a:xfrm>
            <a:off x="5029200" y="4694400"/>
            <a:ext cx="2895480" cy="1731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ero yo com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Grilled Chicken Salad.jpg"/>
          <p:cNvPicPr/>
          <p:nvPr/>
        </p:nvPicPr>
        <p:blipFill>
          <a:blip r:embed="rId1"/>
          <a:stretch/>
        </p:blipFill>
        <p:spPr>
          <a:xfrm rot="21158400">
            <a:off x="588960" y="2031480"/>
            <a:ext cx="3475080" cy="3475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1" name="Picture 4" descr="swanson-sensational-chicken-noodle-soup-l.jpg"/>
          <p:cNvPicPr/>
          <p:nvPr/>
        </p:nvPicPr>
        <p:blipFill>
          <a:blip r:embed="rId2"/>
          <a:stretch/>
        </p:blipFill>
        <p:spPr>
          <a:xfrm rot="413400">
            <a:off x="4884840" y="1725120"/>
            <a:ext cx="3378240" cy="337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ara el postre yo quier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3" descr="cheesecake.jpg"/>
          <p:cNvPicPr/>
          <p:nvPr/>
        </p:nvPicPr>
        <p:blipFill>
          <a:blip r:embed="rId1"/>
          <a:stretch/>
        </p:blipFill>
        <p:spPr>
          <a:xfrm rot="20239200">
            <a:off x="741240" y="2390760"/>
            <a:ext cx="3776760" cy="2629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4" name="Picture 4" descr="mocha-ice-cream-sl-257433-l.jpg"/>
          <p:cNvPicPr/>
          <p:nvPr/>
        </p:nvPicPr>
        <p:blipFill>
          <a:blip r:embed="rId2"/>
          <a:stretch/>
        </p:blipFill>
        <p:spPr>
          <a:xfrm>
            <a:off x="5334120" y="2895480"/>
            <a:ext cx="2857320" cy="28576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ara yo com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chopped-bananas-and-peanut-butter-in-food-processor-4x4.jpg"/>
          <p:cNvPicPr/>
          <p:nvPr/>
        </p:nvPicPr>
        <p:blipFill>
          <a:blip r:embed="rId1"/>
          <a:stretch/>
        </p:blipFill>
        <p:spPr>
          <a:xfrm rot="21048600">
            <a:off x="2631600" y="1773360"/>
            <a:ext cx="3672000" cy="3671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609480" y="133200"/>
            <a:ext cx="5333760" cy="13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Que yo quiero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114440" y="4952520"/>
            <a:ext cx="44197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nformal Roman"/>
              </a:rPr>
              <a:t>Que yo como.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Content Placeholder 3" descr="ist2_6136947-fries-chicken-nuggets.jpg"/>
          <p:cNvPicPr/>
          <p:nvPr/>
        </p:nvPicPr>
        <p:blipFill>
          <a:blip r:embed="rId1"/>
          <a:stretch/>
        </p:blipFill>
        <p:spPr>
          <a:xfrm>
            <a:off x="457200" y="1542960"/>
            <a:ext cx="3276720" cy="470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1" name="Picture 2" descr="http://www.eatgardencafe.com/imgrep/Image/112.JPG"/>
          <p:cNvPicPr/>
          <p:nvPr/>
        </p:nvPicPr>
        <p:blipFill>
          <a:blip r:embed="rId2"/>
          <a:stretch/>
        </p:blipFill>
        <p:spPr>
          <a:xfrm>
            <a:off x="4038480" y="533520"/>
            <a:ext cx="4724640" cy="4114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2193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ara desayuno yo quier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hot_chocolate.jpg"/>
          <p:cNvPicPr/>
          <p:nvPr/>
        </p:nvPicPr>
        <p:blipFill>
          <a:blip r:embed="rId1"/>
          <a:stretch/>
        </p:blipFill>
        <p:spPr>
          <a:xfrm rot="20943000">
            <a:off x="609480" y="4190760"/>
            <a:ext cx="2845080" cy="2006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4" name="Picture 4" descr="pancakes1.jpg"/>
          <p:cNvPicPr/>
          <p:nvPr/>
        </p:nvPicPr>
        <p:blipFill>
          <a:blip r:embed="rId2"/>
          <a:stretch/>
        </p:blipFill>
        <p:spPr>
          <a:xfrm rot="444600">
            <a:off x="5284800" y="788760"/>
            <a:ext cx="2971800" cy="2971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5" name="Picture 5" descr="crispy_bacon_1.jpg"/>
          <p:cNvPicPr/>
          <p:nvPr/>
        </p:nvPicPr>
        <p:blipFill>
          <a:blip r:embed="rId3"/>
          <a:stretch/>
        </p:blipFill>
        <p:spPr>
          <a:xfrm>
            <a:off x="1371600" y="1447920"/>
            <a:ext cx="2743200" cy="2057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6" name="Picture 6" descr="hash-browns-ck-520956-l.jpg"/>
          <p:cNvPicPr/>
          <p:nvPr/>
        </p:nvPicPr>
        <p:blipFill>
          <a:blip r:embed="rId4"/>
          <a:stretch/>
        </p:blipFill>
        <p:spPr>
          <a:xfrm rot="218400">
            <a:off x="4800600" y="4295520"/>
            <a:ext cx="2590920" cy="2104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ero yo comer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041209_egg03.jpg"/>
          <p:cNvPicPr/>
          <p:nvPr/>
        </p:nvPicPr>
        <p:blipFill>
          <a:blip r:embed="rId1"/>
          <a:stretch/>
        </p:blipFill>
        <p:spPr>
          <a:xfrm>
            <a:off x="1143000" y="1333440"/>
            <a:ext cx="3200400" cy="2400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9" name="Picture 4" descr="lois_fruit_tray.jpg"/>
          <p:cNvPicPr/>
          <p:nvPr/>
        </p:nvPicPr>
        <p:blipFill>
          <a:blip r:embed="rId2"/>
          <a:stretch/>
        </p:blipFill>
        <p:spPr>
          <a:xfrm rot="363000">
            <a:off x="477720" y="4344840"/>
            <a:ext cx="3017880" cy="2003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5" descr="yogurt_6864701.jpg"/>
          <p:cNvPicPr/>
          <p:nvPr/>
        </p:nvPicPr>
        <p:blipFill>
          <a:blip r:embed="rId3"/>
          <a:stretch/>
        </p:blipFill>
        <p:spPr>
          <a:xfrm rot="292200">
            <a:off x="5086440" y="4393800"/>
            <a:ext cx="3062160" cy="2048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1" name="Picture 6" descr="orange-juice-freeze-md.jpg"/>
          <p:cNvPicPr/>
          <p:nvPr/>
        </p:nvPicPr>
        <p:blipFill>
          <a:blip r:embed="rId4"/>
          <a:stretch/>
        </p:blipFill>
        <p:spPr>
          <a:xfrm rot="21175800">
            <a:off x="5486040" y="1571400"/>
            <a:ext cx="2620800" cy="2009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ara una merienda yo quier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3" descr="a-packet-of-cookies.jpg"/>
          <p:cNvPicPr/>
          <p:nvPr/>
        </p:nvPicPr>
        <p:blipFill>
          <a:blip r:embed="rId1"/>
          <a:stretch/>
        </p:blipFill>
        <p:spPr>
          <a:xfrm rot="21228000">
            <a:off x="531360" y="1788840"/>
            <a:ext cx="3943440" cy="441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4" name="Picture 5" descr="12103455362KB0d3.jpg"/>
          <p:cNvPicPr/>
          <p:nvPr/>
        </p:nvPicPr>
        <p:blipFill>
          <a:blip r:embed="rId2"/>
          <a:stretch/>
        </p:blipFill>
        <p:spPr>
          <a:xfrm rot="267000">
            <a:off x="5410080" y="1779120"/>
            <a:ext cx="2805120" cy="3719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ero yo com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3" descr="celery_carrots.jpg"/>
          <p:cNvPicPr/>
          <p:nvPr/>
        </p:nvPicPr>
        <p:blipFill>
          <a:blip r:embed="rId1"/>
          <a:stretch/>
        </p:blipFill>
        <p:spPr>
          <a:xfrm rot="624000">
            <a:off x="560520" y="1765440"/>
            <a:ext cx="3884400" cy="300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67" name="Picture 4" descr="cucumbers.jpg"/>
          <p:cNvPicPr/>
          <p:nvPr/>
        </p:nvPicPr>
        <p:blipFill>
          <a:blip r:embed="rId2"/>
          <a:stretch/>
        </p:blipFill>
        <p:spPr>
          <a:xfrm rot="21221400">
            <a:off x="4933440" y="3231720"/>
            <a:ext cx="3505320" cy="2629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ara almuerzo yo quier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cheeseburger_web_201234704.jpg"/>
          <p:cNvPicPr/>
          <p:nvPr/>
        </p:nvPicPr>
        <p:blipFill>
          <a:blip r:embed="rId1"/>
          <a:stretch/>
        </p:blipFill>
        <p:spPr>
          <a:xfrm rot="209400">
            <a:off x="375840" y="2746080"/>
            <a:ext cx="2660760" cy="2419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0" name="Picture 4" descr="MacDonalds-French-Fries-psd8992.png"/>
          <p:cNvPicPr/>
          <p:nvPr/>
        </p:nvPicPr>
        <p:blipFill>
          <a:blip r:embed="rId2"/>
          <a:stretch/>
        </p:blipFill>
        <p:spPr>
          <a:xfrm rot="21229200">
            <a:off x="5876640" y="1422000"/>
            <a:ext cx="2519280" cy="3138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1" name="Picture 5" descr="new-coca-cola-bottle.jpg"/>
          <p:cNvPicPr/>
          <p:nvPr/>
        </p:nvPicPr>
        <p:blipFill>
          <a:blip r:embed="rId3"/>
          <a:stretch/>
        </p:blipFill>
        <p:spPr>
          <a:xfrm>
            <a:off x="3657600" y="2057400"/>
            <a:ext cx="1405080" cy="3657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ero yo com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3" descr="turkey-sandwich.jpg"/>
          <p:cNvPicPr/>
          <p:nvPr/>
        </p:nvPicPr>
        <p:blipFill>
          <a:blip r:embed="rId1"/>
          <a:stretch/>
        </p:blipFill>
        <p:spPr>
          <a:xfrm rot="303600">
            <a:off x="5365800" y="4328640"/>
            <a:ext cx="3230640" cy="22050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4" name="Picture 7" descr="lg_ko_dasani_bottle.jpg"/>
          <p:cNvPicPr/>
          <p:nvPr/>
        </p:nvPicPr>
        <p:blipFill>
          <a:blip r:embed="rId2"/>
          <a:stretch/>
        </p:blipFill>
        <p:spPr>
          <a:xfrm>
            <a:off x="762120" y="2209680"/>
            <a:ext cx="1295280" cy="3899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5" name="Picture 9" descr="greenapple.jpg"/>
          <p:cNvPicPr/>
          <p:nvPr/>
        </p:nvPicPr>
        <p:blipFill>
          <a:blip r:embed="rId3"/>
          <a:stretch/>
        </p:blipFill>
        <p:spPr>
          <a:xfrm rot="591000">
            <a:off x="3104640" y="1836360"/>
            <a:ext cx="2102040" cy="262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nformal Roman"/>
              </a:rPr>
              <a:t>Para la cena yo quier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ChickenFettucini.jpg"/>
          <p:cNvPicPr/>
          <p:nvPr/>
        </p:nvPicPr>
        <p:blipFill>
          <a:blip r:embed="rId1"/>
          <a:stretch/>
        </p:blipFill>
        <p:spPr>
          <a:xfrm rot="21138000">
            <a:off x="469440" y="1859040"/>
            <a:ext cx="3988080" cy="4263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8" name="Picture 4" descr="garlic-toast.jpg"/>
          <p:cNvPicPr/>
          <p:nvPr/>
        </p:nvPicPr>
        <p:blipFill>
          <a:blip r:embed="rId2"/>
          <a:stretch/>
        </p:blipFill>
        <p:spPr>
          <a:xfrm>
            <a:off x="4952880" y="2057400"/>
            <a:ext cx="3524400" cy="3030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2:05:08Z</dcterms:created>
  <dc:creator>weaverds</dc:creator>
  <dc:description/>
  <dc:language>en-US</dc:language>
  <cp:lastModifiedBy>weaverds</cp:lastModifiedBy>
  <dcterms:modified xsi:type="dcterms:W3CDTF">2009-10-05T16:27:14Z</dcterms:modified>
  <cp:revision>12</cp:revision>
  <dc:subject/>
  <dc:title>Mi Dieta Ideal</dc:title>
</cp:coreProperties>
</file>