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2CA-8E8D-4573-8B32-A00F5969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A2B-1D04-4241-B785-5C5EF357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90A-2D4C-4E19-AB05-228D242B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DE0-1428-4DEB-9F36-4BC6E66C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895D-BC82-47BA-BDFF-1BB5895C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7553-4321-4B05-8721-E081CFBD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4F1-462F-4F54-8319-91D5AE3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1E36-16AB-423E-B172-73D56310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B20-ECF7-467A-B80C-0FA436D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EBC5-5DCC-490B-AAAC-DB2ECB2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A717-D59D-4C67-8EDA-35E9785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965-42FC-42F7-8911-79060D9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45DB-BA25-40D8-94F4-8237275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FD9A-17A0-45DD-8B7E-AD958CB8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958A-2693-4AF2-ACC2-7A181A50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E64-1CF9-4FD9-8516-EF38C4E9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C8D3-7DF3-406D-98E9-DBDD1B1C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727-4C9A-4B55-8449-4D5EA4EF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68C-4167-4701-9645-40526100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D06-2B98-4C8F-970B-528F75D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147-EAB1-43E0-8EAB-5B1AEA2A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5A6-E0B2-4CE2-AB50-5288E47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413-A975-412A-9148-CB3D30F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EB5-2900-491C-8FC8-A1E3E70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EFC3-66B8-413D-B07C-68317F860E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DB2D-AD29-46F7-A44A-E554F70A01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e/ef/Arroz_negro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Bomba-Rice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a Paella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680" y="44193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rrick Domini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N 208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ular en toda el mu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iginó en Valenic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res tipos de pael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valenci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de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mix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File:Arroz negro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447920"/>
            <a:ext cx="3962520" cy="353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paella negra hace con la tinta de cal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youtube.com/watch?v=KozLYSILHb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______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res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árab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aelle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ci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un plato de arroz muy famo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e creado en el siglo XIX en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ímbolo de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opular en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érica Latin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624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labra catal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nombre es de la palabra “paeller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s personas árabes influ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el pla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800px-Paellera.jpg image by ba314z"/>
          <p:cNvPicPr/>
          <p:nvPr/>
        </p:nvPicPr>
        <p:blipFill>
          <a:blip r:embed="rId3"/>
          <a:stretch/>
        </p:blipFill>
        <p:spPr>
          <a:xfrm>
            <a:off x="4648320" y="1676520"/>
            <a:ext cx="392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es de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se hacía un comida princip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esclaban el arroz con otras ingred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905120"/>
            <a:ext cx="4191120" cy="3771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588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oz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Valencia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os campesinos hicieron paella con ratas de marj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 principal ingrediente de paella tempr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cinaba con anguil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191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08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conejo, el pato, el pollo y el caracol a ve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arroz blan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ras ingredient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s tomates, muchos frijoles, el ajo, la sal, el aceite de oliva y muchas especia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636720" cy="472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cara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286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os ingred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de maris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s personas de la cos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zcla de mariscos con la paella valenic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camaró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lango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congre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 almej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escado dife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7524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mix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zcla de paella valenciana con paella de maris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 y los mariscos son mezclad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muy popular en los Estados Un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343400" cy="414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7692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ella con cangrejo y ja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étodos de coc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 cocina sobre un fuego abier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recetas el arroz cocinado es absorbido en los otros ingredi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empre es cocinado en una paell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6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1:43:26Z</dcterms:created>
  <dc:creator>Darrick Dominick</dc:creator>
  <dc:description/>
  <dc:language>en-US</dc:language>
  <cp:lastModifiedBy>Darrick Dominick</cp:lastModifiedBy>
  <dcterms:modified xsi:type="dcterms:W3CDTF">2009-10-02T16:37:09Z</dcterms:modified>
  <cp:revision>2</cp:revision>
  <dc:subject/>
  <dc:title>La Paella</dc:title>
</cp:coreProperties>
</file>