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3C5D-D078-49CE-8F4B-28E1D0E5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2CA0-F949-44AC-BFDC-69BF55C5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A2B3-9634-4B71-B2DB-DE86C1156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2610-775A-4126-9CAF-7FE5DF881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6B55-F5C8-48B9-BF76-2E79E92F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B96B-D5AD-4736-A652-6184744D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9BDC-7873-4746-A108-09183084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BC60-5983-4609-837B-505FCBF2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D0850-8B2D-404F-A375-556C85B24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F9DE-755B-4A9C-ACF5-BC901E98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4510F-7E63-4C1B-82D6-4597B76C6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E9E9-F97E-41C7-B2E6-89527B6E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6AC4-7008-48C5-9BE3-9A0FD7FA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5447-F2C4-4952-8518-D70DD9EF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21134-FF09-406E-8AE7-C25ED818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3677-C181-4C63-993A-4E9A21B10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A1E7-4E1B-411B-82BB-2AC564CE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5B6F-82CD-44EC-ACFE-17DEAE07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257A-00C2-4337-B10D-56106A03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E5F-9F49-4B00-9CBF-FAF8BDF7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F281-49FC-4069-85E0-1D27607C1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443F-6B39-48DA-A301-6F9179BD2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831-C578-484E-A727-EF516260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CD25-5085-4F82-840A-A4D9CD7C7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E632-0D1C-43A6-961B-9B4DA906616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2D63-1B25-4B4E-AE3E-3A1A26D93A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1/12/Paella_de_marisco_01.jp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e/ef/Arroz_negro.gif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File:Bomba-Rice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1/12/Paella_de_marisco_01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File:Paella de marisco 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La Paella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66680" y="441936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rrick Dominic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N 208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pular en toda el mun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riginó en Valenic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Tres tipos de paell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paella valencian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paella de maris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paella mix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File:Arroz negro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447920"/>
            <a:ext cx="3962520" cy="3535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2920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paella negra hace con la tinta de cala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l Vi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ttp://www.youtube.com/watch?v=KozLYSILHb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ueb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paella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riginó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n Valencia en el siglo 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______ tuvieron un gran influencia en el pla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paella es cocinado en una 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respues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paella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riginó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n Valencia en el siglo _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Verdana"/>
              </a:rPr>
              <a:t>árab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uvieron un gran influencia en el pla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paella es cocinado en una _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aelle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troducci</a:t>
            </a: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4114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 un plato de arroz muy famo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Fue creado en el siglo XIX en Val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ímbolo de Val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opular en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érica Latina tambi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6244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s Or</a:t>
            </a: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62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Palabra catala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nombre es de la palabra “paellera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as personas árabes influí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 el plat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800px-Paellera.jpg image by ba314z"/>
          <p:cNvPicPr/>
          <p:nvPr/>
        </p:nvPicPr>
        <p:blipFill>
          <a:blip r:embed="rId3"/>
          <a:stretch/>
        </p:blipFill>
        <p:spPr>
          <a:xfrm>
            <a:off x="4648320" y="1676520"/>
            <a:ext cx="39211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s Or</a:t>
            </a: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 arroz es de As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 arroz se hacía un comida princip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Mesclaban el arroz con otras ingred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52880" y="1905120"/>
            <a:ext cx="4191120" cy="3771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95880" y="5638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roz cru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ella Valencian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os campesinos hicieron paella con ratas de marja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n principal ingrediente de paella tempra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cinaba con anguila tambi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419112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4081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Car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 conejo, el pato, el pollo y el caracol a ve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arroz blan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tras ingredient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s tomates, muchos frijoles, el ajo, la sal, el aceite de oliva y muchas especia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636720" cy="4724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943600" y="5715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cara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2860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Los ingredien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ella de maris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as personas de la cos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ezcla de mariscos con la paella valenican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os maris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camaró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langos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congre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s almej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escado difer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File:Paella de marisco 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752480"/>
            <a:ext cx="44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ella mix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zcla de paella valenciana con paella de maris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carnes y los mariscos son mezclad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 muy popular en los Estados Uni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95680" y="1219320"/>
            <a:ext cx="4343400" cy="4146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876920" y="56386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ella con cangrejo y jam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étodos de coc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 cocina sobre un fuego abiert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s recetas el arroz cocinado es absorbido en los otros ingredien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iempre es cocinado en una paell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267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1:43:26Z</dcterms:created>
  <dc:creator>Darrick Dominick</dc:creator>
  <dc:description/>
  <dc:language>en-US</dc:language>
  <cp:lastModifiedBy>Darrick Dominick</cp:lastModifiedBy>
  <dcterms:modified xsi:type="dcterms:W3CDTF">2009-10-02T16:37:09Z</dcterms:modified>
  <cp:revision>2</cp:revision>
  <dc:subject/>
  <dc:title>La Paella</dc:title>
</cp:coreProperties>
</file>