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AFE-1FAF-47D9-AB0D-5ABED2B8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FF7-23E9-4058-A685-92631174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56A-CE09-4072-8DD6-DF630C08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523-D4AA-4BAE-A207-B70007E8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CCDD-4859-4280-BABE-A8AD533F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634E-D14A-43F5-9712-6BCFCC8E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3E6E-53E5-48C3-80EA-7EEAD070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FF4C-750E-4F5A-8418-BD945C1D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6863-F549-45A3-91DD-66F7A37C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162D-49D8-44C9-99EC-8CFB4FCC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0000-BDD7-474A-972B-D73BD5B5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0EC-97D1-4A06-8FF4-732E0F51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9010-273B-4793-8178-43E561C1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5E41-34B0-4533-A99B-2FFECA8E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BFA2-8BA7-4FEA-A1DC-B6AAAF41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103B-E6AF-4FB3-A782-C0ADAD9E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FF59-81EB-49BB-B03B-DFCF3867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912-C807-4C6A-8E6B-EC4241C4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928-EE81-4861-961D-2231C97E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09D-2797-4784-93BF-6653B64D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A01-D995-4EF6-801A-BA59330B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9A1-D67A-4FF3-8D7F-3692D99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959-8BD4-44D6-821B-7FC89E8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7F3-8449-47C0-B7FA-C4B812EA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DE5A-9977-4EE1-A381-C0E6C2513F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6042-9420-4B63-8295-D611F5B8C7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1/12/Paella_de_marisco_01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e/ef/Arroz_negro.gif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le:Bomba-Rice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1/12/Paella_de_marisco_0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File:Paella de marisco 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a Paella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66680" y="44193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rrick Domini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N 208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pular en toda el mu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riginó en Valenic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res tipos de paell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valencia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de maris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mix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File:Arroz negro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447920"/>
            <a:ext cx="3962520" cy="3535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2920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paella negra hace con la tinta de cal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 Vi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://www.youtube.com/watch?v=KozLYSILHb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ueb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igin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n Valencia en el siglo 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______ tuvieron un gran influencia en el pla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es cocinado en una 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respue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igin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n Valencia en el siglo 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Verdana"/>
              </a:rPr>
              <a:t>árab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uvieron un gran influencia en el pla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es cocinado en una 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aelle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cci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un plato de arroz muy famo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Fue creado en el siglo XIX en Val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ímbolo de Val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opular en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érica Latina tambi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6244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Or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62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alabra catala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nombre es de la palabra “paeller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s personas árabes influ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el plat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800px-Paellera.jpg image by ba314z"/>
          <p:cNvPicPr/>
          <p:nvPr/>
        </p:nvPicPr>
        <p:blipFill>
          <a:blip r:embed="rId3"/>
          <a:stretch/>
        </p:blipFill>
        <p:spPr>
          <a:xfrm>
            <a:off x="4648320" y="1676520"/>
            <a:ext cx="3921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Or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arroz es de A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arroz se hacía un comida princip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esclaban el arroz con otras ingred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1905120"/>
            <a:ext cx="4191120" cy="3771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5880" y="5638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oz cr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Valencian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os campesinos hicieron paella con ratas de marj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 principal ingrediente de paella tempr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cinaba con anguila tambi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1911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4081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ar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conejo, el pato, el pollo y el caracol a ve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arroz blan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ras ingredient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s tomates, muchos frijoles, el ajo, la sal, el aceite de oliva y muchas especia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636720" cy="4724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5715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cara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286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os ingredi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de maris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as personas de la cos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zcla de mariscos con la paella valenica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os maris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camaró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lango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congre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 almej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escado difer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File:Paella de marisco 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7524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mix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zcla de paella valenciana con paella de maris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arnes y los mariscos son mezclad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muy popular en los Estados Un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343400" cy="414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876920" y="5638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ella con cangrejo y ja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étodos de coc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 cocina sobre un fuego abier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s recetas el arroz cocinado es absorbido en los otros ingredien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empre es cocinado en una paell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267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1:43:26Z</dcterms:created>
  <dc:creator>Darrick Dominick</dc:creator>
  <dc:description/>
  <dc:language>en-US</dc:language>
  <cp:lastModifiedBy>Darrick Dominick</cp:lastModifiedBy>
  <dcterms:modified xsi:type="dcterms:W3CDTF">2009-10-02T16:37:09Z</dcterms:modified>
  <cp:revision>2</cp:revision>
  <dc:subject/>
  <dc:title>La Paella</dc:title>
</cp:coreProperties>
</file>