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23B2-F975-4FE3-BF2C-1D0221C0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137C-C2A8-4DD1-A55D-02A98DC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D760-4C11-419B-A10E-88FF04326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ADA0-4AF4-40F7-80C5-2130FA3D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3F0B-83C1-4BEA-855B-C95960E0E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77889-1185-4DEB-A9F6-3EFADD45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DCF4-BA35-4BAB-8A10-31C3C0F1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3F6A-42D7-4AF1-A4A8-0175191C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E1E-2A0F-49B3-BA54-BDE146AF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2A70-97C3-40CB-BA2E-BF50570C4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322D-2742-4FB3-BB60-226CAC97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483-79E0-432D-809A-F7BA5E0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93BA-430F-4F49-8FF8-A80DE42D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5E54-D29B-43A5-9170-FB094D6B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1311-0043-4CC8-AC6E-C6EDEC3C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BE0D-697C-4E84-B910-F69E4EC5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7DB6B-0B03-4747-99F8-323D945AC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B91-EC33-489C-90FC-B19810FD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381-A79F-4205-99D7-492C4FD3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053E-4183-4A1F-8984-D32A95F0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5EF1-D555-4323-84E5-E830A0E3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B2AB-0ECE-43BC-83E2-936E5183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FAF6-A36C-47E1-91A8-3F336BE7F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DA0C-3E35-4214-BD3D-3C245108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A49-A4A0-4E89-B486-08020D617FA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E3D6-0D2F-4920-A162-3D6DDCC9DD0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e/ef/Arroz_negro.gif" TargetMode="External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n.wikipedia.org/wiki/File:Bomba-Rice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upload.wikimedia.org/wikipedia/commons/1/12/Paella_de_marisco_01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a Paella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066680" y="44193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Darrick Domini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N 208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opular en toda el mu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riginó en Valenic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res tipos de paell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valenci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de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a paella mix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File:Arroz negro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800600" y="1447920"/>
            <a:ext cx="3962520" cy="35352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029200" y="5029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 paella negra hace con la tinta de calam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Vide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ttp://www.youtube.com/watch?v=KozLYSILHb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ueb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______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____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respues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riginó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en Valencia en el siglo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19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Verdana"/>
              </a:rPr>
              <a:t>árabes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tuvieron un gran influencia en el pla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paella es cocinado en una _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paelle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_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ntroducci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un plato de arroz muy famo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Fue creado en el siglo XIX en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ímbolo de Val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opular en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mérica Latin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952880" y="1752480"/>
            <a:ext cx="36244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39621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alabra catalan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l nombre es de la palabra “paellera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Las personas árabes influí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el plat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642920" y="1752480"/>
            <a:ext cx="3924360" cy="4267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800px-Paellera.jpg image by ba314z"/>
          <p:cNvPicPr/>
          <p:nvPr/>
        </p:nvPicPr>
        <p:blipFill>
          <a:blip r:embed="rId3"/>
          <a:stretch/>
        </p:blipFill>
        <p:spPr>
          <a:xfrm>
            <a:off x="4648320" y="1676520"/>
            <a:ext cx="39211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os Or</a:t>
            </a: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ge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es de As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 arroz se hacía un comida princip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esclaban el arroz con otras ingred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52880" y="1905120"/>
            <a:ext cx="4191120" cy="3771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6095880" y="56386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rroz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Valencian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os campesinos hicieron paella con ratas de marja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Un principal ingrediente de paella tempran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cinaba con anguila tambi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724280" y="1981080"/>
            <a:ext cx="419112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80880" y="1752120"/>
            <a:ext cx="4081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l conejo, el pato, el pollo y el caracol a vec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arroz blan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tras ingrediente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os tomates, muchos frijoles, el ajo, la sal, el aceite de oliva y muchas especia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066680"/>
            <a:ext cx="3636720" cy="4724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943600" y="5715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cara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228600"/>
            <a:ext cx="556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Los ingredient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de maris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as personas de la cos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ezcla de mariscos con la paella valenican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os marisc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camaró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lango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congre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s almej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escado difer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File:Paella de marisco 0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24280" y="1752480"/>
            <a:ext cx="44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aella mix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ezcla de paella valenciana con paella de maris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s carnes y los mariscos son mezclad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 muy popular en los Estados Uni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95680" y="1219320"/>
            <a:ext cx="4343400" cy="4146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76920" y="563868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ella con cangrejo y jam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étodos de coc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 cocina sobre un fuego abier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Las recetas el arroz cocinado es absorbido en los otros ingredien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iempre es cocinado en una paell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495680" y="2133720"/>
            <a:ext cx="4267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01:43:26Z</dcterms:created>
  <dc:creator>Darrick Dominick</dc:creator>
  <dc:description/>
  <dc:language>en-US</dc:language>
  <cp:lastModifiedBy>Darrick Dominick</cp:lastModifiedBy>
  <dcterms:modified xsi:type="dcterms:W3CDTF">2009-10-02T16:37:09Z</dcterms:modified>
  <cp:revision>2</cp:revision>
  <dc:subject/>
  <dc:title>La Paella</dc:title>
</cp:coreProperties>
</file>