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ct" ContentType="image/x-pict"/>
  <Override PartName="/ppt/media/image7.jpeg" ContentType="image/jpeg"/>
  <Override PartName="/ppt/media/image1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0D95D-2A1B-4845-90F7-156DE802A1A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ercedes Ruehl, Will Yun Lee, Kyra Sedgwick, Dennis Haysb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ideos significa noodles. Cuando la madre se hornea el pavo ella se olvido y el pavo se quemo. Porque ellos necesitan comer KF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C005-74E8-47BD-8079-7D0A04511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DEA7-C8F1-499D-855E-4D2CF0B75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C5C6-D6D5-4B70-95BA-D955238CF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9826-56E5-47D7-A60F-A339AA9C5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1C068-C387-42FF-8C08-7491508F7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19813-5581-4331-A0C0-224EBC48B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5A614-F5AD-4189-869A-747493EE9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A5231-F29C-4496-A03A-E93845F9B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E12DB-9CBF-4649-A640-7F85505C3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D9D5A-517B-4EA0-A36C-49114A290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8547B-7F77-43C1-900D-D074114D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AC91-7AC7-429C-9668-8675DC599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19989-98FB-443E-BE6A-620A9897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405D3-142D-4F03-9DDC-2B7FC292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EAB22-C665-434C-AB79-FFB2B26F4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04717-F3F1-4C99-99E5-6AFE0029A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81D58-6E06-4311-99DC-B907FA0DB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722B-B243-4515-B4E1-9452E296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46BA-F2AF-4F76-A958-38B284833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D08B-8843-4C16-950C-192A63BE0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BFDE-B739-4D61-94AE-CAD2C878B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30A6-F24C-4E70-AD12-295916F6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E311-766D-4F44-ACB4-56D33BC9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89C8-E184-4CC4-A268-33B2AF41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ct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EEC03-F448-4328-B9FE-F41CA57D2FF6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839080" y="6580080"/>
            <a:ext cx="304920" cy="277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413EA-6FEA-4F3E-A4FB-E13EC3D6FEC2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1htNClaYGX0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1.pct"/><Relationship Id="rId7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33"/>
                </a:solidFill>
                <a:latin typeface="Arial"/>
              </a:rPr>
              <a:t>What’s Cooking:</a:t>
            </a:r>
            <a:br>
              <a:rPr sz="4400"/>
            </a:br>
            <a:r>
              <a:rPr b="0" lang="es-ES_tradnl" sz="4400" spc="-1" strike="noStrike">
                <a:solidFill>
                  <a:srgbClr val="336633"/>
                </a:solidFill>
                <a:latin typeface="Arial"/>
              </a:rPr>
              <a:t>Una película el día de acciones de gracias</a:t>
            </a: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6699"/>
                </a:solidFill>
                <a:latin typeface="Arial"/>
              </a:rPr>
              <a:t>By: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6699"/>
                </a:solidFill>
                <a:latin typeface="Arial"/>
              </a:rPr>
              <a:t>Sarah Cul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33"/>
                </a:solidFill>
                <a:latin typeface="Arial"/>
              </a:rPr>
              <a:t>El arroz con leche</a:t>
            </a: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Lech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Leche condensada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Agua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Arroz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Canela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Sa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Pasa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Vanilla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Hierva la leche y agua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Pone el arroz y canela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Bata ocasionalmente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Pone la leche condensada, vanilla, sal y pasa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Sirve caliente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62120" y="26668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d1b4c8"/>
                </a:solidFill>
                <a:uFillTx/>
                <a:latin typeface="Arial"/>
                <a:hlinkClick r:id="rId1"/>
              </a:rPr>
              <a:t>What's Cooking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33"/>
                </a:solidFill>
                <a:latin typeface="Arial"/>
              </a:rPr>
              <a:t>Pocos de Los Actores en la Película</a:t>
            </a: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Mercedes Rueh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Victor Riv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Eva Rodriquez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Joan Che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Will Yun Le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Kyra Sedgwick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Julianna Marquil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Alfre Woodward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Dennis Haysber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33"/>
                </a:solidFill>
                <a:latin typeface="Arial"/>
              </a:rPr>
              <a:t>Pocos de los actores</a:t>
            </a: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49400" y="1981080"/>
            <a:ext cx="1282680" cy="19814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870520" y="1981080"/>
            <a:ext cx="1365480" cy="19814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784520" y="4114800"/>
            <a:ext cx="1614240" cy="19810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5751360" y="4114800"/>
            <a:ext cx="16020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33"/>
                </a:solidFill>
                <a:latin typeface="Arial"/>
              </a:rPr>
              <a:t>Los Cuatro Familias</a:t>
            </a: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6699"/>
                </a:solidFill>
                <a:latin typeface="Arial"/>
              </a:rPr>
              <a:t>La familia china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6699"/>
                </a:solidFill>
                <a:latin typeface="Arial"/>
              </a:rPr>
              <a:t>La familia africana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6699"/>
                </a:solidFill>
                <a:latin typeface="Arial"/>
              </a:rPr>
              <a:t>La familia judía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6699"/>
                </a:solidFill>
                <a:latin typeface="Arial"/>
              </a:rPr>
              <a:t>La familia mexicana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33"/>
                </a:solidFill>
                <a:latin typeface="Arial"/>
              </a:rPr>
              <a:t>La comida de la familia china:</a:t>
            </a: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El pavo con los chili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El arroz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Los fideos de arroz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El pollo de KFC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4648320" y="2446200"/>
            <a:ext cx="3809880" cy="31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33"/>
                </a:solidFill>
                <a:latin typeface="Arial"/>
              </a:rPr>
              <a:t>La comida de la familia africana</a:t>
            </a: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El pavo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Las papa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Las verdura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Macaroni y queso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El pa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La ensalada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La tarta de manzana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8"/>
          <a:stretch/>
        </p:blipFill>
        <p:spPr>
          <a:xfrm>
            <a:off x="685800" y="1981080"/>
            <a:ext cx="36687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33"/>
                </a:solidFill>
                <a:latin typeface="Arial"/>
              </a:rPr>
              <a:t>La comida de la familia judía </a:t>
            </a: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34286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Las papa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El pavo y relleno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Las verdura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La ensalada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Las galleta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3797280" y="1981080"/>
            <a:ext cx="154800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33"/>
                </a:solidFill>
                <a:latin typeface="Arial"/>
              </a:rPr>
              <a:t>La comida de la familia mexicana </a:t>
            </a: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El pavo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Las papa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Los tómales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El maíz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El flan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El arroz con lech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7"/>
          <a:stretch/>
        </p:blipFill>
        <p:spPr>
          <a:xfrm>
            <a:off x="4572000" y="2819520"/>
            <a:ext cx="3581280" cy="23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33"/>
                </a:solidFill>
                <a:latin typeface="Arial"/>
              </a:rPr>
              <a:t>Los Tomales</a:t>
            </a: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Pavo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Sa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Cebolla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Ajo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Pimienta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Hoja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Mezcla los ingredientes y pone en las hoja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Humee los tamales para dos hora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Espere para los tamales refrescan.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1T02:37:44Z</dcterms:created>
  <dc:creator>Sarah Cull</dc:creator>
  <dc:description/>
  <dc:language>en-US</dc:language>
  <cp:lastModifiedBy>Sarah Cull</cp:lastModifiedBy>
  <dcterms:modified xsi:type="dcterms:W3CDTF">2009-10-05T13:54:24Z</dcterms:modified>
  <cp:revision>4</cp:revision>
  <dc:subject/>
  <dc:title>Que Cocina: Una película del día de gracias</dc:title>
</cp:coreProperties>
</file>