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ct" ContentType="image/x-pict"/>
  <Override PartName="/ppt/media/image7.jpeg" ContentType="image/jpeg"/>
  <Override PartName="/ppt/media/image1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A1DA-246B-4844-9C18-2C06D3E02BD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ercedes Ruehl, Will Yun Lee, Kyra Sedgwick, Dennis Haysb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ideos significa noodles. Cuando la madre se hornea el pavo ella se olvido y el pavo se quemo. Porque ellos necesitan comer KF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5324-5415-46A1-BCB9-FA896789D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2F77-D8BF-48F0-9654-D069F584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80D6-3FAB-460F-B9EE-EE349740C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0004-ABCC-48BE-9413-ECFDE7C97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9B70-E6B3-47EE-95B7-2BF1C57D5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BF99-8C74-4332-B074-0D9CF769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0A80-A56A-4FF4-A357-3DC358DB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6089-BD3B-43BB-A098-EF539711D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F2441-2BC9-4B37-A2D4-14082C49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834C-884E-4F39-A529-8506A247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CB4A4-6B15-4839-A8B3-70F910AE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8E7D-72E1-45E1-8FBB-B0FB2AD3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A6FC-0ECF-4306-92D7-D5D5C1616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B0E2-0156-4111-B5AE-5A98428C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555E-E5C2-4DAF-B4CD-A4B765741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68C90-D1CD-4689-B885-CE80349BE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005F-D621-4F7C-8BA7-217A51B6A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1206-BD50-45BA-93AD-14CD75CE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A9C8-354C-4B78-A7F9-82975A94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215F-F65C-4176-9494-C0E5E19F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2711-4A5E-459E-AD51-EDD25461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6378-BEDA-4273-8866-D7FB9AEAA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D600-9468-4AA5-86E8-25C1E55C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29F3-E332-496E-A1B5-A3627862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ct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14C4A-813E-464D-AC50-86B401F250AB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839080" y="6580080"/>
            <a:ext cx="304920" cy="277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2DAD-DA51-4D85-82F6-3630F1D5A9CF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1htNClaYGX0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1.pct"/><Relationship Id="rId7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33"/>
                </a:solidFill>
                <a:latin typeface="Arial"/>
              </a:rPr>
              <a:t>What’s Cooking:</a:t>
            </a:r>
            <a:br>
              <a:rPr sz="4400"/>
            </a:br>
            <a:r>
              <a:rPr b="0" lang="es-ES_tradnl" sz="4400" spc="-1" strike="noStrike">
                <a:solidFill>
                  <a:srgbClr val="336633"/>
                </a:solidFill>
                <a:latin typeface="Arial"/>
              </a:rPr>
              <a:t>Una película el día de acciones de gracias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99"/>
                </a:solidFill>
                <a:latin typeface="Arial"/>
              </a:rPr>
              <a:t>By: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99"/>
                </a:solidFill>
                <a:latin typeface="Arial"/>
              </a:rPr>
              <a:t>Sarah Cul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33"/>
                </a:solidFill>
                <a:latin typeface="Arial"/>
              </a:rPr>
              <a:t>El arroz con leche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Lech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Leche condensada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Agua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Arroz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Canela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Sa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Pasa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Vanilla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Hierva la leche y agua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Pone el arroz y canela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Bata ocasionalmente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Pone la leche condensada, vanilla, sal y pasa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Sirve caliente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62120" y="2666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d1b4c8"/>
                </a:solidFill>
                <a:uFillTx/>
                <a:latin typeface="Arial"/>
                <a:hlinkClick r:id="rId1"/>
              </a:rPr>
              <a:t>What's Cooking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33"/>
                </a:solidFill>
                <a:latin typeface="Arial"/>
              </a:rPr>
              <a:t>Pocos de Los Actores en la Película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Mercedes Rueh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Victor Riv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Eva Rodriquez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Joan Che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Will Yun Le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Kyra Sedgwick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Julianna Marquil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Alfre Woodwar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Dennis Haysber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33"/>
                </a:solidFill>
                <a:latin typeface="Arial"/>
              </a:rPr>
              <a:t>Pocos de los actores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49400" y="1981080"/>
            <a:ext cx="1282680" cy="1981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870520" y="1981080"/>
            <a:ext cx="1365480" cy="1981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784520" y="4114800"/>
            <a:ext cx="1614240" cy="1981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5751360" y="4114800"/>
            <a:ext cx="1602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33"/>
                </a:solidFill>
                <a:latin typeface="Arial"/>
              </a:rPr>
              <a:t>Los Cuatro Familias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99"/>
                </a:solidFill>
                <a:latin typeface="Arial"/>
              </a:rPr>
              <a:t>La familia china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99"/>
                </a:solidFill>
                <a:latin typeface="Arial"/>
              </a:rPr>
              <a:t>La familia africana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99"/>
                </a:solidFill>
                <a:latin typeface="Arial"/>
              </a:rPr>
              <a:t>La familia judía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99"/>
                </a:solidFill>
                <a:latin typeface="Arial"/>
              </a:rPr>
              <a:t>La familia mexicana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33"/>
                </a:solidFill>
                <a:latin typeface="Arial"/>
              </a:rPr>
              <a:t>La comida de la familia china: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El pavo con los chili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El arroz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Los fideos de arroz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El pollo de KFC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4648320" y="2446200"/>
            <a:ext cx="3809880" cy="31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33"/>
                </a:solidFill>
                <a:latin typeface="Arial"/>
              </a:rPr>
              <a:t>La comida de la familia africana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El pavo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Las papa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Las verdura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Macaroni y queso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El pa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La ensalada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La tarta de manzana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685800" y="1981080"/>
            <a:ext cx="36687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33"/>
                </a:solidFill>
                <a:latin typeface="Arial"/>
              </a:rPr>
              <a:t>La comida de la familia judía 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34286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Las papa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El pavo y relleno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Las verdura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La ensalada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Las galleta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3797280" y="1981080"/>
            <a:ext cx="15480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33"/>
                </a:solidFill>
                <a:latin typeface="Arial"/>
              </a:rPr>
              <a:t>La comida de la familia mexicana 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El pavo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Las papa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Los tómales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El maíz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El fla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El arroz con lech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4572000" y="2819520"/>
            <a:ext cx="3581280" cy="23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33"/>
                </a:solidFill>
                <a:latin typeface="Arial"/>
              </a:rPr>
              <a:t>Los Tomales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Pavo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Sa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Cebolla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Ajo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Pimienta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Hoja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Mezcla los ingredientes y pone en las hoja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Humee los tamales para dos hora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Espere para los tamales refrescan.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1T02:37:44Z</dcterms:created>
  <dc:creator>Sarah Cull</dc:creator>
  <dc:description/>
  <dc:language>en-US</dc:language>
  <cp:lastModifiedBy>Sarah Cull</cp:lastModifiedBy>
  <dcterms:modified xsi:type="dcterms:W3CDTF">2009-10-05T13:54:24Z</dcterms:modified>
  <cp:revision>4</cp:revision>
  <dc:subject/>
  <dc:title>Que Cocina: Una película del día de gracias</dc:title>
</cp:coreProperties>
</file>