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ct" ContentType="image/x-pict"/>
  <Override PartName="/ppt/media/image7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B67E-F11E-4787-83A0-1DBD72C9CB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rcedes Ruehl, Will Yun Lee, Kyra Sedgwick, Dennis Hays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deos significa noodles. Cuando la madre se hornea el pavo ella se olvido y el pavo se quemo. Porque ellos necesitan comer KF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55E-53E9-4BA1-997F-6540F9FE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F0D-07CA-42AA-A5D0-23A9377F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45A-4BA9-4973-B26B-3DDAB97B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3A0-7237-4029-A3F4-D031FAA6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AEF2-3F94-4F5C-8516-FE02920F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E7BC-82A8-46AD-AE01-92E83E9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699C-5D32-4C79-BA57-B1D257B9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6BDF-EB71-4E6F-B8FA-ABEC7E20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EDD4-D1AA-4E33-95DB-7681592B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BFE5-5244-406F-9BC7-BED8D6B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85D5-1071-48AF-8EA8-DF97557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2AE-698B-4E87-8B2F-D91B44D4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B2F9-DA37-4370-B37C-F124E4F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4E83-DFEB-4EAC-BB86-E997E40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1022-8EAD-4FAE-B869-DE75E74C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4EF5-FDD8-4B4E-8A9D-CC604A6E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431B-81D5-498D-9213-3B119F2F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0DA-C2F8-41F6-AD47-A1617B7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E1B-90A7-43DA-9F6A-D5BF6843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4B0-449A-4E33-B222-BCD33D5F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9D0-AF69-46EB-BCDE-DE13C333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A10-F879-422B-9681-5DAF5615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0A6-0BE7-4881-BCE2-03B4C54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E92-89B5-40CC-BB97-6822424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7017-8E82-4CA0-BD96-8C680D8DAAD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80080"/>
            <a:ext cx="304920" cy="27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B216-952D-4628-8E3D-9786173E448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htNClaYGX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ct"/><Relationship Id="rId7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What’s Cooking:</a:t>
            </a:r>
            <a:br>
              <a:rPr sz="4400"/>
            </a:b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Una película el día de acciones de gracia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Sarah Cul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El arroz con lech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ech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eche condensad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Canel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as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Vanill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Hierva la leche y agua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one el arroz y canela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Bata ocasionalment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one la leche condensada, vanilla, sal y pasa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irve calient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d1b4c8"/>
                </a:solidFill>
                <a:uFillTx/>
                <a:latin typeface="Arial"/>
                <a:hlinkClick r:id="rId1"/>
              </a:rPr>
              <a:t>What's Cook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Pocos de Los Actores en la Película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ercedes Rueh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Victor Riv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va Rodrique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Joan Ch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Will Yun Le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Kyra Sedgwi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Julianna Marquil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Alfre Woodw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Dennis Haysber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Pocos de los actore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49400" y="1981080"/>
            <a:ext cx="128268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70520" y="1981080"/>
            <a:ext cx="136548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84520" y="4114800"/>
            <a:ext cx="16142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751360" y="4114800"/>
            <a:ext cx="160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os Cuatro Familia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chi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africa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judí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mexica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china: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vo con los chili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arro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os fideos de arro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ollo de KF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648320" y="2446200"/>
            <a:ext cx="380988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africana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v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s verdur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acaroni y ques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 ensalad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 tarta de manzan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85800" y="1981080"/>
            <a:ext cx="3668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judía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pavo y rellen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verdur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 ensalad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gallet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797280" y="1981080"/>
            <a:ext cx="1548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mexicana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pav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os tómale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maí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fla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arroz con lech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0" y="2819520"/>
            <a:ext cx="35812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os Tomale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Pav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Ceboll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Aj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Pimien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Hoj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ezcla los ingredientes y pone en las hoja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Humee los tamales para dos hora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spere para los tamales refrescan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2:37:44Z</dcterms:created>
  <dc:creator>Sarah Cull</dc:creator>
  <dc:description/>
  <dc:language>en-US</dc:language>
  <cp:lastModifiedBy>Sarah Cull</cp:lastModifiedBy>
  <dcterms:modified xsi:type="dcterms:W3CDTF">2009-10-05T13:54:24Z</dcterms:modified>
  <cp:revision>4</cp:revision>
  <dc:subject/>
  <dc:title>Que Cocina: Una película del día de gracias</dc:title>
</cp:coreProperties>
</file>