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ct" ContentType="image/x-pict"/>
  <Override PartName="/ppt/media/image7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49E9-E1E6-47A6-B03F-EB7FA18AED2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rcedes Ruehl, Will Yun Lee, Kyra Sedgwick, Dennis Haysb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ideos significa noodles. Cuando la madre se hornea el pavo ella se olvido y el pavo se quemo. Porque ellos necesitan comer KF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860D-3132-40A3-BEF2-4AD0D55A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8C2A-0C6E-4C09-A5C2-0C188CF8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37AB-C367-4792-8438-7EEEF2CBE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F38-5FA8-4E03-9E4E-32F887E31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3A2B-C7BE-44C0-A119-08B2558BD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9C411-4A91-4D1E-9A5B-4F3FB639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558E1-365E-4F5D-9846-F852F2F4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BEF0-DC31-4C94-899F-B2EE8F1E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CF4C-6CB0-4337-8B22-8E3C9D05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307D-A144-4B81-B701-B29990CE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4077-34D9-4E80-BC79-2EF0C837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C874-6C1B-4C2F-A443-1B1D11B8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357D-8255-41FA-847A-C90DC72D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5D12-85EA-4C22-B9AA-9A025B8A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4A849-995B-4A10-AD06-1DEAF020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DCA9-3C3B-41B1-8B50-D674EEDD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0372-A663-4309-AB16-F0FAFADE4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1E4A-077A-4BA3-AFCF-5E143FFB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1B19-73D0-4448-A317-F0FF55E5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6A2-1CF0-4BE8-ABA7-34EF3485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04B1-42EE-4D92-B93B-FB5D8A83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1AD7-D82A-4BF4-B9BF-3DC2599B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3F8B-CABC-456C-938F-9DB3561A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7CA8-6B1F-493D-9236-B9543073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0AA7-DF79-4318-B341-328A6426950B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839080" y="6580080"/>
            <a:ext cx="304920" cy="277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9CCD-788E-4FE3-BE55-CC492B7C4E05}" type="slidenum"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1htNClaYGX0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1.pct"/><Relationship Id="rId7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What’s Cooking:</a:t>
            </a:r>
            <a:br>
              <a:rPr sz="4400"/>
            </a:b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Una película el día de acciones de grac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By: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Sarah Cull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El arroz con leche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eche condens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gu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Arro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Cane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as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Vanill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Hierva la leche y agu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el arroz y canela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Bata ocasionalmente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Pone la leche condensada, vanilla, sal y pasa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Sirve calient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762120" y="2666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d1b4c8"/>
                </a:solidFill>
                <a:uFillTx/>
                <a:latin typeface="Arial"/>
                <a:hlinkClick r:id="rId1"/>
              </a:rPr>
              <a:t>What's Cooking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 en la Películ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rcedes Rueh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Victor Riv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va Rodrique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oan Che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Will Yun Le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Kyra Sedgwic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Julianna Marquil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lfre Woodwar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Dennis Haysber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Pocos de los actor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49400" y="1981080"/>
            <a:ext cx="1282680" cy="1981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870520" y="1981080"/>
            <a:ext cx="1365480" cy="1981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84520" y="4114800"/>
            <a:ext cx="161424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751360" y="4114800"/>
            <a:ext cx="1602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Cuatro Familia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chi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afr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judí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6699"/>
                </a:solidFill>
                <a:latin typeface="Arial"/>
              </a:rPr>
              <a:t>La familia mexicana</a:t>
            </a:r>
            <a:endParaRPr b="0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china: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 con los chili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os fideos de arroz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ollo de KFC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4648320" y="2446200"/>
            <a:ext cx="3809880" cy="31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africana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acaroni y ques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l pa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La tarta de manzan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685800" y="1981080"/>
            <a:ext cx="366876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judí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34286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 y rellen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verdur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 ensalada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gallet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a comida de la familia mexicana 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pavo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as papas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Los tómales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maíz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flan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99"/>
                </a:solidFill>
                <a:latin typeface="Arial"/>
              </a:rPr>
              <a:t>El arroz con leche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7"/>
          <a:stretch/>
        </p:blipFill>
        <p:spPr>
          <a:xfrm>
            <a:off x="4572000" y="2819520"/>
            <a:ext cx="358128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6633"/>
                </a:solidFill>
                <a:latin typeface="Arial"/>
              </a:rPr>
              <a:t>Los Tomales</a:t>
            </a:r>
            <a:endParaRPr b="0" lang="en-US" sz="4400" spc="-1" strike="noStrike">
              <a:solidFill>
                <a:srgbClr val="3366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av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Sa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Ceboll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Ajo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Pimienta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oja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Mezcla los ingredientes y pone en las hoj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Humee los tamales para dos hora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6699"/>
                </a:solidFill>
                <a:latin typeface="Arial"/>
              </a:rPr>
              <a:t>Espere para los tamales refrescan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02:37:44Z</dcterms:created>
  <dc:creator>Sarah Cull</dc:creator>
  <dc:description/>
  <dc:language>en-US</dc:language>
  <cp:lastModifiedBy>Sarah Cull</cp:lastModifiedBy>
  <dcterms:modified xsi:type="dcterms:W3CDTF">2009-10-05T13:54:24Z</dcterms:modified>
  <cp:revision>4</cp:revision>
  <dc:subject/>
  <dc:title>Que Cocina: Una película del día de gracias</dc:title>
</cp:coreProperties>
</file>