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9110-D512-468D-A643-BD520DB65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0887-AAE8-4115-A434-42450342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ED7D-6CB2-4A6A-8A22-F82A229B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FFDC-DB06-42E6-ACA9-B7CC022E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398-F02C-48B6-BAA5-43B66F75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A301-C1A0-48C7-9FF5-9C946153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8FC2-AB59-4B3D-9723-D84B13BDC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6FB4-C043-416B-82BB-61E07C17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C66-F127-4411-B7EA-ABB93F29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9B58-3B57-45D3-A050-A7E07581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7983-D472-455D-9A70-113CFC72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EFB1-7DD5-40AA-A043-FB5E0B97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80A9-59C0-4A7F-AB58-9FEB0BDB29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c/Cuba-Florida_map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giados políticos: Los cubanos de Florid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rick Domin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N 2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File:Cuba-Florida ma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295280"/>
            <a:ext cx="60962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ie mojado, Pie sec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9914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Por qué vienen cubanos a Améric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65776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mi opi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69343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untas de discus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rees que el gobierno de los Estados Unidos debe regular la inmigración de cub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ómo te sientes sobre que el gobierno gasta mucho dinero de impuesto en inmigrantes cub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4:12:05Z</dcterms:created>
  <dc:creator>Darrick Dominick</dc:creator>
  <dc:description/>
  <dc:language>en-US</dc:language>
  <cp:lastModifiedBy>Darrick Dominick</cp:lastModifiedBy>
  <dcterms:modified xsi:type="dcterms:W3CDTF">2009-12-11T17:10:12Z</dcterms:modified>
  <cp:revision>2</cp:revision>
  <dc:subject/>
  <dc:title>Refugiados políticos: Los cubanos de Florida </dc:title>
</cp:coreProperties>
</file>