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B9D-1B6A-4EF5-A3AB-5D0950ED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038-E937-49F5-8C46-C53B06DE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A92-1A40-4E18-9818-EC326D25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592-135F-4283-AAC6-4E6F7DC2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EB1-AB83-45B7-8E50-98C4574E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AE6-50B6-4884-8315-93CE71AD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426-F580-422E-8AD8-3D54A4E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C84-A3C8-4D3B-9668-2FE65D80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ACD-DDDE-4FBB-AAD2-712A1FD6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0D8-3C56-428E-B124-3CF2C5BB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595-7958-4006-9D6E-9BC76DD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A30-04CE-483C-85A5-4E487C3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6E1-66C1-4B5A-B0EF-F3978D6F2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c/Cuba-Florida_ma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iados políticos: Los cubanos de Flor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ick Domi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N 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Cuba-Florida 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295280"/>
            <a:ext cx="6096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e mojado, Pie sec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91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vienen cubanos a Amé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57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i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de discu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gobierno de los Estados Unidos debe regular la inmigración de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e sientes sobre que el gobierno gasta mucho dinero de impuesto en inmigrantes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12:05Z</dcterms:created>
  <dc:creator>Darrick Dominick</dc:creator>
  <dc:description/>
  <dc:language>en-US</dc:language>
  <cp:lastModifiedBy>Darrick Dominick</cp:lastModifiedBy>
  <dcterms:modified xsi:type="dcterms:W3CDTF">2009-12-11T17:10:12Z</dcterms:modified>
  <cp:revision>2</cp:revision>
  <dc:subject/>
  <dc:title>Refugiados políticos: Los cubanos de Florida </dc:title>
</cp:coreProperties>
</file>