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2BB1-A3E2-4372-845A-8704E9B3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7EDD-9DAE-4588-AFB6-7F9CE0F3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C67C-9065-41F8-8684-E9E652228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92B3-6171-418B-AC8F-C504435C4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4338-C624-49B9-9E46-DEBCC06D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A1F5-C6FB-472D-B7D8-60B891C2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03C2-D57A-4CAB-B21F-B34D6C73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0C95-E17C-4C2B-9854-690F1979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17DE-4FA6-4CE9-8F03-837BD0DD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65BB-746A-4CA7-A01D-B1C837F2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D669-5994-403D-B120-E3C95C6F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52DD-E746-4064-92D7-192C93D4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0e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FDA7-CF7B-4E55-8149-C03F96D11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c/Cuba-Florida_map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0e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ugiados políticos: Los cubanos de Florid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rick Domin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N 2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0e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File:Cuba-Florida ma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1295280"/>
            <a:ext cx="60962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0e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ie mojado, Pie sec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59914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0e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Por qué vienen cubanos a Améric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65776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0e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mi opi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693432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0e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guntas de discus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rees que el gobierno de los Estados Unidos debe regular la inmigración de cuban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ómo te sientes sobre que el gobierno gasta mucho dinero de impuesto en inmigrantes cuban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4:12:05Z</dcterms:created>
  <dc:creator>Darrick Dominick</dc:creator>
  <dc:description/>
  <dc:language>en-US</dc:language>
  <cp:lastModifiedBy>Darrick Dominick</cp:lastModifiedBy>
  <dcterms:modified xsi:type="dcterms:W3CDTF">2009-12-11T17:10:12Z</dcterms:modified>
  <cp:revision>2</cp:revision>
  <dc:subject/>
  <dc:title>Refugiados políticos: Los cubanos de Florida </dc:title>
</cp:coreProperties>
</file>