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4B8F-980A-47DA-838E-BA4FD2AB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174F-3754-4F89-BEB1-739A9B18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C6B2-6603-448F-A770-8A571E21B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B070-5931-4DC0-AF84-DFEC2F13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AE47-A0A5-4FDE-81DE-294BF534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685-E12F-412C-ACB2-91E1667F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3571-BC45-4AB8-8A94-4C7BD1F7D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20E-7C9B-41B3-81E7-4E9A4D2D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128F-BB2D-46E1-B020-B1B65F772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FAEC-29B1-491C-BC29-6AA14A962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D61D-EC80-4E46-B785-93AE1B0E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7521-BE88-420F-8FA6-44F22776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FEE2-4117-438A-8540-D617CED80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c/Cuba-Florida_map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ugiados políticos: Los cubanos de Florid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rick Domin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N 2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File:Cuba-Florida ma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295280"/>
            <a:ext cx="60962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ie mojado, Pie sec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9914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Por qué vienen cubanos a Améric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65776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mi opi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69343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guntas de discus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rees que el gobierno de los Estados Unidos debe regular la inmigración de cub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ómo te sientes sobre que el gobierno gasta mucho dinero de impuesto en inmigrantes cub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4:12:05Z</dcterms:created>
  <dc:creator>Darrick Dominick</dc:creator>
  <dc:description/>
  <dc:language>en-US</dc:language>
  <cp:lastModifiedBy>Darrick Dominick</cp:lastModifiedBy>
  <dcterms:modified xsi:type="dcterms:W3CDTF">2009-12-11T17:10:12Z</dcterms:modified>
  <cp:revision>2</cp:revision>
  <dc:subject/>
  <dc:title>Refugiados políticos: Los cubanos de Florida </dc:title>
</cp:coreProperties>
</file>