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8ED-5D25-485C-A6EA-6A7EDD17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A0F-FBA2-43C2-B3A6-1D1228381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F6B-3967-420A-AA34-F6328311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33DF-8977-4A29-83DF-785BA21D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30E-DCC8-439E-B44D-8DE24E11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622D-0B72-4749-A43A-02542A13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CD8-AEF3-4226-B22E-450E5462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1C17-F117-49B6-9BFE-02937371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977A-665D-4708-9B5C-C0A302BAA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F4A7-DE25-488B-A833-49B547FE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7072-BCC6-4AFA-9B42-D5928EDB1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64C5-20F0-4792-8EA3-F54AB444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AB63-D87C-42DF-901E-BD6E46C8D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f/fc/Cuba-Florida_map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ugiados políticos: Los cubanos de Florid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5409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rrick Domin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N 2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File:Cuba-Florida map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295280"/>
            <a:ext cx="609624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ie mojado, Pie sec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59914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¿Por qué vienen cubanos a América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657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mi opin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693432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e0ef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guntas de discus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rees que el gobierno de los Estados Unidos debe regular la inmigración de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te sientes sobre que el gobierno gasta mucho dinero de impuesto en inmigrantes cuban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14:12:05Z</dcterms:created>
  <dc:creator>Darrick Dominick</dc:creator>
  <dc:description/>
  <dc:language>en-US</dc:language>
  <cp:lastModifiedBy>Darrick Dominick</cp:lastModifiedBy>
  <dcterms:modified xsi:type="dcterms:W3CDTF">2009-12-11T17:10:12Z</dcterms:modified>
  <cp:revision>2</cp:revision>
  <dc:subject/>
  <dc:title>Refugiados políticos: Los cubanos de Florida </dc:title>
</cp:coreProperties>
</file>