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E97-C66D-410B-82C3-96F9F5DE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F3C-4C01-4F4C-AEEF-555F2F07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596-DB36-4EBD-9DB0-5856482A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F0C-1885-4B4D-9D58-E8C4B551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D1F-A3FF-4FAD-B377-3ADD4CCD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734-BB1C-4863-AFD2-D0D6733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0ED-38B9-4D0D-A555-59CC54B2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C9D-B45F-442B-9740-AA4129E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80E-2860-4DE0-B38B-371C15F2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E77-A187-48D0-B572-D1C23EF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9DE-BEDB-424A-A511-40F30C3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E84-082C-402C-B997-B854C09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DB1-4562-4AE9-A4CB-FD1BAE885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c/Cuba-Florida_ma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iados políticos: Los cubanos de Flor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ick Domi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N 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Cuba-Florida 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295280"/>
            <a:ext cx="6096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e mojado, Pie sec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91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vienen cubanos a Amé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57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i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de discu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gobierno de los Estados Unidos debe regular la inmigración de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e sientes sobre que el gobierno gasta mucho dinero de impuesto en inmigrantes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12:05Z</dcterms:created>
  <dc:creator>Darrick Dominick</dc:creator>
  <dc:description/>
  <dc:language>en-US</dc:language>
  <cp:lastModifiedBy>Darrick Dominick</cp:lastModifiedBy>
  <dcterms:modified xsi:type="dcterms:W3CDTF">2009-12-11T17:10:12Z</dcterms:modified>
  <cp:revision>2</cp:revision>
  <dc:subject/>
  <dc:title>Refugiados políticos: Los cubanos de Florida </dc:title>
</cp:coreProperties>
</file>