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21.png" ContentType="image/png"/>
  <Override PartName="/ppt/media/image20.jpeg" ContentType="image/jpeg"/>
  <Override PartName="/ppt/media/image15.jpeg" ContentType="image/jpeg"/>
  <Override PartName="/ppt/media/image16.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6F11-DFBE-47B6-BFA6-7790A340FEEE}" type="slidenum">
              <a:rPr b="0" lang="es-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muy importante que una relación tiene todos de esto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0F803-3DE2-4844-904E-BB3DD4719A21}"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mantener una relación que es interesante. Necesita pasa tiempo juntos pero es importante que mantiene las relaciones con los amigos.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F09E6-5008-404C-B6DB-78327611D6F1}"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Hoy muchas personas siempre tienen los teléfonos celulares, o siempre quieren usar la computador para el correo electrónico. Necesita apagar los electrónicos y pasa tiempo juntos sin los por una noche. Especialmente facebook. Los científicos dicen que facebook causa celosos en relacione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64868-C44B-44F1-9D08-41D80365A31F}"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Porque personas tienen mucho estrés durante un mal económico hay muchos ideas para ahorra dinero. Muchas de las playas son gratis también los conciertos. Si el tiempo es bueno hace un picnic en un parque.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6E4B0-C57F-45E6-9F08-2B5A3F81ADF7}"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ustedes comunican cuando tener problemas. También los compromisos crean un relación sano. Cuando usted es positivo eso ayuda porque su compañero no siente como es un ataca.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5269-9ECD-4F80-A18E-3DCB8447C0E4}"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FC998D-F15A-40E4-A703-6ECF8911D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2DD93-6322-435D-9048-B87C8D9C8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B625F-E751-4F4A-ACC6-6A9BC230A3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F5DBD-DCCE-4C81-B9BA-C1293A5C3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F8835F-BB74-45DD-8182-242C28C7F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58589-C639-44E5-B51C-D72011269B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91D01-21C1-4F65-A6C6-A12EEAC8E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239D17-156A-4533-88E4-587A64642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882B1A-0D6D-4FC3-AB00-EF8118C198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0AEED-DD1A-4BEC-B087-F6B3045104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A1AD2A-B7E8-4680-8E2D-0EBD9F0253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B065DA-8FA3-4459-BFEE-E490924097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D6D151-EECC-488E-BBF9-43190520A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AF23-7C91-4746-BA54-100656EB10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43664B-EF3E-4CAF-BC67-D4BBF7C0E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EDAE78-3D0A-44B5-A9C4-64E45DC62B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FEE24-0D31-4D00-8E90-B9E524D946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F33FDBC-1471-47FE-9489-A1A5F384A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24E0BF-F7B9-4D5D-BB10-834B56BAF4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2E4CDC-E5EE-4632-BB44-BB7FDB9455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446E65-2F14-46EF-8D5E-B394F411CE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0CD1E7-152F-4779-A4E4-C244A74575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28D329-E378-403B-99AE-C95E757B6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1D997-21EF-48FD-86A9-65994C6571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FE4FEF-6908-467C-970B-1FD8316903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36F0CD-420B-4E5F-871E-ABC3498FC0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AFB367-CBE0-43DD-8BC5-2DA8BEB0A6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5C2904-F2E9-4576-80E2-0F637702C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A8B01D-093B-4D07-A852-F192F38B65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16C7E9-B65C-4A12-B24B-BAADBEDC39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AC6414-073E-4E92-B210-B32A53560D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8731FC-56E4-4C34-8674-080712BEA9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C62F76-0B8A-4861-8811-1D9D685966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B0424-AEEF-4CA1-A0E1-5461750E4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287F4-2998-4925-ACD9-753CB1248E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C92CD9-20A6-4B5C-B1C7-294EC34F35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08AD5B-076D-4924-B2ED-A0C0900630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46415-FC57-4D03-8C7A-52A16C1298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95CA01-D061-41DC-A726-9F6256673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B297E6-F172-44FF-99FF-D52CF27CD4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B78370-1267-4EBF-95F6-5BA29626A5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E68A217-E918-4EEF-8385-C44F9FF50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EBBCC5-0D6B-41EB-9848-2B5FAF9FFD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B620C2-1644-4507-A85C-DDBC349254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783E72-92C3-4D0F-A893-08696B3B51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AF530B-DBF3-41E9-85B4-5C7167A49B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6B0ADA-F6B6-499D-B228-F4AEB58A75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871C0-7DE3-478C-8E24-88696CCEAF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6EFEDD-C920-499F-BD2F-4280A1E9B7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CCCEC7-BA7B-442D-8481-0679F3DCB9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575D6-C6D2-4704-BDF4-B88E2AC156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A86225-6694-4B60-BB76-C920AB54D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0E6D5A-242E-46D2-A3E9-FD47EE3CA0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B44096-B350-46DF-814B-4F74F5612C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751CE8-1455-4699-BA51-0185318778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747493-A6CE-49B3-A1CD-B55332CDC8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0DBEA1-E05F-4AE1-A25D-E99E2409DB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35023FF-1B4A-47F3-B3DB-BF9CC36D00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A8D6DD-1671-4B5F-A4B6-D60B7FE48FE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E33FFE-35B7-4303-9A57-D56D05F4134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567E66E-C7F1-4409-9B7A-9F5406930C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750FC5-F886-46CC-8252-05E4EC7C3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B5A9E1-8AEA-4F64-B15D-EB909A45FA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36520A-A0A1-47EF-8BA9-068831A7EA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2DA3EE-F931-41BF-BA29-5B9B837194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1AD366-0687-43A6-9B22-737EA91488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BBA41-71E6-45D1-A4D0-2F3EE209EC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914F33-AA47-4E72-B131-398B93CE79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9F2715-C943-4374-A9F9-3C8AB89B37B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563D29-C481-4317-BBED-CD066484BCA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DE8576-FB3B-449B-97A4-3A3A534D8C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47DA0D-8459-46B8-8668-82A1C16ECB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43F814-8FAD-4EA1-B3E8-DF1943B6E53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5DE8C6D-A91F-4289-A527-77E493BBDA1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76CAA3-3B48-4379-85CD-9EF9D09631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F44A65-62CF-4D95-914B-8E0942EFB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885F9C-0888-4CAA-88F9-4225F7B25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4DD8-3BB7-431B-A706-7BD79B99F9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B9907E-E084-43E6-B9EC-083F1AE7E1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745ABA-FBB2-4044-8E74-FF4F531DA2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9BF744-690C-4AD6-9597-BB832807A5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D15EDD-CB15-4DF3-8219-BFF6F6B802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213770-13FA-4949-9B10-2A5520B7AC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6F4D6F-9D39-4966-AC52-2CAE91F868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D6CFB5-A117-496B-AE52-534EF7A050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3B011D-1EEE-4372-8D9F-E8E781E046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4A354DF-E1CD-412A-BA88-1C18DC1BD8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58B547-DE5A-4605-A625-6681807EE9B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AD189-D9A3-4E8C-A58E-8B7639FC7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B38E72-BD09-4270-AC5C-C63BE64D7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04DE5F-83A8-4D64-976D-42CB0D3CF9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363CC6-5A72-4929-9682-106CBA1C83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824E44-560F-4E35-AB3B-434A1173F9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920362-A398-4750-814F-78459AEC3EE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0FCC92-3A63-4D35-874E-1ED5DEBEA19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166D4EE-D3D4-4428-ABAD-44938550685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E10B-1E5E-40AD-9B46-FF51498F0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2C282-124C-4A8F-B3C5-146E35F0FF55}"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6629-402A-4395-8550-4A7F923855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8F8E3-FAAE-463C-9B25-2A97BDB6E10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1ED15-B5A9-4374-9CA1-704E804E3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5D14F-80EE-48D6-867B-6CDA24EB4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E76AE-8933-4869-A2E7-7F036C6A421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D7F3-4CB6-4B3A-9F87-7B160E0E4D80}"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536400" y="652320"/>
            <a:ext cx="8326440" cy="1597320"/>
          </a:xfrm>
          <a:prstGeom prst="rect">
            <a:avLst/>
          </a:prstGeom>
          <a:ln w="0">
            <a:noFill/>
          </a:ln>
        </p:spPr>
      </p:pic>
      <p:pic>
        <p:nvPicPr>
          <p:cNvPr id="353"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122400"/>
            <a:ext cx="82425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nfianz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Respe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unicació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onradez</a:t>
            </a:r>
            <a:endParaRPr b="0" lang="en-US" sz="3000" spc="-1" strike="noStrike">
              <a:solidFill>
                <a:srgbClr val="ffffff"/>
              </a:solidFill>
              <a:latin typeface="Century Gothic"/>
            </a:endParaRPr>
          </a:p>
        </p:txBody>
      </p:sp>
      <p:pic>
        <p:nvPicPr>
          <p:cNvPr id="356" name="Picture 4" descr="\\washjeff.edu\shares\YR2012\cullsm\datastore\Desktop\cos1207relationtips001-lh-small-new.jpg"/>
          <p:cNvPicPr/>
          <p:nvPr/>
        </p:nvPicPr>
        <p:blipFill>
          <a:blip r:embed="rId2"/>
          <a:stretch/>
        </p:blipFill>
        <p:spPr>
          <a:xfrm>
            <a:off x="3962520" y="990720"/>
            <a:ext cx="2209680" cy="2209680"/>
          </a:xfrm>
          <a:prstGeom prst="rect">
            <a:avLst/>
          </a:prstGeom>
          <a:ln w="0">
            <a:noFill/>
          </a:ln>
        </p:spPr>
      </p:pic>
      <p:pic>
        <p:nvPicPr>
          <p:cNvPr id="357" name="Picture 5" descr="\\washjeff.edu\shares\YR2012\cullsm\datastore\Desktop\COS1104WDY001-de-small-new.jpg"/>
          <p:cNvPicPr/>
          <p:nvPr/>
        </p:nvPicPr>
        <p:blipFill>
          <a:blip r:embed="rId3"/>
          <a:stretch/>
        </p:blipFill>
        <p:spPr>
          <a:xfrm>
            <a:off x="3124080" y="4191120"/>
            <a:ext cx="2360880" cy="2360520"/>
          </a:xfrm>
          <a:prstGeom prst="rect">
            <a:avLst/>
          </a:prstGeom>
          <a:ln w="0">
            <a:noFill/>
          </a:ln>
        </p:spPr>
      </p:pic>
      <p:pic>
        <p:nvPicPr>
          <p:cNvPr id="358" name="Picture 6" descr="\\washjeff.edu\shares\YR2012\cullsm\datastore\Desktop\wanted-to-do-smn.jpg"/>
          <p:cNvPicPr/>
          <p:nvPr/>
        </p:nvPicPr>
        <p:blipFill>
          <a:blip r:embed="rId4"/>
          <a:stretch/>
        </p:blipFill>
        <p:spPr>
          <a:xfrm>
            <a:off x="6553080" y="2438280"/>
            <a:ext cx="2291040" cy="22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washjeff.edu\shares\YR2012\cullsm\datastore\Desktop\images.jpg"/>
          <p:cNvPicPr/>
          <p:nvPr/>
        </p:nvPicPr>
        <p:blipFill>
          <a:blip r:embed="rId1"/>
          <a:stretch/>
        </p:blipFill>
        <p:spPr>
          <a:xfrm>
            <a:off x="6477120" y="228600"/>
            <a:ext cx="2203200" cy="2239920"/>
          </a:xfrm>
          <a:prstGeom prst="rect">
            <a:avLst/>
          </a:prstGeom>
          <a:ln w="0">
            <a:noFill/>
          </a:ln>
        </p:spPr>
      </p:pic>
      <p:pic>
        <p:nvPicPr>
          <p:cNvPr id="360" name="Title 1" descr=""/>
          <p:cNvPicPr/>
          <p:nvPr/>
        </p:nvPicPr>
        <p:blipFill>
          <a:blip r:embed="rId2"/>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junt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Hace los recados o el trabajo de la casa</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con los amig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Introduce una a otro de sus amigos. </a:t>
            </a:r>
            <a:endParaRPr b="0" lang="en-US" sz="2600" spc="-1" strike="noStrike">
              <a:solidFill>
                <a:srgbClr val="ffffff"/>
              </a:solidFill>
              <a:latin typeface="Century Gothic"/>
            </a:endParaRPr>
          </a:p>
        </p:txBody>
      </p:sp>
      <p:pic>
        <p:nvPicPr>
          <p:cNvPr id="362" name="Picture 3" descr="\\washjeff.edu\shares\YR2012\cullsm\datastore\Desktop\laundry-de-small_new.jpg"/>
          <p:cNvPicPr/>
          <p:nvPr/>
        </p:nvPicPr>
        <p:blipFill>
          <a:blip r:embed="rId3"/>
          <a:stretch/>
        </p:blipFill>
        <p:spPr>
          <a:xfrm>
            <a:off x="1447920" y="4419720"/>
            <a:ext cx="1828800" cy="1828800"/>
          </a:xfrm>
          <a:prstGeom prst="rect">
            <a:avLst/>
          </a:prstGeom>
          <a:ln w="0">
            <a:noFill/>
          </a:ln>
        </p:spPr>
      </p:pic>
      <p:pic>
        <p:nvPicPr>
          <p:cNvPr id="363" name="Picture 4" descr="\\washjeff.edu\shares\YR2012\cullsm\datastore\Desktop\images.jpg"/>
          <p:cNvPicPr/>
          <p:nvPr/>
        </p:nvPicPr>
        <p:blipFill>
          <a:blip r:embed="rId4"/>
          <a:stretch/>
        </p:blipFill>
        <p:spPr>
          <a:xfrm>
            <a:off x="5486400" y="4343400"/>
            <a:ext cx="2058840" cy="20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os teléfonos celular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s computadora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televisión </a:t>
            </a:r>
            <a:endParaRPr b="0" lang="en-US" sz="3000" spc="-1" strike="noStrike">
              <a:solidFill>
                <a:srgbClr val="ffffff"/>
              </a:solidFill>
              <a:latin typeface="Century Gothic"/>
            </a:endParaRPr>
          </a:p>
        </p:txBody>
      </p:sp>
      <p:pic>
        <p:nvPicPr>
          <p:cNvPr id="366" name="Picture 2" descr="\\washjeff.edu\shares\YR2012\cullsm\datastore\Desktop\images.jpg"/>
          <p:cNvPicPr/>
          <p:nvPr/>
        </p:nvPicPr>
        <p:blipFill>
          <a:blip r:embed="rId2"/>
          <a:stretch/>
        </p:blipFill>
        <p:spPr>
          <a:xfrm>
            <a:off x="5791320" y="1219320"/>
            <a:ext cx="2743200" cy="1523880"/>
          </a:xfrm>
          <a:prstGeom prst="rect">
            <a:avLst/>
          </a:prstGeom>
          <a:ln w="0">
            <a:noFill/>
          </a:ln>
        </p:spPr>
      </p:pic>
      <p:pic>
        <p:nvPicPr>
          <p:cNvPr id="367" name="Picture 5" descr="\\washjeff.edu\shares\YR2012\cullsm\datastore\Desktop\images.jpg"/>
          <p:cNvPicPr/>
          <p:nvPr/>
        </p:nvPicPr>
        <p:blipFill>
          <a:blip r:embed="rId3"/>
          <a:stretch/>
        </p:blipFill>
        <p:spPr>
          <a:xfrm>
            <a:off x="28440" y="3657600"/>
            <a:ext cx="2362320" cy="2362320"/>
          </a:xfrm>
          <a:prstGeom prst="rect">
            <a:avLst/>
          </a:prstGeom>
          <a:ln w="0">
            <a:noFill/>
          </a:ln>
        </p:spPr>
      </p:pic>
      <p:pic>
        <p:nvPicPr>
          <p:cNvPr id="368" name="Picture 6" descr="\\washjeff.edu\shares\YR2012\cullsm\datastore\Desktop\images.jpg"/>
          <p:cNvPicPr/>
          <p:nvPr/>
        </p:nvPicPr>
        <p:blipFill>
          <a:blip r:embed="rId4"/>
          <a:stretch/>
        </p:blipFill>
        <p:spPr>
          <a:xfrm>
            <a:off x="3276720" y="3809880"/>
            <a:ext cx="2684520" cy="2346480"/>
          </a:xfrm>
          <a:prstGeom prst="rect">
            <a:avLst/>
          </a:prstGeom>
          <a:ln w="0">
            <a:noFill/>
          </a:ln>
        </p:spPr>
      </p:pic>
      <p:pic>
        <p:nvPicPr>
          <p:cNvPr id="369" name="Picture 7" descr="\\washjeff.edu\shares\YR2012\cullsm\datastore\Desktop\ipod-de-small_new.jpg"/>
          <p:cNvPicPr/>
          <p:nvPr/>
        </p:nvPicPr>
        <p:blipFill>
          <a:blip r:embed="rId5"/>
          <a:stretch/>
        </p:blipFill>
        <p:spPr>
          <a:xfrm>
            <a:off x="6629400" y="3962520"/>
            <a:ext cx="210348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En un mal económico</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Personas trabajan más horas porque quieren más dinero. </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play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concier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picnic</a:t>
            </a:r>
            <a:endParaRPr b="0" lang="en-US" sz="3000" spc="-1" strike="noStrike">
              <a:solidFill>
                <a:srgbClr val="ffffff"/>
              </a:solidFill>
              <a:latin typeface="Century Gothic"/>
            </a:endParaRPr>
          </a:p>
        </p:txBody>
      </p:sp>
      <p:pic>
        <p:nvPicPr>
          <p:cNvPr id="372" name="Picture 2" descr="\\washjeff.edu\shares\YR2012\cullsm\datastore\Desktop\cos0705fundates001-lh-small-new.jpg"/>
          <p:cNvPicPr/>
          <p:nvPr/>
        </p:nvPicPr>
        <p:blipFill>
          <a:blip r:embed="rId2"/>
          <a:stretch/>
        </p:blipFill>
        <p:spPr>
          <a:xfrm>
            <a:off x="5410080" y="35053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abl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prome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Ser positivo </a:t>
            </a:r>
            <a:endParaRPr b="0" lang="en-US" sz="3000" spc="-1" strike="noStrike">
              <a:solidFill>
                <a:srgbClr val="ffffff"/>
              </a:solidFill>
              <a:latin typeface="Century Gothic"/>
            </a:endParaRPr>
          </a:p>
        </p:txBody>
      </p:sp>
      <p:pic>
        <p:nvPicPr>
          <p:cNvPr id="375" name="Picture 2" descr="\\washjeff.edu\shares\YR2012\cullsm\datastore\Desktop\SettleDown_SMn.jpg"/>
          <p:cNvPicPr/>
          <p:nvPr/>
        </p:nvPicPr>
        <p:blipFill>
          <a:blip r:embed="rId2"/>
          <a:stretch/>
        </p:blipFill>
        <p:spPr>
          <a:xfrm>
            <a:off x="4800600" y="1676520"/>
            <a:ext cx="3300480" cy="3300120"/>
          </a:xfrm>
          <a:prstGeom prst="rect">
            <a:avLst/>
          </a:prstGeom>
          <a:ln w="0">
            <a:noFill/>
          </a:ln>
        </p:spPr>
      </p:pic>
      <p:pic>
        <p:nvPicPr>
          <p:cNvPr id="376" name="Picture 3" descr="\\washjeff.edu\shares\YR2012\cullsm\datastore\Desktop\cos0508howtofight001-lh-small-new.jpg"/>
          <p:cNvPicPr/>
          <p:nvPr/>
        </p:nvPicPr>
        <p:blipFill>
          <a:blip r:embed="rId3"/>
          <a:stretch/>
        </p:blipFill>
        <p:spPr>
          <a:xfrm>
            <a:off x="914400" y="38862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3" descr=""/>
          <p:cNvPicPr/>
          <p:nvPr/>
        </p:nvPicPr>
        <p:blipFill>
          <a:blip r:embed="rId1"/>
          <a:stretch/>
        </p:blipFill>
        <p:spPr>
          <a:xfrm>
            <a:off x="195120" y="262080"/>
            <a:ext cx="8498160" cy="1407960"/>
          </a:xfrm>
          <a:prstGeom prst="rect">
            <a:avLst/>
          </a:prstGeom>
          <a:ln w="0">
            <a:noFill/>
          </a:ln>
        </p:spPr>
      </p:pic>
      <p:sp>
        <p:nvSpPr>
          <p:cNvPr id="378"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Que quiere en un compañero o una compañera?</a:t>
            </a:r>
            <a:endParaRPr b="0" lang="en-US" sz="2600" spc="-1" strike="noStrike">
              <a:solidFill>
                <a:srgbClr val="ffffff"/>
              </a:solidFill>
              <a:latin typeface="Century Gothic"/>
            </a:endParaRPr>
          </a:p>
        </p:txBody>
      </p:sp>
      <p:sp>
        <p:nvSpPr>
          <p:cNvPr id="379"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Cual es la mas importante cosa en una relación para usted?</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1:07:10Z</dcterms:created>
  <dc:creator>cullsm</dc:creator>
  <dc:description/>
  <dc:language>en-US</dc:language>
  <cp:lastModifiedBy>cullsm</cp:lastModifiedBy>
  <dcterms:modified xsi:type="dcterms:W3CDTF">2009-12-11T02:57:22Z</dcterms:modified>
  <cp:revision>12</cp:revision>
  <dc:subject/>
  <dc:title>Relaciones</dc:title>
</cp:coreProperties>
</file>