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21.png" ContentType="image/png"/>
  <Override PartName="/ppt/media/image20.jpeg" ContentType="image/jpeg"/>
  <Override PartName="/ppt/media/image15.jpeg" ContentType="image/jpeg"/>
  <Override PartName="/ppt/media/image16.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C867-B909-4359-8EC0-D58B4F5EF789}" type="slidenum">
              <a:rPr b="0" lang="es-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muy importante que una relación tiene todos de esto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0F30-054C-414B-AA08-01FE4AE11504}"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mantener una relación que es interesante. Necesita pasa tiempo juntos pero es importante que mantiene las relaciones con los amigos.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229A-EA68-42A1-8C7F-793F38EF465D}"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Hoy muchas personas siempre tienen los teléfonos celulares, o siempre quieren usar la computador para el correo electrónico. Necesita apagar los electrónicos y pasa tiempo juntos sin los por una noche. Especialmente facebook. Los científicos dicen que facebook causa celosos en relacione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F430-700E-4040-B112-D20726008537}"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Porque personas tienen mucho estrés durante un mal económico hay muchos ideas para ahorra dinero. Muchas de las playas son gratis también los conciertos. Si el tiempo es bueno hace un picnic en un parque.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99F5-0E99-48E9-8EFF-65AE5B951BAD}"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ustedes comunican cuando tener problemas. También los compromisos crean un relación sano. Cuando usted es positivo eso ayuda porque su compañero no siente como es un ataca.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BDE8-E5FF-463F-8B4C-8AC32B71C680}"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359BF-45F1-4F0A-BF4C-07D1F5499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64A8-223B-46E5-97EE-C971BDEF6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DAEE2-0DBE-4896-B33C-210F9CF69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F5C3E-F613-4214-A526-6FC6C7D0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18C20-DE80-4AB0-AF14-BF537C057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769B6-713D-42B5-A330-F189CB859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41768-1CC0-4CC3-88D5-EF9F81B97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B24B0-6E07-47B6-9CA4-0FADEE00E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BD801-9268-42DD-90E6-729C3385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C405-A128-4F1B-B49B-915D989FA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D87A6-F230-421A-AA97-72CD94FE8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55D2-7D98-4090-B611-128C4207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D8911-CF08-49DD-9CB0-6E3C5EC08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FAA4F-8B6B-4DBF-BD17-0C314CC19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43F05-1251-4723-A1F0-8F040EAF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BB4CC-8CB0-40BC-84FF-D0A52F4E1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C8373-4ECF-4D38-A3FB-B2BE552DD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4BCF93-3DCE-4F72-9AE3-7A92DCD4C3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1D5F5-CA41-4F88-B8FA-FF504E90D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234DE-7014-47BB-AB5F-0A8599A9F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CE5B3-78BA-430B-B392-A144549E6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20E9E-A8F8-4E26-8889-E7B3A6728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CE67-CD23-44B7-8B31-10E39CDFA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9B185-743A-4B09-89BA-8D2433E43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3D62A-89CF-4ABF-8072-D44350D9D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7BB5F-797C-4EBD-B94D-86E6822FB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776F8-66CF-4959-BF52-39011106D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D7DB1-ED56-4826-BEDA-66531D2DB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8B8F0-D882-41A6-B4B1-F19C4CB6CC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69C8A-2B93-444D-9B47-66BB4097D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101F6-7E8A-4D9A-A5C4-D65F7D6D2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63231-BF90-4AD3-A306-BB14F4A75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47310-B8A3-4C28-9A06-4B531FB7E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9C6E-099E-47F2-89BB-53C92896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5C09B-071F-47FB-9B8F-B15E27F64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DCF9B-3D32-4DF8-9FC4-0D933F1C6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F6FD2-CB10-4720-BD1F-6463F722F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909BB-ED99-4F2A-834F-045E374B5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67EA4-F091-4730-AF7C-47B678DD1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45CA5-534C-4970-8080-1C3D32F6C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6E05D-BF36-435A-A022-CAC2CCEFD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4DE7E-795F-4A87-962F-6C15CF6D24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F902A3-7B4D-42D8-B762-801A2FA08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4BB27C-61FF-4E37-8D0A-03295AA96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897C6-2DAF-4019-B4BB-ACDF99ED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C1819-6E53-463A-B46F-888EE27E8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A0F21C-39F9-4246-AC12-4E5E876BC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83C1AD-4CCF-4BC3-8D26-EE2C1C600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19CA2-FFA3-441F-A43C-451D09BA3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0A3AF-6DB7-47F4-A888-89094FC72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B1DB0-567A-412A-801B-86851F40F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1C7A8-4B09-4C93-801F-6A116AB3C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E87D7-566A-4E12-80D2-A9182D3F9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F2BCB-8BAA-4C40-B3E9-D05BABE5D0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2D90FB-FE65-4019-BEDD-BFFE7EA543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BCF9-FE94-4503-85BE-4AB8785D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BC3B43-79B2-476F-B66A-6759C8FD05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B5F031-C827-43AE-A089-2F2B69AFB4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5246C-D3F5-45E7-B118-4B58BD0571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F26EC-7013-4EAA-BCEA-7116A061C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09EE9-37B3-4F0D-B4C0-6261025EA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B90D5-CB65-47B4-A1B9-519281E43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F0CFC-D8C4-415C-ADB3-B3E3FE1BF3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FB3FB-087B-4A30-AD63-55E1E9D38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4FBDE-3B49-4CA3-8FF4-EA3F374CB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198C4-432C-4DE8-BE4D-ABB5C8F919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BDB8-3F7F-4283-8C04-987334703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433443-52AB-4E97-96CA-B6E9F7819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5C1033-A7A9-466F-908A-FB3A364E0D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48734-8E50-4D92-94F7-C41A5C1D9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94EA1E-81C7-4A94-871A-0FDB268AD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D949F-ECDC-4D62-B523-CE35AF503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CA413-C759-41D9-8858-4CFE5D8512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33DCA-AEA2-450B-8669-17F8D2E3F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96EBB-8332-49AB-9077-15026FFD4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425046-63D1-4A13-BC1D-6383DA6E5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1C3D1-4CF5-495B-9E3D-5BF5E3B90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5762-AF29-4DAF-93B0-FC0DE586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AF62B-B6FD-4090-88CB-023E0802D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9EA57-9DC1-40DA-8E00-ACE71BB1E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0DC81B-E86D-41F9-9239-E1B2AD601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FB55A1-4175-4796-8F96-B98BB5B2C0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677A9F-BC2F-4030-BBBB-3FBCDB35D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7FE2CA-BC6B-4954-A933-52A99171AA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DBDCB2-F1FF-400B-986D-94BF4DEF2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1BFDA5-704F-43A6-9137-C7CFE3B1D3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9A460-02C2-48FD-95B2-C8F09347A7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F2A6C-8926-4360-9288-1A9101EAB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374A-E22A-4960-9074-50FC661A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5E8D1-65F4-4744-921F-BA14340CF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B2D50-930B-43CA-9D4F-13F4587BE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D12F8-6E42-4079-A9C1-11ECD3E34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68600-EE2C-4632-A275-E08CD5C2D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47A1B1-3F5C-4C62-80EE-BC7E00AD1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E1C0CF-3227-4717-97D9-DC1C316291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2209B-6455-481B-B25A-C37C80AE8BF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2C71-B928-47C5-9B1C-786D3BF19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7515-1C6B-41A6-8B19-5047EC07BD90}"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2877-DE94-4073-95FF-C6513BECC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8BDA-93FE-4D6C-B3C3-6D7B7A0B44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F3F9-C3DD-4AAD-9190-3E51DD754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4EA3-AEFB-4677-925E-DF646E407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C72E-CE17-4B52-A015-CFB08AC4E25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D9A8-443E-4D53-85E6-DFCA35C6AF2B}"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536400" y="652320"/>
            <a:ext cx="8326440" cy="1597320"/>
          </a:xfrm>
          <a:prstGeom prst="rect">
            <a:avLst/>
          </a:prstGeom>
          <a:ln w="0">
            <a:noFill/>
          </a:ln>
        </p:spPr>
      </p:pic>
      <p:pic>
        <p:nvPicPr>
          <p:cNvPr id="353"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122400"/>
            <a:ext cx="82425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nfianz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Respe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unicació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onradez</a:t>
            </a:r>
            <a:endParaRPr b="0" lang="en-US" sz="3000" spc="-1" strike="noStrike">
              <a:solidFill>
                <a:srgbClr val="ffffff"/>
              </a:solidFill>
              <a:latin typeface="Century Gothic"/>
            </a:endParaRPr>
          </a:p>
        </p:txBody>
      </p:sp>
      <p:pic>
        <p:nvPicPr>
          <p:cNvPr id="356" name="Picture 4" descr="\\washjeff.edu\shares\YR2012\cullsm\datastore\Desktop\cos1207relationtips001-lh-small-new.jpg"/>
          <p:cNvPicPr/>
          <p:nvPr/>
        </p:nvPicPr>
        <p:blipFill>
          <a:blip r:embed="rId2"/>
          <a:stretch/>
        </p:blipFill>
        <p:spPr>
          <a:xfrm>
            <a:off x="3962520" y="990720"/>
            <a:ext cx="2209680" cy="2209680"/>
          </a:xfrm>
          <a:prstGeom prst="rect">
            <a:avLst/>
          </a:prstGeom>
          <a:ln w="0">
            <a:noFill/>
          </a:ln>
        </p:spPr>
      </p:pic>
      <p:pic>
        <p:nvPicPr>
          <p:cNvPr id="357" name="Picture 5" descr="\\washjeff.edu\shares\YR2012\cullsm\datastore\Desktop\COS1104WDY001-de-small-new.jpg"/>
          <p:cNvPicPr/>
          <p:nvPr/>
        </p:nvPicPr>
        <p:blipFill>
          <a:blip r:embed="rId3"/>
          <a:stretch/>
        </p:blipFill>
        <p:spPr>
          <a:xfrm>
            <a:off x="3124080" y="4191120"/>
            <a:ext cx="2360880" cy="2360520"/>
          </a:xfrm>
          <a:prstGeom prst="rect">
            <a:avLst/>
          </a:prstGeom>
          <a:ln w="0">
            <a:noFill/>
          </a:ln>
        </p:spPr>
      </p:pic>
      <p:pic>
        <p:nvPicPr>
          <p:cNvPr id="358" name="Picture 6" descr="\\washjeff.edu\shares\YR2012\cullsm\datastore\Desktop\wanted-to-do-smn.jpg"/>
          <p:cNvPicPr/>
          <p:nvPr/>
        </p:nvPicPr>
        <p:blipFill>
          <a:blip r:embed="rId4"/>
          <a:stretch/>
        </p:blipFill>
        <p:spPr>
          <a:xfrm>
            <a:off x="6553080" y="2438280"/>
            <a:ext cx="2291040" cy="22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washjeff.edu\shares\YR2012\cullsm\datastore\Desktop\images.jpg"/>
          <p:cNvPicPr/>
          <p:nvPr/>
        </p:nvPicPr>
        <p:blipFill>
          <a:blip r:embed="rId1"/>
          <a:stretch/>
        </p:blipFill>
        <p:spPr>
          <a:xfrm>
            <a:off x="6477120" y="228600"/>
            <a:ext cx="2203200" cy="2239920"/>
          </a:xfrm>
          <a:prstGeom prst="rect">
            <a:avLst/>
          </a:prstGeom>
          <a:ln w="0">
            <a:noFill/>
          </a:ln>
        </p:spPr>
      </p:pic>
      <p:pic>
        <p:nvPicPr>
          <p:cNvPr id="360" name="Title 1" descr=""/>
          <p:cNvPicPr/>
          <p:nvPr/>
        </p:nvPicPr>
        <p:blipFill>
          <a:blip r:embed="rId2"/>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junt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Hace los recados o el trabajo de la casa</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con los amig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Introduce una a otro de sus amigos. </a:t>
            </a:r>
            <a:endParaRPr b="0" lang="en-US" sz="2600" spc="-1" strike="noStrike">
              <a:solidFill>
                <a:srgbClr val="ffffff"/>
              </a:solidFill>
              <a:latin typeface="Century Gothic"/>
            </a:endParaRPr>
          </a:p>
        </p:txBody>
      </p:sp>
      <p:pic>
        <p:nvPicPr>
          <p:cNvPr id="362" name="Picture 3" descr="\\washjeff.edu\shares\YR2012\cullsm\datastore\Desktop\laundry-de-small_new.jpg"/>
          <p:cNvPicPr/>
          <p:nvPr/>
        </p:nvPicPr>
        <p:blipFill>
          <a:blip r:embed="rId3"/>
          <a:stretch/>
        </p:blipFill>
        <p:spPr>
          <a:xfrm>
            <a:off x="1447920" y="4419720"/>
            <a:ext cx="1828800" cy="1828800"/>
          </a:xfrm>
          <a:prstGeom prst="rect">
            <a:avLst/>
          </a:prstGeom>
          <a:ln w="0">
            <a:noFill/>
          </a:ln>
        </p:spPr>
      </p:pic>
      <p:pic>
        <p:nvPicPr>
          <p:cNvPr id="363" name="Picture 4" descr="\\washjeff.edu\shares\YR2012\cullsm\datastore\Desktop\images.jpg"/>
          <p:cNvPicPr/>
          <p:nvPr/>
        </p:nvPicPr>
        <p:blipFill>
          <a:blip r:embed="rId4"/>
          <a:stretch/>
        </p:blipFill>
        <p:spPr>
          <a:xfrm>
            <a:off x="5486400" y="4343400"/>
            <a:ext cx="2058840" cy="20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os teléfonos celular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s computadora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televisión </a:t>
            </a:r>
            <a:endParaRPr b="0" lang="en-US" sz="3000" spc="-1" strike="noStrike">
              <a:solidFill>
                <a:srgbClr val="ffffff"/>
              </a:solidFill>
              <a:latin typeface="Century Gothic"/>
            </a:endParaRPr>
          </a:p>
        </p:txBody>
      </p:sp>
      <p:pic>
        <p:nvPicPr>
          <p:cNvPr id="366" name="Picture 2" descr="\\washjeff.edu\shares\YR2012\cullsm\datastore\Desktop\images.jpg"/>
          <p:cNvPicPr/>
          <p:nvPr/>
        </p:nvPicPr>
        <p:blipFill>
          <a:blip r:embed="rId2"/>
          <a:stretch/>
        </p:blipFill>
        <p:spPr>
          <a:xfrm>
            <a:off x="5791320" y="1219320"/>
            <a:ext cx="2743200" cy="1523880"/>
          </a:xfrm>
          <a:prstGeom prst="rect">
            <a:avLst/>
          </a:prstGeom>
          <a:ln w="0">
            <a:noFill/>
          </a:ln>
        </p:spPr>
      </p:pic>
      <p:pic>
        <p:nvPicPr>
          <p:cNvPr id="367" name="Picture 5" descr="\\washjeff.edu\shares\YR2012\cullsm\datastore\Desktop\images.jpg"/>
          <p:cNvPicPr/>
          <p:nvPr/>
        </p:nvPicPr>
        <p:blipFill>
          <a:blip r:embed="rId3"/>
          <a:stretch/>
        </p:blipFill>
        <p:spPr>
          <a:xfrm>
            <a:off x="28440" y="3657600"/>
            <a:ext cx="2362320" cy="2362320"/>
          </a:xfrm>
          <a:prstGeom prst="rect">
            <a:avLst/>
          </a:prstGeom>
          <a:ln w="0">
            <a:noFill/>
          </a:ln>
        </p:spPr>
      </p:pic>
      <p:pic>
        <p:nvPicPr>
          <p:cNvPr id="368" name="Picture 6" descr="\\washjeff.edu\shares\YR2012\cullsm\datastore\Desktop\images.jpg"/>
          <p:cNvPicPr/>
          <p:nvPr/>
        </p:nvPicPr>
        <p:blipFill>
          <a:blip r:embed="rId4"/>
          <a:stretch/>
        </p:blipFill>
        <p:spPr>
          <a:xfrm>
            <a:off x="3276720" y="3809880"/>
            <a:ext cx="2684520" cy="2346480"/>
          </a:xfrm>
          <a:prstGeom prst="rect">
            <a:avLst/>
          </a:prstGeom>
          <a:ln w="0">
            <a:noFill/>
          </a:ln>
        </p:spPr>
      </p:pic>
      <p:pic>
        <p:nvPicPr>
          <p:cNvPr id="369" name="Picture 7" descr="\\washjeff.edu\shares\YR2012\cullsm\datastore\Desktop\ipod-de-small_new.jpg"/>
          <p:cNvPicPr/>
          <p:nvPr/>
        </p:nvPicPr>
        <p:blipFill>
          <a:blip r:embed="rId5"/>
          <a:stretch/>
        </p:blipFill>
        <p:spPr>
          <a:xfrm>
            <a:off x="6629400" y="3962520"/>
            <a:ext cx="210348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En un mal económico</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Personas trabajan más horas porque quieren más dinero. </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play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concier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picnic</a:t>
            </a:r>
            <a:endParaRPr b="0" lang="en-US" sz="3000" spc="-1" strike="noStrike">
              <a:solidFill>
                <a:srgbClr val="ffffff"/>
              </a:solidFill>
              <a:latin typeface="Century Gothic"/>
            </a:endParaRPr>
          </a:p>
        </p:txBody>
      </p:sp>
      <p:pic>
        <p:nvPicPr>
          <p:cNvPr id="372" name="Picture 2" descr="\\washjeff.edu\shares\YR2012\cullsm\datastore\Desktop\cos0705fundates001-lh-small-new.jpg"/>
          <p:cNvPicPr/>
          <p:nvPr/>
        </p:nvPicPr>
        <p:blipFill>
          <a:blip r:embed="rId2"/>
          <a:stretch/>
        </p:blipFill>
        <p:spPr>
          <a:xfrm>
            <a:off x="5410080" y="35053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abl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prome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Ser positivo </a:t>
            </a:r>
            <a:endParaRPr b="0" lang="en-US" sz="3000" spc="-1" strike="noStrike">
              <a:solidFill>
                <a:srgbClr val="ffffff"/>
              </a:solidFill>
              <a:latin typeface="Century Gothic"/>
            </a:endParaRPr>
          </a:p>
        </p:txBody>
      </p:sp>
      <p:pic>
        <p:nvPicPr>
          <p:cNvPr id="375" name="Picture 2" descr="\\washjeff.edu\shares\YR2012\cullsm\datastore\Desktop\SettleDown_SMn.jpg"/>
          <p:cNvPicPr/>
          <p:nvPr/>
        </p:nvPicPr>
        <p:blipFill>
          <a:blip r:embed="rId2"/>
          <a:stretch/>
        </p:blipFill>
        <p:spPr>
          <a:xfrm>
            <a:off x="4800600" y="1676520"/>
            <a:ext cx="3300480" cy="3300120"/>
          </a:xfrm>
          <a:prstGeom prst="rect">
            <a:avLst/>
          </a:prstGeom>
          <a:ln w="0">
            <a:noFill/>
          </a:ln>
        </p:spPr>
      </p:pic>
      <p:pic>
        <p:nvPicPr>
          <p:cNvPr id="376" name="Picture 3" descr="\\washjeff.edu\shares\YR2012\cullsm\datastore\Desktop\cos0508howtofight001-lh-small-new.jpg"/>
          <p:cNvPicPr/>
          <p:nvPr/>
        </p:nvPicPr>
        <p:blipFill>
          <a:blip r:embed="rId3"/>
          <a:stretch/>
        </p:blipFill>
        <p:spPr>
          <a:xfrm>
            <a:off x="914400" y="38862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3" descr=""/>
          <p:cNvPicPr/>
          <p:nvPr/>
        </p:nvPicPr>
        <p:blipFill>
          <a:blip r:embed="rId1"/>
          <a:stretch/>
        </p:blipFill>
        <p:spPr>
          <a:xfrm>
            <a:off x="195120" y="262080"/>
            <a:ext cx="8498160" cy="1407960"/>
          </a:xfrm>
          <a:prstGeom prst="rect">
            <a:avLst/>
          </a:prstGeom>
          <a:ln w="0">
            <a:noFill/>
          </a:ln>
        </p:spPr>
      </p:pic>
      <p:sp>
        <p:nvSpPr>
          <p:cNvPr id="378"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Que quiere en un compañero o una compañera?</a:t>
            </a:r>
            <a:endParaRPr b="0" lang="en-US" sz="2600" spc="-1" strike="noStrike">
              <a:solidFill>
                <a:srgbClr val="ffffff"/>
              </a:solidFill>
              <a:latin typeface="Century Gothic"/>
            </a:endParaRPr>
          </a:p>
        </p:txBody>
      </p:sp>
      <p:sp>
        <p:nvSpPr>
          <p:cNvPr id="379"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Cual es la mas importante cosa en una relación para usted?</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1:07:10Z</dcterms:created>
  <dc:creator>cullsm</dc:creator>
  <dc:description/>
  <dc:language>en-US</dc:language>
  <cp:lastModifiedBy>cullsm</cp:lastModifiedBy>
  <dcterms:modified xsi:type="dcterms:W3CDTF">2009-12-11T02:57:22Z</dcterms:modified>
  <cp:revision>12</cp:revision>
  <dc:subject/>
  <dc:title>Relaciones</dc:title>
</cp:coreProperties>
</file>