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8.png" ContentType="image/png"/>
  <Override PartName="/ppt/media/image14.jpeg" ContentType="image/jpeg"/>
  <Override PartName="/ppt/media/image21.png" ContentType="image/png"/>
  <Override PartName="/ppt/media/image20.jpeg" ContentType="image/jpeg"/>
  <Override PartName="/ppt/media/image15.jpeg" ContentType="image/jpeg"/>
  <Override PartName="/ppt/media/image16.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2988-7A2F-4E26-9049-66B3AAEE3FEC}" type="slidenum">
              <a:rPr b="0" lang="es-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muy importante que una relación tiene todos de estos. </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3D8E-0EDB-4CBD-B96B-9A45CF259141}"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importante que mantener una relación que es interesante. Necesita pasa tiempo juntos pero es importante que mantiene las relaciones con los amigos. </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FF0E-8C6F-4F56-8278-687B7EB0B18A}"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Hoy muchas personas siempre tienen los teléfonos celulares, o siempre quieren usar la computador para el correo electrónico. Necesita apagar los electrónicos y pasa tiempo juntos sin los por una noche. Especialmente facebook. Los científicos dicen que facebook causa celosos en relaciones.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9192-20CE-4445-A2E4-959A3C6A26DD}"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Porque personas tienen mucho estrés durante un mal económico hay muchos ideas para ahorra dinero. Muchas de las playas son gratis también los conciertos. Si el tiempo es bueno hace un picnic en un parque.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E1AE-8056-46B0-A883-49A6CF1F669B}"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importante que ustedes comunican cuando tener problemas. También los compromisos crean un relación sano. Cuando usted es positivo eso ayuda porque su compañero no siente como es un ataca.  </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F4FA-266D-4143-A9B7-3A2FBDC4D1B6}"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066D6-3B66-47B2-B11E-F8DCA67C6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35F3-8FAA-4FE2-B7B7-1638845E2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0A4F1-BB7D-4FA8-9272-663A6CA45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8C8F3-9B99-469F-8888-550883E9B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C45EA-7B1B-4407-BB15-647012CD0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27CA7-EF1F-4EC1-B707-93838BC56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6B3C1-B606-4554-83E8-34B5ECD70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938D2-CD51-4F0D-89C1-213A6874D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E8E29-DBC2-4EE7-9414-925FA299B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43238-09FF-4CBB-81FD-29645B48E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18D43-0F53-42B0-AE8F-267767E41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A1BDC-EC2C-4B68-A1D4-697191AFF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29CE7-8053-4657-9183-5C1C560AB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1AF85-F4E1-4687-9CB8-DD0B620B3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2039C-00ED-4D39-ACDA-10E3ACC4D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95195-98C2-47C9-9498-B7BC70FDF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31A54-1D1A-432A-BCC4-64860E6C3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C217B4-455F-4491-A383-2B09DEF902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216D0-C4A7-464D-B9F1-0F065261E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05BB8-6306-4BD0-AE4D-296EC17A32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5C0F2-4E26-4C78-B965-7229D5422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F02F2-7596-4020-A773-8CA79A39C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B0A03-BE15-4004-9D18-FBADBC77B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2A6B68-6D9D-4D04-8EA0-75AF18DE3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80264-7530-4391-B7C7-8727BB879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E0AC3-F833-4E4C-848C-68FDA1C81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BA334-EE78-4E98-AEE7-94DC3B2C1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022932-6DF6-4532-B5C6-E8D8EF39B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DF4677-5567-4641-9DCF-FEE2CF324C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62C398-D338-48BA-BC47-34829B52F1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C85C38-9B0F-4FAC-8CDB-2AB951084C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B30BD-09C1-476F-AC70-542ADA0FA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E53F7-5913-4CC0-A4D8-BA1C8C5CA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EF1F9-841B-4511-8D49-598C342C6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BDF766-BD3C-480B-AF8E-B48154BA8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58C73-5E5C-4198-BF77-E70988916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7CC118-C5CB-48D2-B4D6-8C2F1687C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34208B-7FC3-4437-999F-CE6C899D0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67CE4-580A-426D-9BCE-77EC51C9C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36DA1-EE27-49C7-945B-8A721BD8E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C95F5D-74C8-4708-AB75-9593387553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EABF73-851D-4909-B8FA-1947D8ABCE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30FB20-58D0-410A-B369-4583FF7819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210CE5-8FB8-4677-BF78-E7BA0B92DB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BDF70-9683-4F7B-A077-6C1C48E60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31CE38-FE25-432D-AC5B-DB4D4A804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A0C70A-F4AE-46FA-B3A0-3663537678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C2805-D5C9-49C8-83DC-10C2B71DD6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EBD5D6-7EAE-456C-B364-3ACC034B82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D2B22-8356-4C1E-A7AA-75F80E5C56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75BB5-728E-4861-AF1D-C8AC34939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47FBB-9A0E-4184-9DE5-2DE3ACEEF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5F680-9A13-45E4-A799-EA6642E54A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0148B3-171D-4012-80BE-12A1A4D62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C3E8AD-FC34-486A-B6F1-3E90A667FC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F00BD-712A-4710-8596-C29786926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10C617-6A67-4C0D-9C5C-793CEC6DA9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8E4054-743D-4174-A4CC-371B1CF476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5EC954-54C0-4FBB-91E8-49F5856A5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BA8AA8-63FB-4513-9D53-B0221561EF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1F54BE-A497-4423-B59F-50183A813A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2CB906-BDA4-4FBE-8FB6-7EF47C810F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CEB189-EB9A-4750-86FD-6AD5CE9B4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C8D45F-A9EC-400F-8425-5D9FE5A7F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3CA61A-AAD3-484E-9A67-734161C88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CE4C0E-F87A-4A92-8380-CE3F2EBC0D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EE39B-356B-4C68-91F3-7890561AA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F6F79-B8A1-490D-B488-E87C1C064A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D13619-E93B-4497-9908-957088D142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55DC28-51B1-4725-97F6-179306EF0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3981CC-5352-4A80-8D8F-BD4D800DA1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C45BC5-98CA-41D0-A09E-711863E621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DACB89-0A10-46AE-8E61-F7E0D35970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941A13-3B2C-48CF-99FE-59F1223870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DBB674-0E30-487A-819D-3A2EC0280C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35057E-268F-4C4E-866E-7C20B475D9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308F6-4582-4A9B-9128-C67E91CF4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FCD90-C0BA-469F-BFFF-98A5C870C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64D7F-CA0E-4A04-95FD-5446B3DA2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75205A-7DAD-4ADA-A377-F90F037225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CD2B0C-6298-4185-94ED-21DD7FEDEA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325306-A518-4A5E-8007-15B34D6572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E22F3A-796D-418D-BC14-144B213DE3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2ED6FF-8977-406A-85C5-1BAE26A5D2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D2BB28-67EC-460B-B714-62D7D3AC15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EED750-71E0-4B29-A435-1E77847A64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0BD022-8B2B-4658-9103-DB6F3A88A0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58A2F5-36E3-4305-A8DE-1418E645BC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5693-6E2D-4EBE-BB28-A42DDF5A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E640C0-B3E4-4A97-8C75-EBB1178493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E902E-D6DA-428F-8FF2-2431FAD58D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6472A9-E672-447C-A6C5-B01682A93C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00969D-6F87-44A8-B3F9-1FA9FC1CA3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7357FD-C656-4FEA-8DAD-BE79AAAB85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658339-B391-4E44-8A0A-24309B60D6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9BCF22-CDE4-43E2-A67A-935221B15C7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DC39-6B3B-4682-888C-7D6F4BB0C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025D-954B-4283-8709-AB5CBAAB9266}"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8B14-FE09-4359-A3F7-83A1C3DEF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6592-D692-431B-BF5B-3713385FE9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5A50-C0C7-447B-9E97-EB3037454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9248-A9D8-439F-8D94-C059A8CB4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0D51-9BE3-4C7A-B721-59FD82EC3509}"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6EDF-6E6A-447C-BA2C-65F25361B9A1}"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536400" y="652320"/>
            <a:ext cx="8326440" cy="1597320"/>
          </a:xfrm>
          <a:prstGeom prst="rect">
            <a:avLst/>
          </a:prstGeom>
          <a:ln w="0">
            <a:noFill/>
          </a:ln>
        </p:spPr>
      </p:pic>
      <p:pic>
        <p:nvPicPr>
          <p:cNvPr id="353" name="Subtitle 2"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0720" y="122400"/>
            <a:ext cx="8242560" cy="154764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nfianz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Respeto</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municació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Honradez</a:t>
            </a:r>
            <a:endParaRPr b="0" lang="en-US" sz="3000" spc="-1" strike="noStrike">
              <a:solidFill>
                <a:srgbClr val="ffffff"/>
              </a:solidFill>
              <a:latin typeface="Century Gothic"/>
            </a:endParaRPr>
          </a:p>
        </p:txBody>
      </p:sp>
      <p:pic>
        <p:nvPicPr>
          <p:cNvPr id="356" name="Picture 4" descr="\\washjeff.edu\shares\YR2012\cullsm\datastore\Desktop\cos1207relationtips001-lh-small-new.jpg"/>
          <p:cNvPicPr/>
          <p:nvPr/>
        </p:nvPicPr>
        <p:blipFill>
          <a:blip r:embed="rId2"/>
          <a:stretch/>
        </p:blipFill>
        <p:spPr>
          <a:xfrm>
            <a:off x="3962520" y="990720"/>
            <a:ext cx="2209680" cy="2209680"/>
          </a:xfrm>
          <a:prstGeom prst="rect">
            <a:avLst/>
          </a:prstGeom>
          <a:ln w="0">
            <a:noFill/>
          </a:ln>
        </p:spPr>
      </p:pic>
      <p:pic>
        <p:nvPicPr>
          <p:cNvPr id="357" name="Picture 5" descr="\\washjeff.edu\shares\YR2012\cullsm\datastore\Desktop\COS1104WDY001-de-small-new.jpg"/>
          <p:cNvPicPr/>
          <p:nvPr/>
        </p:nvPicPr>
        <p:blipFill>
          <a:blip r:embed="rId3"/>
          <a:stretch/>
        </p:blipFill>
        <p:spPr>
          <a:xfrm>
            <a:off x="3124080" y="4191120"/>
            <a:ext cx="2360880" cy="2360520"/>
          </a:xfrm>
          <a:prstGeom prst="rect">
            <a:avLst/>
          </a:prstGeom>
          <a:ln w="0">
            <a:noFill/>
          </a:ln>
        </p:spPr>
      </p:pic>
      <p:pic>
        <p:nvPicPr>
          <p:cNvPr id="358" name="Picture 6" descr="\\washjeff.edu\shares\YR2012\cullsm\datastore\Desktop\wanted-to-do-smn.jpg"/>
          <p:cNvPicPr/>
          <p:nvPr/>
        </p:nvPicPr>
        <p:blipFill>
          <a:blip r:embed="rId4"/>
          <a:stretch/>
        </p:blipFill>
        <p:spPr>
          <a:xfrm>
            <a:off x="6553080" y="2438280"/>
            <a:ext cx="2291040" cy="229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washjeff.edu\shares\YR2012\cullsm\datastore\Desktop\images.jpg"/>
          <p:cNvPicPr/>
          <p:nvPr/>
        </p:nvPicPr>
        <p:blipFill>
          <a:blip r:embed="rId1"/>
          <a:stretch/>
        </p:blipFill>
        <p:spPr>
          <a:xfrm>
            <a:off x="6477120" y="228600"/>
            <a:ext cx="2203200" cy="2239920"/>
          </a:xfrm>
          <a:prstGeom prst="rect">
            <a:avLst/>
          </a:prstGeom>
          <a:ln w="0">
            <a:noFill/>
          </a:ln>
        </p:spPr>
      </p:pic>
      <p:pic>
        <p:nvPicPr>
          <p:cNvPr id="360" name="Title 1" descr=""/>
          <p:cNvPicPr/>
          <p:nvPr/>
        </p:nvPicPr>
        <p:blipFill>
          <a:blip r:embed="rId2"/>
          <a:stretch/>
        </p:blipFill>
        <p:spPr>
          <a:xfrm>
            <a:off x="450720" y="262080"/>
            <a:ext cx="8242560" cy="1407960"/>
          </a:xfrm>
          <a:prstGeom prst="rect">
            <a:avLst/>
          </a:prstGeom>
          <a:ln w="0">
            <a:noFill/>
          </a:ln>
        </p:spPr>
      </p:pic>
      <p:sp>
        <p:nvSpPr>
          <p:cNvPr id="36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Pasa tiempo juntos</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Hace los recados o el trabajo de la casa</a:t>
            </a:r>
            <a:endParaRPr b="0" lang="en-US" sz="26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Pasa tiempo con los amigos</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Introduce una a otro de sus amigos. </a:t>
            </a:r>
            <a:endParaRPr b="0" lang="en-US" sz="2600" spc="-1" strike="noStrike">
              <a:solidFill>
                <a:srgbClr val="ffffff"/>
              </a:solidFill>
              <a:latin typeface="Century Gothic"/>
            </a:endParaRPr>
          </a:p>
        </p:txBody>
      </p:sp>
      <p:pic>
        <p:nvPicPr>
          <p:cNvPr id="362" name="Picture 3" descr="\\washjeff.edu\shares\YR2012\cullsm\datastore\Desktop\laundry-de-small_new.jpg"/>
          <p:cNvPicPr/>
          <p:nvPr/>
        </p:nvPicPr>
        <p:blipFill>
          <a:blip r:embed="rId3"/>
          <a:stretch/>
        </p:blipFill>
        <p:spPr>
          <a:xfrm>
            <a:off x="1447920" y="4419720"/>
            <a:ext cx="1828800" cy="1828800"/>
          </a:xfrm>
          <a:prstGeom prst="rect">
            <a:avLst/>
          </a:prstGeom>
          <a:ln w="0">
            <a:noFill/>
          </a:ln>
        </p:spPr>
      </p:pic>
      <p:pic>
        <p:nvPicPr>
          <p:cNvPr id="363" name="Picture 4" descr="\\washjeff.edu\shares\YR2012\cullsm\datastore\Desktop\images.jpg"/>
          <p:cNvPicPr/>
          <p:nvPr/>
        </p:nvPicPr>
        <p:blipFill>
          <a:blip r:embed="rId4"/>
          <a:stretch/>
        </p:blipFill>
        <p:spPr>
          <a:xfrm>
            <a:off x="5486400" y="4343400"/>
            <a:ext cx="2058840" cy="20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450720" y="262080"/>
            <a:ext cx="8242560" cy="1407960"/>
          </a:xfrm>
          <a:prstGeom prst="rect">
            <a:avLst/>
          </a:prstGeom>
          <a:ln w="0">
            <a:noFill/>
          </a:ln>
        </p:spPr>
      </p:pic>
      <p:sp>
        <p:nvSpPr>
          <p:cNvPr id="36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os teléfonos celular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s computadoras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 televisión </a:t>
            </a:r>
            <a:endParaRPr b="0" lang="en-US" sz="3000" spc="-1" strike="noStrike">
              <a:solidFill>
                <a:srgbClr val="ffffff"/>
              </a:solidFill>
              <a:latin typeface="Century Gothic"/>
            </a:endParaRPr>
          </a:p>
        </p:txBody>
      </p:sp>
      <p:pic>
        <p:nvPicPr>
          <p:cNvPr id="366" name="Picture 2" descr="\\washjeff.edu\shares\YR2012\cullsm\datastore\Desktop\images.jpg"/>
          <p:cNvPicPr/>
          <p:nvPr/>
        </p:nvPicPr>
        <p:blipFill>
          <a:blip r:embed="rId2"/>
          <a:stretch/>
        </p:blipFill>
        <p:spPr>
          <a:xfrm>
            <a:off x="5791320" y="1219320"/>
            <a:ext cx="2743200" cy="1523880"/>
          </a:xfrm>
          <a:prstGeom prst="rect">
            <a:avLst/>
          </a:prstGeom>
          <a:ln w="0">
            <a:noFill/>
          </a:ln>
        </p:spPr>
      </p:pic>
      <p:pic>
        <p:nvPicPr>
          <p:cNvPr id="367" name="Picture 5" descr="\\washjeff.edu\shares\YR2012\cullsm\datastore\Desktop\images.jpg"/>
          <p:cNvPicPr/>
          <p:nvPr/>
        </p:nvPicPr>
        <p:blipFill>
          <a:blip r:embed="rId3"/>
          <a:stretch/>
        </p:blipFill>
        <p:spPr>
          <a:xfrm>
            <a:off x="28440" y="3657600"/>
            <a:ext cx="2362320" cy="2362320"/>
          </a:xfrm>
          <a:prstGeom prst="rect">
            <a:avLst/>
          </a:prstGeom>
          <a:ln w="0">
            <a:noFill/>
          </a:ln>
        </p:spPr>
      </p:pic>
      <p:pic>
        <p:nvPicPr>
          <p:cNvPr id="368" name="Picture 6" descr="\\washjeff.edu\shares\YR2012\cullsm\datastore\Desktop\images.jpg"/>
          <p:cNvPicPr/>
          <p:nvPr/>
        </p:nvPicPr>
        <p:blipFill>
          <a:blip r:embed="rId4"/>
          <a:stretch/>
        </p:blipFill>
        <p:spPr>
          <a:xfrm>
            <a:off x="3276720" y="3809880"/>
            <a:ext cx="2684520" cy="2346480"/>
          </a:xfrm>
          <a:prstGeom prst="rect">
            <a:avLst/>
          </a:prstGeom>
          <a:ln w="0">
            <a:noFill/>
          </a:ln>
        </p:spPr>
      </p:pic>
      <p:pic>
        <p:nvPicPr>
          <p:cNvPr id="369" name="Picture 7" descr="\\washjeff.edu\shares\YR2012\cullsm\datastore\Desktop\ipod-de-small_new.jpg"/>
          <p:cNvPicPr/>
          <p:nvPr/>
        </p:nvPicPr>
        <p:blipFill>
          <a:blip r:embed="rId5"/>
          <a:stretch/>
        </p:blipFill>
        <p:spPr>
          <a:xfrm>
            <a:off x="6629400" y="3962520"/>
            <a:ext cx="2103480" cy="210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262080"/>
            <a:ext cx="8242560" cy="140796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En un mal económico</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Personas trabajan más horas porque quieren más dinero. </a:t>
            </a:r>
            <a:endParaRPr b="0" lang="en-US" sz="26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 play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Un concierto</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Un picnic</a:t>
            </a:r>
            <a:endParaRPr b="0" lang="en-US" sz="3000" spc="-1" strike="noStrike">
              <a:solidFill>
                <a:srgbClr val="ffffff"/>
              </a:solidFill>
              <a:latin typeface="Century Gothic"/>
            </a:endParaRPr>
          </a:p>
        </p:txBody>
      </p:sp>
      <p:pic>
        <p:nvPicPr>
          <p:cNvPr id="372" name="Picture 2" descr="\\washjeff.edu\shares\YR2012\cullsm\datastore\Desktop\cos0705fundates001-lh-small-new.jpg"/>
          <p:cNvPicPr/>
          <p:nvPr/>
        </p:nvPicPr>
        <p:blipFill>
          <a:blip r:embed="rId2"/>
          <a:stretch/>
        </p:blipFill>
        <p:spPr>
          <a:xfrm>
            <a:off x="5410080" y="3505320"/>
            <a:ext cx="2590920" cy="259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262080"/>
            <a:ext cx="8242560" cy="1407960"/>
          </a:xfrm>
          <a:prstGeom prst="rect">
            <a:avLst/>
          </a:prstGeom>
          <a:ln w="0">
            <a:noFill/>
          </a:ln>
        </p:spPr>
      </p:pic>
      <p:sp>
        <p:nvSpPr>
          <p:cNvPr id="37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Habla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mpromete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Ser positivo </a:t>
            </a:r>
            <a:endParaRPr b="0" lang="en-US" sz="3000" spc="-1" strike="noStrike">
              <a:solidFill>
                <a:srgbClr val="ffffff"/>
              </a:solidFill>
              <a:latin typeface="Century Gothic"/>
            </a:endParaRPr>
          </a:p>
        </p:txBody>
      </p:sp>
      <p:pic>
        <p:nvPicPr>
          <p:cNvPr id="375" name="Picture 2" descr="\\washjeff.edu\shares\YR2012\cullsm\datastore\Desktop\SettleDown_SMn.jpg"/>
          <p:cNvPicPr/>
          <p:nvPr/>
        </p:nvPicPr>
        <p:blipFill>
          <a:blip r:embed="rId2"/>
          <a:stretch/>
        </p:blipFill>
        <p:spPr>
          <a:xfrm>
            <a:off x="4800600" y="1676520"/>
            <a:ext cx="3300480" cy="3300120"/>
          </a:xfrm>
          <a:prstGeom prst="rect">
            <a:avLst/>
          </a:prstGeom>
          <a:ln w="0">
            <a:noFill/>
          </a:ln>
        </p:spPr>
      </p:pic>
      <p:pic>
        <p:nvPicPr>
          <p:cNvPr id="376" name="Picture 3" descr="\\washjeff.edu\shares\YR2012\cullsm\datastore\Desktop\cos0508howtofight001-lh-small-new.jpg"/>
          <p:cNvPicPr/>
          <p:nvPr/>
        </p:nvPicPr>
        <p:blipFill>
          <a:blip r:embed="rId3"/>
          <a:stretch/>
        </p:blipFill>
        <p:spPr>
          <a:xfrm>
            <a:off x="914400" y="3886200"/>
            <a:ext cx="2205000" cy="220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3" descr=""/>
          <p:cNvPicPr/>
          <p:nvPr/>
        </p:nvPicPr>
        <p:blipFill>
          <a:blip r:embed="rId1"/>
          <a:stretch/>
        </p:blipFill>
        <p:spPr>
          <a:xfrm>
            <a:off x="195120" y="262080"/>
            <a:ext cx="8498160" cy="1407960"/>
          </a:xfrm>
          <a:prstGeom prst="rect">
            <a:avLst/>
          </a:prstGeom>
          <a:ln w="0">
            <a:noFill/>
          </a:ln>
        </p:spPr>
      </p:pic>
      <p:sp>
        <p:nvSpPr>
          <p:cNvPr id="378"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 Que quiere en un compañero o una compañera?</a:t>
            </a:r>
            <a:endParaRPr b="0" lang="en-US" sz="2600" spc="-1" strike="noStrike">
              <a:solidFill>
                <a:srgbClr val="ffffff"/>
              </a:solidFill>
              <a:latin typeface="Century Gothic"/>
            </a:endParaRPr>
          </a:p>
        </p:txBody>
      </p:sp>
      <p:sp>
        <p:nvSpPr>
          <p:cNvPr id="379"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 Cual es la mas importante cosa en una relación para usted?</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1:07:10Z</dcterms:created>
  <dc:creator>cullsm</dc:creator>
  <dc:description/>
  <dc:language>en-US</dc:language>
  <cp:lastModifiedBy>cullsm</cp:lastModifiedBy>
  <dcterms:modified xsi:type="dcterms:W3CDTF">2009-12-11T02:57:22Z</dcterms:modified>
  <cp:revision>12</cp:revision>
  <dc:subject/>
  <dc:title>Relaciones</dc:title>
</cp:coreProperties>
</file>