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95B-7D1C-43F5-8C16-60F6EA59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351-5035-427F-AD6A-E24E2FF6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E41-BC01-4352-BED7-890F2608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3C3-E648-4C80-A47D-9C4018E6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CAD6-6B28-4009-BD6F-72700FE8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FB69-193A-4A6D-811B-685A52B4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A4B4-65C0-487D-A26C-5BACD8F8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54E1-24D5-4B84-B140-F966C489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9051-A516-490E-9622-7320F20B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7B67-3025-4BF6-BDEF-FC964331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4E69-8CC4-4F81-BFA4-A470FCA9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780-FB41-4187-9E59-FD44DBB9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8CA4-2B50-4521-8A40-1480F37F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4C4-B2DD-43C2-AAB9-49C3C45F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FFA9-A551-49A8-9478-647286CE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76C4-9A9D-4050-9124-9D4CFC90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32E1-8EA1-4139-B58E-B21974DF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51B-7947-4E9C-8820-81C68FD5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339-F1B0-4D86-8E74-AA02E1EB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9E3-D32F-41A9-988C-E4E49194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AF2-8A61-497E-B6DA-A008359E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355-E085-4460-BEF7-2D4B89A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7CC-6602-4BA0-9D97-963CFF9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FE6-4085-47B1-9784-4331A70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35E-EFAD-41A0-853A-FF6E39E3C8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4B7B-2097-4471-A4BB-1529C05181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SklJCZ40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Anthony Bourdain: 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cocinero famoso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1440" y="54100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de Sara Kiss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3814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Su historia persona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nthony Michael Bourdain o "Tony" Bourda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Junio  25, 195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Universidad de Vassar y Instituto Culinario Americ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Les Hal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Sus matrimon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cociner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trabajó en muchas restaurantes cuando era jo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ogró muchas restaurantes en Nuevo Y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Club de la Cena,  Uno Cinco Avenida  y  Sullivan'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es Hal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495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바탕"/>
              </a:rPr>
              <a:t>Los platos mejores a Les Hall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 y steak fr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complicado de carne y frijoles con muchos vegetales, hierbas, especias y carnes tal como pato y ce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Steak fri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simple de carne y patat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Cassoulet"/>
          <p:cNvPicPr/>
          <p:nvPr/>
        </p:nvPicPr>
        <p:blipFill>
          <a:blip r:embed="rId1"/>
          <a:stretch/>
        </p:blipFill>
        <p:spPr>
          <a:xfrm>
            <a:off x="4267080" y="1447920"/>
            <a:ext cx="238284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72320" y="3581280"/>
            <a:ext cx="210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escrito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520" y="12952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l primero libro de ficción es 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Hueso en la garganta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 (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Bone in the Throat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Ido de bambú 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Gone Bamboo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)  y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 Bobby G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Libro no de ficción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s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Cocina Confidencial: Aventuras en el vientre culinario (Kitchen Confidenti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no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El viaje de un Cocinero (A Cook’s Tour), Typhoid Mary: Un histórico urbano, Libro de recetas del Anthony Bourdain a Les Halles, Los partes horribles y No reservas (No Reservatio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TB_Image" descr="&lt;br/&gt;&lt;a href=&quot;http://i20.tinypic.com/igdyf6.jpg&quot; target=&quot;_blank&quot;&gt;View Raw Image&lt;/a&gt;"/>
          <p:cNvPicPr/>
          <p:nvPr/>
        </p:nvPicPr>
        <p:blipFill>
          <a:blip r:embed="rId2"/>
          <a:stretch/>
        </p:blipFill>
        <p:spPr>
          <a:xfrm>
            <a:off x="1828800" y="3581280"/>
            <a:ext cx="28576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la televisió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e le ofreció un programa en 2002 del Food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El viaje de un Cocinero (A Cook’s Tou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u programa más famoso es 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Anthony Bourdain: No reservas 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No Reservations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) en el Travel Channel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Lo es un programma de comida y via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episodio fue nominado para un Em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Hay muchas invitados famosos en el program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32767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Ahora, un video de </a:t>
            </a:r>
            <a:r>
              <a:rPr b="0" i="1" lang="en-US" sz="3600" spc="-1" strike="noStrike">
                <a:solidFill>
                  <a:srgbClr val="ffffcc"/>
                </a:solidFill>
                <a:latin typeface="바탕"/>
              </a:rPr>
              <a:t>No reserva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SklJCZ40V0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48:55Z</dcterms:created>
  <dc:creator>Sara</dc:creator>
  <dc:description/>
  <dc:language>en-US</dc:language>
  <cp:lastModifiedBy>Sara</cp:lastModifiedBy>
  <dcterms:modified xsi:type="dcterms:W3CDTF">2009-10-01T22:00:37Z</dcterms:modified>
  <cp:revision>22</cp:revision>
  <dc:subject/>
  <dc:title>Anthony Bourdain:  Cocinero Famoso</dc:title>
</cp:coreProperties>
</file>