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821CF-8A67-406D-8BA5-972749803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AB48A-03B2-420C-9F49-37BEE6784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0BFB5-75ED-4CF8-A391-F28F7FD2F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64267-A274-4DD1-9853-457B3ED44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91722-BC07-42FA-911F-2DB38EE57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55E86-1D0D-422D-9424-77AFFEAA1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66DB2-737D-4662-8B57-2F18686C1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9FBF0-05CC-448B-A13F-F59252398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B7473-15D9-4E27-974D-9B83864E1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078DD-A440-4719-B0DC-4E4BC0122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ECFAE-4C49-4974-BF10-2165BA06F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DB61F-9CBC-439C-9577-90E43FA3A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B12B7-680F-4D0D-8DB2-46E5AED20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2D238-77AE-4F94-A764-5D70740A1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B9F94-E760-4754-B4F5-F3FC6915E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4B3AA-3DB7-4C25-B75A-794B11AC7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95CC2-B1C2-4AB0-AEA2-EE8EA124B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28956-1595-41CD-8E8C-DAAA26DC4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9971C-B6A2-4D70-807C-55E2B54BE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4E9D2-6221-46EC-B38D-EAD921A81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DDBB9-7CCF-485C-8CBA-68DC4AE28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99CF8-FF9D-440D-83AE-07DCFE24B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69663-BF88-4932-9776-F83BC62CA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2533D-DD6F-4607-B057-FB680F996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BAA57-2F56-44F3-8E50-3C51C2F8EB3A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A4C32-D675-4C5E-B27A-7936E04739DE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ZSklJCZ40V0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792504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cc"/>
                </a:solidFill>
                <a:latin typeface="바탕"/>
              </a:rPr>
              <a:t>Anthony Bourdain: </a:t>
            </a:r>
            <a:br>
              <a:rPr sz="6600"/>
            </a:br>
            <a:r>
              <a:rPr b="0" lang="en-US" sz="6600" spc="-1" strike="noStrike">
                <a:solidFill>
                  <a:srgbClr val="ffffcc"/>
                </a:solidFill>
                <a:latin typeface="바탕"/>
              </a:rPr>
              <a:t>cocinero famoso</a:t>
            </a:r>
            <a:endParaRPr b="0" lang="en-US" sz="6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971440" y="5410080"/>
            <a:ext cx="3429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바탕"/>
              </a:rPr>
              <a:t>de Sara Kissel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3581280" y="2438280"/>
            <a:ext cx="2381400" cy="26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바탕"/>
              </a:rPr>
              <a:t>Su historia personal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바탕"/>
              </a:rPr>
              <a:t>Anthony Michael Bourdain o "Tony" Bourdain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바탕"/>
              </a:rPr>
              <a:t>Junio  25, 1956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바탕"/>
              </a:rPr>
              <a:t>Universidad de Vassar y Instituto Culinario American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바탕"/>
              </a:rPr>
              <a:t>Les Hal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바탕"/>
              </a:rPr>
              <a:t>Sus matrimoni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952880" y="1828800"/>
            <a:ext cx="350532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600" spc="-1" strike="noStrike">
                <a:solidFill>
                  <a:srgbClr val="ffffcc"/>
                </a:solidFill>
                <a:latin typeface="바탕"/>
              </a:rPr>
              <a:t>Su carrera de un cocinero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876560" y="1523520"/>
            <a:ext cx="38862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바탕"/>
              </a:rPr>
              <a:t>Franci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바탕"/>
              </a:rPr>
              <a:t>trabajó en muchas restaurantes cuando era jov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바탕"/>
              </a:rPr>
              <a:t>logró muchas restaurantes en Nuevo York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Batang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바탕"/>
              </a:rPr>
              <a:t>Club de la Cena,  Uno Cinco Avenida  y  Sullivan'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바탕"/>
              </a:rPr>
              <a:t>Les Halle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304920" y="1752480"/>
            <a:ext cx="4495680" cy="32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바탕"/>
              </a:rPr>
              <a:t>Los platos mejores a Les Halles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62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fffff"/>
                </a:solidFill>
                <a:latin typeface="바탕"/>
              </a:rPr>
              <a:t>Cassoulet y steak frit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fffff"/>
                </a:solidFill>
                <a:latin typeface="바탕"/>
              </a:rPr>
              <a:t>Cassoulet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Batang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바탕"/>
              </a:rPr>
              <a:t>un plato complicado de carne y frijoles con muchos vegetales, hierbas, especias y carnes tal como pato y cerd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fffff"/>
                </a:solidFill>
                <a:latin typeface="바탕"/>
              </a:rPr>
              <a:t>Steak frite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Batang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바탕"/>
              </a:rPr>
              <a:t>un plato simple de carne y patatas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" descr="Cassoulet"/>
          <p:cNvPicPr/>
          <p:nvPr/>
        </p:nvPicPr>
        <p:blipFill>
          <a:blip r:embed="rId1"/>
          <a:stretch/>
        </p:blipFill>
        <p:spPr>
          <a:xfrm>
            <a:off x="4267080" y="1447920"/>
            <a:ext cx="2382840" cy="24382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6772320" y="3581280"/>
            <a:ext cx="210024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600" spc="-1" strike="noStrike">
                <a:solidFill>
                  <a:srgbClr val="ffffcc"/>
                </a:solidFill>
                <a:latin typeface="바탕"/>
              </a:rPr>
              <a:t>Su carrera de un escritor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952520" y="1295280"/>
            <a:ext cx="3962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바탕"/>
              </a:rPr>
              <a:t>El primero libro de ficción es </a:t>
            </a:r>
            <a:r>
              <a:rPr b="0" i="1" lang="es-ES" sz="1800" spc="-1" strike="noStrike">
                <a:solidFill>
                  <a:srgbClr val="ffffff"/>
                </a:solidFill>
                <a:latin typeface="바탕"/>
              </a:rPr>
              <a:t>Hueso en la garganta</a:t>
            </a:r>
            <a:r>
              <a:rPr b="0" lang="es-ES" sz="1800" spc="-1" strike="noStrike">
                <a:solidFill>
                  <a:srgbClr val="ffffff"/>
                </a:solidFill>
                <a:latin typeface="바탕"/>
              </a:rPr>
              <a:t> (</a:t>
            </a:r>
            <a:r>
              <a:rPr b="0" i="1" lang="es-ES" sz="1800" spc="-1" strike="noStrike">
                <a:solidFill>
                  <a:srgbClr val="ffffff"/>
                </a:solidFill>
                <a:latin typeface="바탕"/>
              </a:rPr>
              <a:t>Bone in the Throat</a:t>
            </a:r>
            <a:r>
              <a:rPr b="0" lang="es-ES" sz="1800" spc="-1" strike="noStrike">
                <a:solidFill>
                  <a:srgbClr val="ffffff"/>
                </a:solidFill>
                <a:latin typeface="바탕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800" spc="-1" strike="noStrike">
                <a:solidFill>
                  <a:srgbClr val="ffffff"/>
                </a:solidFill>
                <a:latin typeface="바탕"/>
              </a:rPr>
              <a:t>Otros libros de ficci</a:t>
            </a:r>
            <a:r>
              <a:rPr b="0" lang="es-ES" sz="1800" spc="-1" strike="noStrike">
                <a:solidFill>
                  <a:srgbClr val="ffffff"/>
                </a:solidFill>
                <a:latin typeface="바탕"/>
              </a:rPr>
              <a:t>ó</a:t>
            </a:r>
            <a:r>
              <a:rPr b="0" lang="en" sz="1800" spc="-1" strike="noStrike">
                <a:solidFill>
                  <a:srgbClr val="ffffff"/>
                </a:solidFill>
                <a:latin typeface="바탕"/>
              </a:rPr>
              <a:t>n son </a:t>
            </a:r>
            <a:r>
              <a:rPr b="0" i="1" lang="en" sz="1800" spc="-1" strike="noStrike">
                <a:solidFill>
                  <a:srgbClr val="ffffff"/>
                </a:solidFill>
                <a:latin typeface="바탕"/>
              </a:rPr>
              <a:t>Ido de bambú </a:t>
            </a:r>
            <a:r>
              <a:rPr b="0" lang="en" sz="1800" spc="-1" strike="noStrike">
                <a:solidFill>
                  <a:srgbClr val="ffffff"/>
                </a:solidFill>
                <a:latin typeface="바탕"/>
              </a:rPr>
              <a:t>(</a:t>
            </a:r>
            <a:r>
              <a:rPr b="0" i="1" lang="en" sz="1800" spc="-1" strike="noStrike">
                <a:solidFill>
                  <a:srgbClr val="ffffff"/>
                </a:solidFill>
                <a:latin typeface="바탕"/>
              </a:rPr>
              <a:t>Gone Bamboo</a:t>
            </a:r>
            <a:r>
              <a:rPr b="0" lang="en" sz="1800" spc="-1" strike="noStrike">
                <a:solidFill>
                  <a:srgbClr val="ffffff"/>
                </a:solidFill>
                <a:latin typeface="바탕"/>
              </a:rPr>
              <a:t>)  y </a:t>
            </a:r>
            <a:r>
              <a:rPr b="0" i="1" lang="en" sz="1800" spc="-1" strike="noStrike">
                <a:solidFill>
                  <a:srgbClr val="ffffff"/>
                </a:solidFill>
                <a:latin typeface="바탕"/>
              </a:rPr>
              <a:t> Bobby Gol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바탕"/>
              </a:rPr>
              <a:t>Libro no de ficción</a:t>
            </a:r>
            <a:r>
              <a:rPr b="0" i="1" lang="es-ES" sz="1800" spc="-1" strike="noStrike">
                <a:solidFill>
                  <a:srgbClr val="ffffff"/>
                </a:solidFill>
                <a:latin typeface="바탕"/>
              </a:rPr>
              <a:t> </a:t>
            </a:r>
            <a:r>
              <a:rPr b="0" lang="es-ES" sz="1800" spc="-1" strike="noStrike">
                <a:solidFill>
                  <a:srgbClr val="ffffff"/>
                </a:solidFill>
                <a:latin typeface="바탕"/>
              </a:rPr>
              <a:t>es</a:t>
            </a:r>
            <a:r>
              <a:rPr b="0" i="1" lang="es-ES" sz="1800" spc="-1" strike="noStrike">
                <a:solidFill>
                  <a:srgbClr val="ffffff"/>
                </a:solidFill>
                <a:latin typeface="바탕"/>
              </a:rPr>
              <a:t>Cocina Confidencial: Aventuras en el vientre culinario (Kitchen Confidential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800" spc="-1" strike="noStrike">
                <a:solidFill>
                  <a:srgbClr val="ffffff"/>
                </a:solidFill>
                <a:latin typeface="바탕"/>
              </a:rPr>
              <a:t>Otros libros no de ficci</a:t>
            </a:r>
            <a:r>
              <a:rPr b="0" lang="es-ES" sz="1800" spc="-1" strike="noStrike">
                <a:solidFill>
                  <a:srgbClr val="ffffff"/>
                </a:solidFill>
                <a:latin typeface="바탕"/>
              </a:rPr>
              <a:t>ó</a:t>
            </a:r>
            <a:r>
              <a:rPr b="0" lang="en" sz="1800" spc="-1" strike="noStrike">
                <a:solidFill>
                  <a:srgbClr val="ffffff"/>
                </a:solidFill>
                <a:latin typeface="바탕"/>
              </a:rPr>
              <a:t>n son </a:t>
            </a:r>
            <a:r>
              <a:rPr b="0" i="1" lang="en" sz="1800" spc="-1" strike="noStrike">
                <a:solidFill>
                  <a:srgbClr val="ffffff"/>
                </a:solidFill>
                <a:latin typeface="바탕"/>
              </a:rPr>
              <a:t>El viaje de un Cocinero (A Cook’s Tour), Typhoid Mary: Un histórico urbano, Libro de recetas del Anthony Bourdain a Les Halles, Los partes horribles y No reservas (No Reservations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304920" y="1295280"/>
            <a:ext cx="2400120" cy="3200400"/>
          </a:xfrm>
          <a:prstGeom prst="rect">
            <a:avLst/>
          </a:prstGeom>
          <a:ln w="0">
            <a:noFill/>
          </a:ln>
        </p:spPr>
      </p:pic>
      <p:pic>
        <p:nvPicPr>
          <p:cNvPr id="104" name="TB_Image" descr="&lt;br/&gt;&lt;a href=&quot;http://i20.tinypic.com/igdyf6.jpg&quot; target=&quot;_blank&quot;&gt;View Raw Image&lt;/a&gt;"/>
          <p:cNvPicPr/>
          <p:nvPr/>
        </p:nvPicPr>
        <p:blipFill>
          <a:blip r:embed="rId2"/>
          <a:stretch/>
        </p:blipFill>
        <p:spPr>
          <a:xfrm>
            <a:off x="1828800" y="3581280"/>
            <a:ext cx="2857680" cy="28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600" spc="-1" strike="noStrike">
                <a:solidFill>
                  <a:srgbClr val="ffffcc"/>
                </a:solidFill>
                <a:latin typeface="바탕"/>
              </a:rPr>
              <a:t>Su carrera de la televisión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47242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바탕"/>
              </a:rPr>
              <a:t>Se le ofreció un programa en 2002 del Food Network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Batang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ff"/>
                </a:solidFill>
                <a:latin typeface="바탕"/>
              </a:rPr>
              <a:t>El viaje de un Cocinero (A Cook’s Tour)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바탕"/>
              </a:rPr>
              <a:t>Su programa más famoso es </a:t>
            </a:r>
            <a:r>
              <a:rPr b="0" i="1" lang="es-ES" sz="2000" spc="-1" strike="noStrike">
                <a:solidFill>
                  <a:srgbClr val="ffffff"/>
                </a:solidFill>
                <a:latin typeface="바탕"/>
              </a:rPr>
              <a:t>Anthony Bourdain: No reservas </a:t>
            </a:r>
            <a:r>
              <a:rPr b="0" lang="es-ES" sz="2000" spc="-1" strike="noStrike">
                <a:solidFill>
                  <a:srgbClr val="ffffff"/>
                </a:solidFill>
                <a:latin typeface="바탕"/>
              </a:rPr>
              <a:t>(</a:t>
            </a:r>
            <a:r>
              <a:rPr b="0" i="1" lang="es-ES" sz="2000" spc="-1" strike="noStrike">
                <a:solidFill>
                  <a:srgbClr val="ffffff"/>
                </a:solidFill>
                <a:latin typeface="바탕"/>
              </a:rPr>
              <a:t>No Reservations</a:t>
            </a:r>
            <a:r>
              <a:rPr b="0" lang="es-ES" sz="2000" spc="-1" strike="noStrike">
                <a:solidFill>
                  <a:srgbClr val="ffffff"/>
                </a:solidFill>
                <a:latin typeface="바탕"/>
              </a:rPr>
              <a:t>) en el Travel Channel</a:t>
            </a:r>
            <a:r>
              <a:rPr b="0" i="1" lang="es-ES" sz="2000" spc="-1" strike="noStrike">
                <a:solidFill>
                  <a:srgbClr val="ffffff"/>
                </a:solidFill>
                <a:latin typeface="바탕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Batang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바탕"/>
              </a:rPr>
              <a:t>Lo es un programma de comida y viaje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Batang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바탕"/>
              </a:rPr>
              <a:t>Un episodio fue nominado para un Emmy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Batang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바탕"/>
              </a:rPr>
              <a:t>Hay muchas invitados famosos en el programma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4800600" y="1219320"/>
            <a:ext cx="3657600" cy="27432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5715000" y="4267080"/>
            <a:ext cx="3276720" cy="23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바탕"/>
              </a:rPr>
              <a:t>Ahora, un video de </a:t>
            </a:r>
            <a:r>
              <a:rPr b="0" i="1" lang="en-US" sz="3600" spc="-1" strike="noStrike">
                <a:solidFill>
                  <a:srgbClr val="ffffcc"/>
                </a:solidFill>
                <a:latin typeface="바탕"/>
              </a:rPr>
              <a:t>No reservas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6629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cc66"/>
                </a:solidFill>
                <a:uFillTx/>
                <a:latin typeface="Tahoma"/>
                <a:hlinkClick r:id="rId1"/>
              </a:rPr>
              <a:t>http://www.youtube.com/watch?v=ZSklJCZ40V0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1T20:48:55Z</dcterms:created>
  <dc:creator>Sara</dc:creator>
  <dc:description/>
  <dc:language>en-US</dc:language>
  <cp:lastModifiedBy>Sara</cp:lastModifiedBy>
  <dcterms:modified xsi:type="dcterms:W3CDTF">2009-10-01T22:00:37Z</dcterms:modified>
  <cp:revision>22</cp:revision>
  <dc:subject/>
  <dc:title>Anthony Bourdain:  Cocinero Famoso</dc:title>
</cp:coreProperties>
</file>