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86BE-194C-4630-AEE1-D6864521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EC1A-0686-447F-A6FF-741C60DD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07FB-8F01-404A-B5B8-1AFB7CB02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3B4-220D-41A1-BC6E-935A0CA5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38F9-9CAB-4FB6-BB26-0C4C39F3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B938-BA52-44D0-828B-DAB02276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7DEC-E233-4201-BD7E-E3770438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C08A-A508-481F-8578-A5A3283B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2175-2309-4EBC-A6DC-9ADEC405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61C5-72AA-4602-B720-4A8B21DF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FD56-9A36-4E08-BBBA-EEA46300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DE98-4F99-48E9-A88B-064678D6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7EC3-C2B2-435E-9FB9-69C0AE42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4275-52BD-429B-82DE-0C4F9472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8B85-C6F7-497B-B4F0-916CF104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0861-F3E7-4608-A70B-42B08453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51FD-2D6F-456C-B5F2-9F44BAEE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D333-D6AC-461C-851F-9A13D2D6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FA28-DE39-4915-9F97-ABA07C92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DD0A-E468-44B1-9D7E-860A7E6A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2649-C678-480A-8885-87316095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039E-FCA5-49BA-BC7F-340CDBAE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BC70-AB69-4417-B6AF-EAC26838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E242-482C-4E96-8A57-0FF1D4A2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261B-4954-42F6-9FD8-93D1EC00C5D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0467-5BEA-4FE4-B468-7D7C3C11792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Las Maquiladora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Sara Kiss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Qué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ignifica el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érmin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AFT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acuerdo comerical entre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anadá, los Estados Unidos, y Méxic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Cómo relaciona a las maquiladora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194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Las Maquilador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¿Qué es una maquiladora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¿Dónde las existen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809880" cy="2504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4495680"/>
            <a:ext cx="2857680" cy="1714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114800" y="4419720"/>
            <a:ext cx="483876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s 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Injustici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untos de controvers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mano de obra barata y la pobre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724280" y="4038480"/>
            <a:ext cx="3657600" cy="2441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800600" y="1295280"/>
            <a:ext cx="3457440" cy="2381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62120" y="3962520"/>
            <a:ext cx="324792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s 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Injustici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28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ataques y homicidios de las muje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jemplos de Juárez o Chihuahua, Méxic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Feminicidi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o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femic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policía y los gobiernos ignoran el proble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2762280" cy="2667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6320" y="1752480"/>
            <a:ext cx="2055600" cy="2667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33520" y="4495680"/>
            <a:ext cx="380988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Mi opinión y las pregunt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ay pocas ventajas de las maquilad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gunt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Cuales son algunas medidas puede tomar para mejorar la situación de los trabajadores en las maquiladora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Por qué cree que los gobiernos y la policía de los pueblos de la frontera ignorar el problema de los homicidios de las mujere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Referenci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geography.about.com/od/urbaneconomicgeography/a/maquiladoras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en.wikipedia.org/wiki/Maquiladoras#Wages_and_benef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en.wikipedia.org/wiki/Female_homicides_in_Ciudad_Ju%C3%A1re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20:49:50Z</dcterms:created>
  <dc:creator>Sara</dc:creator>
  <dc:description/>
  <dc:language>en-US</dc:language>
  <cp:lastModifiedBy>Sara</cp:lastModifiedBy>
  <dcterms:modified xsi:type="dcterms:W3CDTF">2009-12-06T21:17:25Z</dcterms:modified>
  <cp:revision>18</cp:revision>
  <dc:subject/>
  <dc:title>Las Maquiladoras</dc:title>
</cp:coreProperties>
</file>