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1252-5E68-4A1C-9A4C-0DBDDC53B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916-C7FA-4231-94AA-D428D525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F99-191B-45FE-B4F1-9636132AA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7EB-0D7C-43A3-9148-EEA0E190D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7C3DE-4041-43FE-9E30-3245A226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B754-9971-4951-86DC-AB2241A7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CA27A-A6FD-446A-AAD6-088F1EE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32E3F-C206-439E-8208-A559ACB9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9BDF4-F975-42F7-9C7B-751E87D6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0DE17-E48B-46A1-8256-7C1C41F4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56EF-6DA6-46D4-87B0-D356BD3F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C87C-E556-45F5-8500-3B8512E43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3E9F6-318B-483D-A1AB-8006DE67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8909C-78CA-4713-AB8D-F6FC6372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0D90B-72AB-4E59-A3E0-6B59D14D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F64E-93D2-45BE-9D64-C9451D4D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8464-9560-4685-A5D1-05920594F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F309-0E31-4FCB-9748-F634E93B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D13-DCB5-471B-9C48-EEAB47F7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3FD-CBEE-4670-882D-326132A0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B67-86EE-4732-B7B8-8F11B79A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C39D-81B0-4910-8514-E65A8BD24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33BF-3DA5-4B62-BB8D-FFFDFC34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EAF3-A911-4E9C-A00F-3062EA1D4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8B6B-B78C-4C95-A2CA-7A8AD8E78D1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DC6E-EF1F-426A-AF06-C827B727E4EB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ara Kiss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ignifica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érmin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FT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acuerdo comerical entre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nadá, los Estados Unidos, y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ómo relaciona a las maquiladora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9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Qué es una maquilador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Dónde las existe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2504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85768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48387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os de controver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mano de obra barata y la pobr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657600" cy="2441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2479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ataques y homicidios de las muj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Juárez o Chihuahua,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nicidi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c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licía y los gobiernos ignoran el probl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2762280" cy="2667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2055600" cy="2667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380988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i opinión y las pregunt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ay pocas ventajas de las maquilad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gun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uales son algunas medidas puede tomar para mejorar la situación de los trabajadores en las maquilador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Por qué cree que los gobiernos y la policía de los pueblos de la frontera ignorar el problema de los homicidios de las mujer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geography.about.com/od/urbaneconomicgeography/a/maquiladora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Maquiladoras#Wages_and_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Female_homicides_in_Ciudad_Ju%C3%A1r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0:49:50Z</dcterms:created>
  <dc:creator>Sara</dc:creator>
  <dc:description/>
  <dc:language>en-US</dc:language>
  <cp:lastModifiedBy>Sara</cp:lastModifiedBy>
  <dcterms:modified xsi:type="dcterms:W3CDTF">2009-12-06T21:17:25Z</dcterms:modified>
  <cp:revision>18</cp:revision>
  <dc:subject/>
  <dc:title>Las Maquiladoras</dc:title>
</cp:coreProperties>
</file>