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43E-FB94-43AE-9C7C-A863AAC7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7BB5-AB56-4704-BC11-B82E2DEF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47ED-C303-4C76-82F3-D26959D96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2CAB-E39E-4917-9DD5-4D359FF20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40F9-DCB8-4278-AFD7-5B33C99B6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EC18E-23FE-429B-97F9-4FDBDAE3E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B8D3-E7A2-419C-902E-E01B383CB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1AA39-8909-4FAF-9632-281B4E8C4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36CF-FEDA-4226-BAB4-E026F4535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CD128-11FF-4BD7-9166-2A163204B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DE94-5DB2-421C-B533-737C701C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63F6-FD16-4081-9FE6-6ACCD573B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FA264-B2E2-4926-9FAC-0310D9D5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EA69C-A75E-4FCE-8CDA-686B81F7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6BFA-55FA-4791-B2DC-D646615F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02DC9-266B-48E1-A5AC-09711CC1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C5FEA-CF48-432F-B065-6B7B29AD4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87B6-5FC6-4261-B8D6-3E6B29FA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888C-B76F-479C-AC9D-E309B0669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C5AE-5162-4527-AE06-319A2EA14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6134-A060-4B14-B65E-25EBCEDE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0553-EBF8-4F92-9BA7-19257716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ECF5-C493-4A5D-BB0D-6752F5C1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72FC-0486-4B2D-A646-3F3E15A0D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604C-E7DA-4D8F-9855-65A7AE3B71A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BE90-2471-471C-BA3A-8A479760705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ZSklJCZ40V0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92504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바탕"/>
              </a:rPr>
              <a:t>Anthony Bourdain: </a:t>
            </a:r>
            <a:br>
              <a:rPr sz="6600"/>
            </a:br>
            <a:r>
              <a:rPr b="0" lang="en-US" sz="6600" spc="-1" strike="noStrike">
                <a:solidFill>
                  <a:srgbClr val="ffffcc"/>
                </a:solidFill>
                <a:latin typeface="바탕"/>
              </a:rPr>
              <a:t>cocinero famoso</a:t>
            </a:r>
            <a:endParaRPr b="0" lang="en-US" sz="6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971440" y="5410080"/>
            <a:ext cx="3429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de Sara Kisse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3581280" y="2438280"/>
            <a:ext cx="238140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바탕"/>
              </a:rPr>
              <a:t>Su historia personal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Anthony Michael Bourdain o "Tony" Bourdai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Junio  25, 195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Universidad de Vassar y Instituto Culinario America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Les Hal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Sus matrimoni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952880" y="182880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un cocinero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876560" y="1523520"/>
            <a:ext cx="38862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바탕"/>
              </a:rPr>
              <a:t>Fra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trabajó en muchas restaurantes cuando era jo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logró muchas restaurantes en Nuevo Y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Club de la Cena,  Uno Cinco Avenida  y  Sullivan'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Les Hal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49568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바탕"/>
              </a:rPr>
              <a:t>Los platos mejores a Les Halle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Cassoulet y steak fri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Cassoule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plato complicado de carne y frijoles con muchos vegetales, hierbas, especias y carnes tal como pato y cerd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400" spc="-1" strike="noStrike">
                <a:solidFill>
                  <a:srgbClr val="ffffff"/>
                </a:solidFill>
                <a:latin typeface="바탕"/>
              </a:rPr>
              <a:t>Steak frit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plato simple de carne y patata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Cassoulet"/>
          <p:cNvPicPr/>
          <p:nvPr/>
        </p:nvPicPr>
        <p:blipFill>
          <a:blip r:embed="rId1"/>
          <a:stretch/>
        </p:blipFill>
        <p:spPr>
          <a:xfrm>
            <a:off x="4267080" y="1447920"/>
            <a:ext cx="2382840" cy="24382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772320" y="3581280"/>
            <a:ext cx="21002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un escritor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2520" y="1295280"/>
            <a:ext cx="39625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El primero libro de ficción es 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Hueso en la garganta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 (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Bone in the Throat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Otros libros de ficci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ó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n son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Ido de bambú 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(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Gone Bamboo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)  y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 Bobby Gol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Libro no de ficción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es</a:t>
            </a:r>
            <a:r>
              <a:rPr b="0" i="1" lang="es-ES" sz="1800" spc="-1" strike="noStrike">
                <a:solidFill>
                  <a:srgbClr val="ffffff"/>
                </a:solidFill>
                <a:latin typeface="바탕"/>
              </a:rPr>
              <a:t>Cocina Confidencial: Aventuras en el vientre culinario (Kitchen Confidential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Otros libros no de ficci</a:t>
            </a:r>
            <a:r>
              <a:rPr b="0" lang="es-ES" sz="1800" spc="-1" strike="noStrike">
                <a:solidFill>
                  <a:srgbClr val="ffffff"/>
                </a:solidFill>
                <a:latin typeface="바탕"/>
              </a:rPr>
              <a:t>ó</a:t>
            </a:r>
            <a:r>
              <a:rPr b="0" lang="en" sz="1800" spc="-1" strike="noStrike">
                <a:solidFill>
                  <a:srgbClr val="ffffff"/>
                </a:solidFill>
                <a:latin typeface="바탕"/>
              </a:rPr>
              <a:t>n son </a:t>
            </a:r>
            <a:r>
              <a:rPr b="0" i="1" lang="en" sz="1800" spc="-1" strike="noStrike">
                <a:solidFill>
                  <a:srgbClr val="ffffff"/>
                </a:solidFill>
                <a:latin typeface="바탕"/>
              </a:rPr>
              <a:t>El viaje de un Cocinero (A Cook’s Tour), Typhoid Mary: Un histórico urbano, Libro de recetas del Anthony Bourdain a Les Halles, Los partes horribles y No reservas (No Reservation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2400120" cy="3200400"/>
          </a:xfrm>
          <a:prstGeom prst="rect">
            <a:avLst/>
          </a:prstGeom>
          <a:ln w="0">
            <a:noFill/>
          </a:ln>
        </p:spPr>
      </p:pic>
      <p:pic>
        <p:nvPicPr>
          <p:cNvPr id="104" name="TB_Image" descr="&lt;br/&gt;&lt;a href=&quot;http://i20.tinypic.com/igdyf6.jpg&quot; target=&quot;_blank&quot;&gt;View Raw Image&lt;/a&gt;"/>
          <p:cNvPicPr/>
          <p:nvPr/>
        </p:nvPicPr>
        <p:blipFill>
          <a:blip r:embed="rId2"/>
          <a:stretch/>
        </p:blipFill>
        <p:spPr>
          <a:xfrm>
            <a:off x="1828800" y="3581280"/>
            <a:ext cx="2857680" cy="28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600" spc="-1" strike="noStrike">
                <a:solidFill>
                  <a:srgbClr val="ffffcc"/>
                </a:solidFill>
                <a:latin typeface="바탕"/>
              </a:rPr>
              <a:t>Su carrera de la televisión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47242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Se le ofreció un programa en 2002 del Food Network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El viaje de un Cocinero (A Cook’s Tour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Su programa más famoso es 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Anthony Bourdain: No reservas </a:t>
            </a: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(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No Reservations</a:t>
            </a: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) en el Travel Channel</a:t>
            </a:r>
            <a:r>
              <a:rPr b="0" i="1" lang="es-ES" sz="2000" spc="-1" strike="noStrike">
                <a:solidFill>
                  <a:srgbClr val="ffffff"/>
                </a:solidFill>
                <a:latin typeface="바탕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Lo es un programma de comida y viaje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Un episodio fue nominado para un Emm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Batang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바탕"/>
              </a:rPr>
              <a:t>Hay muchas invitados famosos en el programma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715000" y="4267080"/>
            <a:ext cx="327672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바탕"/>
              </a:rPr>
              <a:t>Ahora, un video de </a:t>
            </a:r>
            <a:r>
              <a:rPr b="0" i="1" lang="en-US" sz="3600" spc="-1" strike="noStrike">
                <a:solidFill>
                  <a:srgbClr val="ffffcc"/>
                </a:solidFill>
                <a:latin typeface="바탕"/>
              </a:rPr>
              <a:t>No reserva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66"/>
                </a:solidFill>
                <a:uFillTx/>
                <a:latin typeface="Tahoma"/>
                <a:hlinkClick r:id="rId1"/>
              </a:rPr>
              <a:t>http://www.youtube.com/watch?v=ZSklJCZ40V0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20:48:55Z</dcterms:created>
  <dc:creator>Sara</dc:creator>
  <dc:description/>
  <dc:language>en-US</dc:language>
  <cp:lastModifiedBy>Sara</cp:lastModifiedBy>
  <dcterms:modified xsi:type="dcterms:W3CDTF">2009-10-01T22:00:37Z</dcterms:modified>
  <cp:revision>22</cp:revision>
  <dc:subject/>
  <dc:title>Anthony Bourdain:  Cocinero Famoso</dc:title>
</cp:coreProperties>
</file>