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152-F577-4610-9D03-6D3205D3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65C-6BF7-4DAF-ACE2-591166DA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8E3-2AD4-43DF-8699-E28970E1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1EF-0B68-4726-9B98-F3841E93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4CBE-FBFE-4EB5-92B7-301142B1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BF98-5483-4162-8A88-DE3E9E7C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6633-FC42-4FA5-B20D-39552313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5791-F972-453A-9FE3-5F4E8FA0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51F8-EA17-4735-8E17-378CC198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ED78-1503-43EC-8373-014B816F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0EC2-0B64-4250-B0E6-749702EF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39D-2C2B-454A-94EE-337895E5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C0F4-2403-4898-BE77-EAD3CBB5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39EB-D028-4078-9F89-EBE7CC97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9870-D2E0-4457-A75A-7FE9D2CD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CD7D-1728-4B39-9E39-DC3188A8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E5B6-567A-48E1-A248-1F528F98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C0A-B30D-4DDA-92F5-C1F6FEE4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595-2314-46C7-8B93-57DC831E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05A-C896-41B8-9A48-B727E762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8B2-BB20-4ADF-A90F-7A8626CA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C0E-BC17-4A87-82D0-ECC2A541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363-E771-4234-947F-947A6DC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9D0-ECCD-49B2-B520-72561FC1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1B8D-4A84-4DD4-AE89-CD83AC5F6E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0FD2-715C-4085-BDAC-9CB74A6ECC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SklJCZ40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Anthony Bourdain: 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cocinero famoso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1440" y="54100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de Sara Kiss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3814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Su historia persona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nthony Michael Bourdain o "Tony" Bourda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Junio  25, 195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Universidad de Vassar y Instituto Culinario Americ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Les Hal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Sus matrimon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cociner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trabajó en muchas restaurantes cuando era jo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ogró muchas restaurantes en Nuevo Y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Club de la Cena,  Uno Cinco Avenida  y  Sullivan'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es Hal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495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바탕"/>
              </a:rPr>
              <a:t>Los platos mejores a Les Hall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 y steak fr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complicado de carne y frijoles con muchos vegetales, hierbas, especias y carnes tal como pato y ce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Steak fri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simple de carne y patat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Cassoulet"/>
          <p:cNvPicPr/>
          <p:nvPr/>
        </p:nvPicPr>
        <p:blipFill>
          <a:blip r:embed="rId1"/>
          <a:stretch/>
        </p:blipFill>
        <p:spPr>
          <a:xfrm>
            <a:off x="4267080" y="1447920"/>
            <a:ext cx="238284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72320" y="3581280"/>
            <a:ext cx="210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escrito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520" y="12952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l primero libro de ficción es 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Hueso en la garganta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 (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Bone in the Throat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Ido de bambú 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Gone Bamboo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)  y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 Bobby G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Libro no de ficción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s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Cocina Confidencial: Aventuras en el vientre culinario (Kitchen Confidenti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no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El viaje de un Cocinero (A Cook’s Tour), Typhoid Mary: Un histórico urbano, Libro de recetas del Anthony Bourdain a Les Halles, Los partes horribles y No reservas (No Reservatio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TB_Image" descr="&lt;br/&gt;&lt;a href=&quot;http://i20.tinypic.com/igdyf6.jpg&quot; target=&quot;_blank&quot;&gt;View Raw Image&lt;/a&gt;"/>
          <p:cNvPicPr/>
          <p:nvPr/>
        </p:nvPicPr>
        <p:blipFill>
          <a:blip r:embed="rId2"/>
          <a:stretch/>
        </p:blipFill>
        <p:spPr>
          <a:xfrm>
            <a:off x="1828800" y="3581280"/>
            <a:ext cx="28576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la televisió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e le ofreció un programa en 2002 del Food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El viaje de un Cocinero (A Cook’s Tou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u programa más famoso es 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Anthony Bourdain: No reservas 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No Reservations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) en el Travel Channel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Lo es un programma de comida y via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episodio fue nominado para un Em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Hay muchas invitados famosos en el program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32767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Ahora, un video de </a:t>
            </a:r>
            <a:r>
              <a:rPr b="0" i="1" lang="en-US" sz="3600" spc="-1" strike="noStrike">
                <a:solidFill>
                  <a:srgbClr val="ffffcc"/>
                </a:solidFill>
                <a:latin typeface="바탕"/>
              </a:rPr>
              <a:t>No reserva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SklJCZ40V0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48:55Z</dcterms:created>
  <dc:creator>Sara</dc:creator>
  <dc:description/>
  <dc:language>en-US</dc:language>
  <cp:lastModifiedBy>Sara</cp:lastModifiedBy>
  <dcterms:modified xsi:type="dcterms:W3CDTF">2009-10-01T22:00:37Z</dcterms:modified>
  <cp:revision>22</cp:revision>
  <dc:subject/>
  <dc:title>Anthony Bourdain:  Cocinero Famoso</dc:title>
</cp:coreProperties>
</file>