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49FC-7631-4F00-A758-D3E9E1025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C6A6-F57B-4534-95FD-2CD06213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596C-51C9-4D08-BC5C-4E4C82FE1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70EB-796D-44B8-BC45-7B83FDF2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3254-97CF-47FC-BC2B-C987F772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79FCB-975F-408E-83BF-22D998632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8D5E-7C33-4B6C-ADAE-E427207AB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F09D6-95BF-44FC-80C7-53F3FBD8F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D7E66-3C49-4A57-ACA6-F96D1CE77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A2E0A-1C96-4B22-92FB-A0BFC532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3ABF-D92E-4924-861F-A910B906D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CF81-5FA2-400C-B99B-CD1A9B23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EB87-2E2C-40DE-A689-A5D716297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E8985-A8AB-468A-8774-47FF23FC7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459C-9048-4787-BD16-87B46B899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CDDB-7958-4978-AB4F-1AFAC8F86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3F4B5-9CEB-489C-AC89-49BEC719A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EEE5-7100-45DC-BD66-0E0AA4DA5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CB0C-FA05-4CA2-89F5-2BC21F1F9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1351-8C00-406F-B3B7-1EF8FEC5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1873-E764-479D-8343-B9C62C44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34CE-617F-491E-891D-1EEF75E29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5CB4-0AB1-4779-AF09-959115CF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21F8-A237-43FC-869E-57F360077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C5B2-3B1F-47FD-8CF5-0706E3EAE00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75C9-E730-49F5-8CA5-8D0357191B1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ara Kiss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ignifica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rmin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FT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acuerdo comerical entr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nadá, los Estados Unidos, y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ómo relaciona a las maquiladora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9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Qué es una maquilador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Dónde las existe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48387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os de controver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ano de obra barata y 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247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ataques y homicidios de las muj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Juárez o Chihuahua,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nicid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c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licía y los gobiernos ignoran el probl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762280" cy="2667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2055600" cy="266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8098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i opinión y las pregun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pocas ventajas de las maquilad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gu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uales son algunas medidas puede tomar para mejorar la situación de los trabajadores en las maquilador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Por qué cree que los gobiernos y la policía de los pueblos de la frontera ignorar el problema de los homicidios de las mujer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geography.about.com/od/urbaneconomicgeography/a/maquiladora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Maquiladoras#Wages_and_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Female_homicides_in_Ciudad_Ju%C3%A1r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49:50Z</dcterms:created>
  <dc:creator>Sara</dc:creator>
  <dc:description/>
  <dc:language>en-US</dc:language>
  <cp:lastModifiedBy>Sara</cp:lastModifiedBy>
  <dcterms:modified xsi:type="dcterms:W3CDTF">2009-12-06T21:17:25Z</dcterms:modified>
  <cp:revision>18</cp:revision>
  <dc:subject/>
  <dc:title>Las Maquiladoras</dc:title>
</cp:coreProperties>
</file>