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615-E34E-40ED-BC5D-5140C383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6ED-3C56-4011-A61A-DD82C2A0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A5C-8652-471C-905C-ACF633A6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852-1B79-4EE3-84AB-52814F4A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2459-E8CF-477D-862A-172CC5C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B258-E8C2-41C2-9D33-2F44ADB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F65-04F7-4ACE-93BD-E940E30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B137-A9B3-4D86-A53F-4A3705A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BD1-04B8-40F3-8E8E-23ACF612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9EF5-E0F1-435C-91DA-E101923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3E7F-CFE8-4394-9BD2-4786ED7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549-921F-4E08-90F7-266DFA9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3E2-4B56-4953-8DFD-3F17512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C5E1-9B50-4D5F-BAFC-6DE321B9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3602-DA4A-4FEB-AEB9-91FFFAC2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9FC-2E18-4AC7-8AC6-DE6FDBB2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85F5-68B8-443A-B24F-B03030A6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33C-1CC0-4E65-ACEA-95CBA8EB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C03-9377-41A2-AF91-94578A4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BB4-9DBA-4D18-B78B-98E008F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89B-A213-4B86-B04A-7E377375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462-0094-42DC-BA07-402C55E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BB4-687E-40B9-A5B9-F277365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340-7E24-4099-A9A3-C9CAD74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C277-25BC-42EB-B855-382125A30F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4AA-F949-435A-848B-8C1A6F91C1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ara Kiss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ignifica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rmi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FT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acuerdo comerical entr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nadá, los Estados Unidos, y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ómo relaciona a las maquiladora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9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Qué es una maquilador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Dónde las exis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48387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os de controver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ano de obra barata y 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24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ataques y homicidios de las muj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Juárez o Chihuahua,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nicid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c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licía y los gobiernos ignoran el probl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762280" cy="2667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2055600" cy="26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8098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i opinión y las pregu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pocas ventajas de las maquilad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gu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uales son algunas medidas puede tomar para mejorar la situación de los trabajadores en las maquilador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Por qué cree que los gobiernos y la policía de los pueblos de la frontera ignorar el problema de los homicidios de las mujer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geography.about.com/od/urbaneconomicgeography/a/maquiladora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Maquiladoras#Wages_and_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Female_homicides_in_Ciudad_Ju%C3%A1r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49:50Z</dcterms:created>
  <dc:creator>Sara</dc:creator>
  <dc:description/>
  <dc:language>en-US</dc:language>
  <cp:lastModifiedBy>Sara</cp:lastModifiedBy>
  <dcterms:modified xsi:type="dcterms:W3CDTF">2009-12-06T21:17:25Z</dcterms:modified>
  <cp:revision>18</cp:revision>
  <dc:subject/>
  <dc:title>Las Maquiladoras</dc:title>
</cp:coreProperties>
</file>