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1D49-8423-48F0-83BB-21D0F6AE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F92F-EAF1-43E2-9272-C7544941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D701-840C-45EF-A610-CBEFEFDB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19D2-AC7F-406B-90CA-0C1FA431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67B0-4527-411A-8D89-3A45507E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1146-5F39-4DD5-9870-A267520B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99EA-1241-474A-87ED-D93079F1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D927-69C0-4695-92A9-F4B0E194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6C94-0735-4D1A-B8C3-C160807F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A4A9-3900-4D46-902B-15CB4C43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2ABC-BC77-41CE-9FAE-949B29BB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EF43-E510-4174-A6FB-30CE2455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8352-47E7-4440-A65C-4414CBC6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7444-27C8-4057-AE31-72CCC934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CF38-FBAE-4833-A553-62EF3F9B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5B1E-B41F-46AA-A310-29C58F03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1E26-5EE8-46F0-8833-3F4D9018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AD3A-EB6D-4328-9DBF-661E5F42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5131-F123-4709-9903-50D53E84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44F4-64F9-4896-B191-D8DDE63D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9D1C-D708-4039-9740-7EB3E488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CB37-F4D9-4B71-81C6-DEFCB3D4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1ABA-F186-49F8-ADDF-9C75588E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3BD9-C9AA-4113-8DE3-A50E9CD5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B79B-1695-45CB-9074-132D3495EFA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0481-DCBA-4110-8A32-8FD99DD63DC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Las Maquiladora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Sara Kiss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Qué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ignifica el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érmin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AFT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acuerdo comerical entre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anadá, los Estados Unidos, y Méxic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Cómo relaciona a las maquiladora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194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Las Maquilador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¿Qué es una maquiladora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¿Dónde las existen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809880" cy="2504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4495680"/>
            <a:ext cx="2857680" cy="1714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114800" y="4419720"/>
            <a:ext cx="483876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s 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Injustici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untos de controvers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mano de obra barata y la pobre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724280" y="4038480"/>
            <a:ext cx="3657600" cy="2441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800600" y="1295280"/>
            <a:ext cx="3457440" cy="2381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62120" y="3962520"/>
            <a:ext cx="324792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s 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Injustici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28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ataques y homicidios de las muje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jemplos de Juárez o Chihuahua, Méxic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Feminicidi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o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femic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policía y los gobiernos ignoran el proble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2762280" cy="2667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6320" y="1752480"/>
            <a:ext cx="2055600" cy="2667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33520" y="4495680"/>
            <a:ext cx="380988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Mi opinión y las pregunt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ay pocas ventajas de las maquilad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gunt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Cuales son algunas medidas puede tomar para mejorar la situación de los trabajadores en las maquiladora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Por qué cree que los gobiernos y la policía de los pueblos de la frontera ignorar el problema de los homicidios de las mujere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Referenci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geography.about.com/od/urbaneconomicgeography/a/maquiladoras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en.wikipedia.org/wiki/Maquiladoras#Wages_and_benef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en.wikipedia.org/wiki/Female_homicides_in_Ciudad_Ju%C3%A1re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20:49:50Z</dcterms:created>
  <dc:creator>Sara</dc:creator>
  <dc:description/>
  <dc:language>en-US</dc:language>
  <cp:lastModifiedBy>Sara</cp:lastModifiedBy>
  <dcterms:modified xsi:type="dcterms:W3CDTF">2009-12-06T21:17:25Z</dcterms:modified>
  <cp:revision>18</cp:revision>
  <dc:subject/>
  <dc:title>Las Maquiladoras</dc:title>
</cp:coreProperties>
</file>