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FE4C-5740-4CFC-9E00-661E4DC0B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6E96-A5E9-4CDE-A0DE-B1DE97D4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0518-2E95-4D1C-81A2-CDD38628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2D01-43FC-47BC-B51A-A1136F5E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5318F-BE1B-43D7-9165-119E22D47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8344-DAB6-41F3-B36E-3A844119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03276-BCAE-4AF7-9181-291A42D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7CAB7-37D6-4EC8-9AAB-6717A2D2B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1654-6AAC-477C-B618-C643B59D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CC72-AB3B-4D3A-A0BC-30629BD07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9C719-CF3D-4E22-AF81-8682DE946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09956-513D-4FEF-83CD-978E1BBF0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E217-3CCC-4A2E-8DCB-C6E28FB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22ABB-1677-4B45-94F9-967D2E1A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E990-93F1-4DDE-B527-E6A816D18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688F-33A6-4BCC-AB3A-A1C14D9C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34007-F4F3-443C-A15C-BC688EDAF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8EA9-9E87-466D-96FB-FF025BF7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B640-41A7-42A4-8221-A8FB55691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319E-8C02-4B99-A157-110D808C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9229-5A2F-4BF7-9F8D-A51CE5EF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9A6-4D83-40CC-AA92-077083E7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A1EF-7510-42B6-81B0-351F12BB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F3D-7315-4B3E-BA45-94B5298F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1085-DFBD-4DC4-98D1-382FA16B720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23D1-BCAD-4ACD-A53C-240190AD213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Sara Kisse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Antecedent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Qué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ignifica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términ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AFTA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 un acuerdo comerical entre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anadá, los Estados Unidos, y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ómo relaciona a las maquiladora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401940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Las Maquilador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Qué es una maquiladora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¿Dónde las existen?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809880" cy="2504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57200" y="4495680"/>
            <a:ext cx="2857680" cy="17146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114800" y="4419720"/>
            <a:ext cx="4838760" cy="19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Puntos de controvers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ahoma"/>
              </a:rPr>
              <a:t>La mano de obra barata y la pobre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724280" y="4038480"/>
            <a:ext cx="3657600" cy="24415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457440" cy="2381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62120" y="3962520"/>
            <a:ext cx="324792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s </a:t>
            </a: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Injusti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52880" y="1600200"/>
            <a:ext cx="37339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os ataques y homicidios de las muje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jemplos de Juárez o Chihuahua, México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nicidios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 o </a:t>
            </a:r>
            <a:r>
              <a:rPr b="0" i="1" lang="es-ES" sz="2800" spc="-1" strike="noStrike">
                <a:solidFill>
                  <a:srgbClr val="ffffff"/>
                </a:solidFill>
                <a:latin typeface="Tahoma"/>
              </a:rPr>
              <a:t>femicid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La policía y los gobiernos ignoran el proble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09680" y="1752480"/>
            <a:ext cx="2762280" cy="2667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76320" y="1752480"/>
            <a:ext cx="2055600" cy="2667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33520" y="4495680"/>
            <a:ext cx="3809880" cy="19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Mi opinión y las pregunt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ay pocas ventajas de las maquilador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gunta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Cuales son algunas medidas puede tomar para mejorar la situación de los trabajadores en las maquiladoras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¿Por qué cree que los gobiernos y la policía de los pueblos de la frontera ignorar el problema de los homicidios de las mujer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cc"/>
                </a:solidFill>
                <a:latin typeface="Tahoma"/>
              </a:rPr>
              <a:t>Referenci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geography.about.com/od/urbaneconomicgeography/a/maquiladoras.ht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Maquiladoras#Wages_and_benefi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ttp://en.wikipedia.org/wiki/Female_homicides_in_Ciudad_Ju%C3%A1rez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20:49:50Z</dcterms:created>
  <dc:creator>Sara</dc:creator>
  <dc:description/>
  <dc:language>en-US</dc:language>
  <cp:lastModifiedBy>Sara</cp:lastModifiedBy>
  <dcterms:modified xsi:type="dcterms:W3CDTF">2009-12-06T21:17:25Z</dcterms:modified>
  <cp:revision>18</cp:revision>
  <dc:subject/>
  <dc:title>Las Maquiladoras</dc:title>
</cp:coreProperties>
</file>