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26.png" ContentType="image/png"/>
  <Override PartName="/ppt/media/image1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7.jpeg" ContentType="image/jpeg"/>
  <Override PartName="/ppt/media/image32.jpeg" ContentType="image/jpeg"/>
  <Override PartName="/ppt/media/image5.jpeg" ContentType="image/jpeg"/>
  <Override PartName="/ppt/media/image38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35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48.jpeg" ContentType="image/jpeg"/>
  <Override PartName="/ppt/media/image31.jpeg" ContentType="image/jpeg"/>
  <Override PartName="/ppt/media/image30.jpeg" ContentType="image/jpeg"/>
  <Override PartName="/ppt/media/image9.png" ContentType="image/png"/>
  <Override PartName="/ppt/media/image3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40.jpeg" ContentType="image/jpeg"/>
  <Override PartName="/ppt/media/image13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DDC6-4293-4EEB-9B7A-033DE15AB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8944-05E8-4C8D-AE52-31940B9E1ADD}" type="slidenum">
              <a:rPr b="0" lang="en-US" sz="12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7313-96F6-49F7-BA2D-E6C6755323C7}" type="slidenum">
              <a:rPr b="0" lang="en-US" sz="12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C295-0775-437F-8111-82C46E5C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0437-9B73-4250-8434-1F9D2CD5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1E3-448F-4170-8B42-50E1D823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203-327A-4FF9-A92A-92FF0CB9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69C1-DE2F-4A22-B0CF-308CB29F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571F-18C8-4421-8C39-7DA78E3D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D4D7-9D86-4EBB-A49D-2CCA2E7B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0247-236F-4D2F-9AB9-4E8C02AF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2C71-855F-40B5-ABA6-FF2F9DDD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ACBF-2D5D-4094-A10B-FAC56F00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7B09-01D0-4AF7-AFE8-2F463F83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380-C8A9-4540-8D0F-6DA4D276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16DD-B794-405D-82FE-B9412368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A8F2-0D64-4E5D-BE35-50F2173A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960A-1722-4006-89D3-47F8C94E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CD75-CCF4-4FB9-9016-26C0CAE9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EA09-CF64-4030-94BB-708FE01B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433A8-FE88-449A-AD13-B4C2F733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28051-FD38-487E-917A-9196AFF6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76CB4-8E36-4A4F-88BF-A83DD04A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E31B3-68C5-4B86-83EC-6A937EDE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2833A-17EB-4AA5-9588-1178C3DE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9D62-EED8-4B5D-A34A-D46ECA70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FB2BF-CC0B-4CBE-9837-6E4C1787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2400C-B1C0-42A4-8EA7-905A05C9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9F1A5-A201-47A6-8122-C1F2A646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392F8-D37C-48E6-ADE7-BFC0AAD9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A0542-E8CA-46FE-B8E9-DCA3CCAB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10F07-FD62-40CE-A09B-9C3937F0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17DFD-0C35-4E68-B996-4530994E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FE959-5FD2-4DC4-8A1E-29FBE372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6DACA-F1AB-4BCC-A331-C1151524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1ACB1-5E5C-4767-9D5E-E5CDE8A2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CBA-F58F-4043-861C-719C2D8B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32028-E234-4F3A-8755-F0CD1672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49543-B578-45C4-95B0-29A9AEFD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AA323-5D8C-4139-9E17-AF53C115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EC7BD-6C45-4D5D-96EC-DFA0321F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00433-6B37-4DAD-A81C-BAC96905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CB226-E3F3-41F7-BA5C-B47D2B90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70D91-76C9-4D4C-9112-95511383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47556-9252-4AA7-87BB-F1638399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28DE4-E09D-4687-A760-EC24670A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0FE05-2C64-4E4D-A4DE-A1A4EE96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09EE-F0A8-4366-B912-93B40D3C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FC9D2-C8F0-4B67-BDD8-C7A1BB3F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8B80E-44F4-4791-98BA-98D0B883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E4CCC-DCB0-4E58-969A-BBA688E8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AC6D1-7B66-472F-9EE9-ED9E2F66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9ADD8-55A7-4561-8A18-827D67C5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F8097-021B-4061-B7BF-5D29EC92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A1853-361F-4F41-9DBF-9B6AE496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3F14E-DE3C-4735-A36E-13472067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901EA-39C7-4965-80AE-55714E66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B19DF-95E1-41F4-80CC-3A249DE4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443-914B-4C9D-939E-2A4BCB3E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A0366-0407-456E-A61C-AFF71E47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D80BE-0071-44A7-B2D1-0B1E48B4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7E984-7787-4DAC-9924-1E4486E8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78D46-FBF8-447B-9C0D-52B4B9AA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806D9-D3AD-4D2C-990D-349CCD30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BE29C-6CEA-4E62-84C8-F527431F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D850B-8AC6-4582-9EBC-2689428C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ACCEB-459B-4DE5-91C8-3889A5A1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1AA34-860B-42C3-8421-426FF1B3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0BED6-FBF2-4FBE-9D2E-E5AF8DA6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4E9-B12A-454D-960B-AD3F3A85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76050-20C5-4B2E-BBD5-68BEE22A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C094F-B64D-4DBB-B43D-780A9FD8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F9FE3-28D8-491D-B046-4B9F1E83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99CAA-C6F8-4DF6-A541-D43B1783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76FC6-2C07-42A7-B061-4E9D1290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7A9AE-5B31-4A2E-9D44-7C15FCE2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C1EC8-A31E-41E3-B873-BF59C03F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4AD1D-9EF5-478F-95F8-7EEBE20E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97E76-38B8-4A4F-9AEE-5482C573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E7903-59C9-420F-B746-A0D1750D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524-A528-4742-819A-58FBB115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D2763-87F1-4C84-B60C-1FE9AD5D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A9048-E641-4E6F-8109-2C968965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1B068-7816-4706-A9B0-31675945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751C6-E30E-4939-953C-194F8864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6C255-755F-48AC-B4AF-FD3E9616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2B30D-491A-4283-B5D8-F6613A22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1F952-9965-47E1-BE9F-FB3C93A9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4A60D-3268-4C2E-903B-ABAF48B6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54C93-5F23-4867-84D5-EE8D796D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D30AE-F9B8-4074-B526-0EC4A4AC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012-CE56-4020-A498-4669FE3E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22447-064B-4EE0-8037-881645E3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8788C-6F73-4FC7-B997-E4B160F1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A5F0B-C654-404A-BBA9-9EE4D7A9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B7258-C5EE-483D-8E42-2CFD0BC3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40107-9AC3-4EB9-B710-CC57CB7D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77896-A20D-45FD-9185-525E467D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2797D-6C07-40E5-A994-359ECFC7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4B2E-3980-4815-8F92-4432E608BA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bf2745"/>
              </a:gs>
              <a:gs pos="50000">
                <a:srgbClr val="ff6f8d"/>
              </a:gs>
              <a:gs pos="100000">
                <a:srgbClr val="bf2745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ffb0b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ACB4-0C5A-4657-8902-600D789B3F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79A8-5A9F-4AA2-8614-DFF6EBCB5D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7DDF-AEF9-47A2-B2B3-1108A6BA8A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147A-E636-4460-8CBF-56F1DD0F1E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0545-0111-4766-A217-55259E473A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60D4-403E-4E84-AD5A-3F304CFACB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4055-C513-4871-9B18-93C832B7DB62}" type="slidenum"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181120" y="3581280"/>
            <a:ext cx="3429000" cy="53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Tahoma"/>
                <a:ea typeface="Tahoma"/>
              </a:rPr>
              <a:t>Por: Kristen Popovich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378" name="Rectangle 6" descr=""/>
          <p:cNvPicPr/>
          <p:nvPr/>
        </p:nvPicPr>
        <p:blipFill>
          <a:blip r:embed="rId1"/>
          <a:stretch/>
        </p:blipFill>
        <p:spPr>
          <a:xfrm>
            <a:off x="822240" y="2682720"/>
            <a:ext cx="81392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Un cerdo rellenad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rvado con arep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Rellenado con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Arroz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Cebollas verde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Especia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Guisantes amarillo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2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http://colombianadas.net/albums/colombianadas2/normal_colombianadas_1672.jpg"/>
          <p:cNvPicPr/>
          <p:nvPr/>
        </p:nvPicPr>
        <p:blipFill>
          <a:blip r:embed="rId2"/>
          <a:stretch/>
        </p:blipFill>
        <p:spPr>
          <a:xfrm>
            <a:off x="5638680" y="685800"/>
            <a:ext cx="3060720" cy="40813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http://www.restaurants-121.com/images/photo/497/lechona%20dish%20crop%202%20(300%20x%20229).jpg"/>
          <p:cNvPicPr/>
          <p:nvPr/>
        </p:nvPicPr>
        <p:blipFill>
          <a:blip r:embed="rId3"/>
          <a:stretch/>
        </p:blipFill>
        <p:spPr>
          <a:xfrm>
            <a:off x="4038480" y="4419720"/>
            <a:ext cx="28576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Agua de sa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Esados en un bote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Mucha proteín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2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http://www.correvedile.com/literatura/poemas/imagenes/hormiga-culona.jpg"/>
          <p:cNvPicPr/>
          <p:nvPr/>
        </p:nvPicPr>
        <p:blipFill>
          <a:blip r:embed="rId2"/>
          <a:stretch/>
        </p:blipFill>
        <p:spPr>
          <a:xfrm>
            <a:off x="1143000" y="3581280"/>
            <a:ext cx="3000240" cy="15242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imgarticulot13812520066.jpg"/>
          <p:cNvPicPr/>
          <p:nvPr/>
        </p:nvPicPr>
        <p:blipFill>
          <a:blip r:embed="rId3"/>
          <a:stretch/>
        </p:blipFill>
        <p:spPr>
          <a:xfrm>
            <a:off x="4572000" y="2514600"/>
            <a:ext cx="38098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http://www.youtube.com/watch?v=DvNvmhzSUJw&amp;feature=player_embedded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1" descr="http://www1.ocn.ne.jp/~infinite/PeacePath_Flags_Data/ColombiaF.gif"/>
          <p:cNvPicPr/>
          <p:nvPr/>
        </p:nvPicPr>
        <p:blipFill>
          <a:blip r:embed="rId1"/>
          <a:stretch/>
        </p:blipFill>
        <p:spPr>
          <a:xfrm>
            <a:off x="1371600" y="45720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http://www.europe-map.org/south-america/maps/colombia.gif"/>
          <p:cNvPicPr/>
          <p:nvPr/>
        </p:nvPicPr>
        <p:blipFill>
          <a:blip r:embed="rId2"/>
          <a:stretch/>
        </p:blipFill>
        <p:spPr>
          <a:xfrm>
            <a:off x="4114800" y="2362320"/>
            <a:ext cx="3581280" cy="39718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http://www.cheflala.com/lifestyle/wp-content/uploads/2009/04/cilantro2.jpg"/>
          <p:cNvPicPr/>
          <p:nvPr/>
        </p:nvPicPr>
        <p:blipFill>
          <a:blip r:embed="rId3"/>
          <a:stretch/>
        </p:blipFill>
        <p:spPr>
          <a:xfrm>
            <a:off x="5029200" y="152280"/>
            <a:ext cx="1096920" cy="1371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http://static.howstuffworks.com/gif/rd/getting-to-know-onion-type-basics0.jpg"/>
          <p:cNvPicPr/>
          <p:nvPr/>
        </p:nvPicPr>
        <p:blipFill>
          <a:blip r:embed="rId4"/>
          <a:stretch/>
        </p:blipFill>
        <p:spPr>
          <a:xfrm>
            <a:off x="533520" y="2895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http://cedrus-group-international.com/yahoo_site_admin/assets/images/OLIVE4.16163226.jpg"/>
          <p:cNvPicPr/>
          <p:nvPr/>
        </p:nvPicPr>
        <p:blipFill>
          <a:blip r:embed="rId5"/>
          <a:stretch/>
        </p:blipFill>
        <p:spPr>
          <a:xfrm>
            <a:off x="1447920" y="4191120"/>
            <a:ext cx="1993680" cy="15890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http://z.hubpages.com/u/229140_f260.jpg"/>
          <p:cNvPicPr/>
          <p:nvPr/>
        </p:nvPicPr>
        <p:blipFill>
          <a:blip r:embed="rId6"/>
          <a:stretch/>
        </p:blipFill>
        <p:spPr>
          <a:xfrm>
            <a:off x="6172200" y="762120"/>
            <a:ext cx="13557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hangu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rut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Bandeja pais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afé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ttp://www.maya-culture.de/wp-content/uploads/2009/04/changua.jpg"/>
          <p:cNvPicPr/>
          <p:nvPr/>
        </p:nvPicPr>
        <p:blipFill>
          <a:blip r:embed="rId2"/>
          <a:stretch/>
        </p:blipFill>
        <p:spPr>
          <a:xfrm>
            <a:off x="4191120" y="990720"/>
            <a:ext cx="2741400" cy="2057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http://www.granhotelparishn.com/images/foto-bandeja-paisa.jpg"/>
          <p:cNvPicPr/>
          <p:nvPr/>
        </p:nvPicPr>
        <p:blipFill>
          <a:blip r:embed="rId3"/>
          <a:stretch/>
        </p:blipFill>
        <p:spPr>
          <a:xfrm>
            <a:off x="4952880" y="3657600"/>
            <a:ext cx="3843360" cy="28828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kingdomcoffee.co.uk/Assets/Picture/DSC00124-15315.jpg"/>
          <p:cNvPicPr/>
          <p:nvPr/>
        </p:nvPicPr>
        <p:blipFill>
          <a:blip r:embed="rId4"/>
          <a:stretch/>
        </p:blipFill>
        <p:spPr>
          <a:xfrm>
            <a:off x="3124080" y="3276720"/>
            <a:ext cx="1905120" cy="1876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http://blog.hotelclub.com/wp-content/uploads/2008/05/03_passion_fruit.jpg"/>
          <p:cNvPicPr/>
          <p:nvPr/>
        </p:nvPicPr>
        <p:blipFill>
          <a:blip r:embed="rId5"/>
          <a:stretch/>
        </p:blipFill>
        <p:spPr>
          <a:xfrm>
            <a:off x="6781680" y="2438280"/>
            <a:ext cx="1330560" cy="9748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http://www.freakingnews.com/images/app_images/pineapple.jpg"/>
          <p:cNvPicPr/>
          <p:nvPr/>
        </p:nvPicPr>
        <p:blipFill>
          <a:blip r:embed="rId6"/>
          <a:stretch/>
        </p:blipFill>
        <p:spPr>
          <a:xfrm>
            <a:off x="457200" y="3809880"/>
            <a:ext cx="1371600" cy="1803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4" descr="http://img.alibaba.com/photo/10339375/Blackberry_Fruit_Pulp.jpg"/>
          <p:cNvPicPr/>
          <p:nvPr/>
        </p:nvPicPr>
        <p:blipFill>
          <a:blip r:embed="rId7"/>
          <a:stretch/>
        </p:blipFill>
        <p:spPr>
          <a:xfrm>
            <a:off x="3429000" y="52578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6" descr="http://www.ingredientrade.com/images/thumb/Lulo2.jpg"/>
          <p:cNvPicPr/>
          <p:nvPr/>
        </p:nvPicPr>
        <p:blipFill>
          <a:blip r:embed="rId8"/>
          <a:stretch/>
        </p:blipFill>
        <p:spPr>
          <a:xfrm>
            <a:off x="1523880" y="388620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Un sabor distint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ondiciones ideale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Juan Valdez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img.alibaba.com/photo/11330719/Certified_Utzkapeh_100_Pure_Colombian_Coffee.jpg"/>
          <p:cNvPicPr/>
          <p:nvPr/>
        </p:nvPicPr>
        <p:blipFill>
          <a:blip r:embed="rId2"/>
          <a:stretch/>
        </p:blipFill>
        <p:spPr>
          <a:xfrm>
            <a:off x="4876920" y="380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http://www.readingeagle.com/blog/madrid/archives/Juan%20valdez%20cafe%20de%20colombia.jpg"/>
          <p:cNvPicPr/>
          <p:nvPr/>
        </p:nvPicPr>
        <p:blipFill>
          <a:blip r:embed="rId3"/>
          <a:stretch/>
        </p:blipFill>
        <p:spPr>
          <a:xfrm>
            <a:off x="1295280" y="3200400"/>
            <a:ext cx="3376800" cy="26668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0" descr="http://www.swindon.gov.uk/coffee_cup.jpg"/>
          <p:cNvPicPr/>
          <p:nvPr/>
        </p:nvPicPr>
        <p:blipFill>
          <a:blip r:embed="rId4"/>
          <a:stretch/>
        </p:blipFill>
        <p:spPr>
          <a:xfrm>
            <a:off x="5562720" y="4419720"/>
            <a:ext cx="24019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Tahoma"/>
                <a:ea typeface="Tahoma"/>
              </a:rPr>
              <a:t>El manjar de Colombi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Tahoma"/>
                <a:ea typeface="Tahoma"/>
              </a:rPr>
              <a:t>Un plato de: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bistec a la parrill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puerco frit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salchich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frijoles rojo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huevo frit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avacad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arroz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arep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http://farm1.static.flickr.com/50/114781855_f78a86e590.jpg"/>
          <p:cNvPicPr/>
          <p:nvPr/>
        </p:nvPicPr>
        <p:blipFill>
          <a:blip r:embed="rId2"/>
          <a:stretch/>
        </p:blipFill>
        <p:spPr>
          <a:xfrm>
            <a:off x="4381560" y="213372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9" descr="http://images.surlatable.com/surlatable/images/en_US/local/products/detail/Ent_Bayless_Tamales_807.jpg"/>
          <p:cNvPicPr/>
          <p:nvPr/>
        </p:nvPicPr>
        <p:blipFill>
          <a:blip r:embed="rId1"/>
          <a:stretch/>
        </p:blipFill>
        <p:spPr>
          <a:xfrm>
            <a:off x="3657600" y="4114800"/>
            <a:ext cx="1889280" cy="18892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Ajiac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amale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ancoch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Lechon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Hormigas culon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04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http://tvcolombia.com.co/images/imagenes/original/3098199.jpg"/>
          <p:cNvPicPr/>
          <p:nvPr/>
        </p:nvPicPr>
        <p:blipFill>
          <a:blip r:embed="rId3"/>
          <a:stretch/>
        </p:blipFill>
        <p:spPr>
          <a:xfrm>
            <a:off x="3962520" y="1523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http://www.online-spanisch.com/blog/wp-content/uploads/2008/11/homigaculonas.jpg"/>
          <p:cNvPicPr/>
          <p:nvPr/>
        </p:nvPicPr>
        <p:blipFill>
          <a:blip r:embed="rId4"/>
          <a:stretch/>
        </p:blipFill>
        <p:spPr>
          <a:xfrm>
            <a:off x="5562720" y="2590920"/>
            <a:ext cx="2666880" cy="1726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http://lh6.ggpht.com/_BizpeaUzxq8/SSbC79_UAVI/AAAAAAAAAjY/L0_Iuimfegk/s800/sancocho.jpg"/>
          <p:cNvPicPr/>
          <p:nvPr/>
        </p:nvPicPr>
        <p:blipFill>
          <a:blip r:embed="rId5"/>
          <a:stretch/>
        </p:blipFill>
        <p:spPr>
          <a:xfrm>
            <a:off x="6019920" y="4495680"/>
            <a:ext cx="2908080" cy="19875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3" descr="http://www.mis-recetas.org/foto/foto/340/grande/lechona-mallorca.jpg"/>
          <p:cNvPicPr/>
          <p:nvPr/>
        </p:nvPicPr>
        <p:blipFill>
          <a:blip r:embed="rId6"/>
          <a:stretch/>
        </p:blipFill>
        <p:spPr>
          <a:xfrm>
            <a:off x="6934320" y="914400"/>
            <a:ext cx="181908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Una sop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Incluye: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Poll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Papa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Maíz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Avacad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Cap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Crema agre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Guasc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http://photos.travellerspoint.com/162906/ajiaco.jpg"/>
          <p:cNvPicPr/>
          <p:nvPr/>
        </p:nvPicPr>
        <p:blipFill>
          <a:blip r:embed="rId2"/>
          <a:stretch/>
        </p:blipFill>
        <p:spPr>
          <a:xfrm>
            <a:off x="4876920" y="2057400"/>
            <a:ext cx="30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Muchos tipo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arne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Verdur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Arroz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Hojas de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látano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1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http://www.mexicologue.com/files/2008/11/tamales.jpg"/>
          <p:cNvPicPr/>
          <p:nvPr/>
        </p:nvPicPr>
        <p:blipFill>
          <a:blip r:embed="rId2"/>
          <a:stretch/>
        </p:blipFill>
        <p:spPr>
          <a:xfrm>
            <a:off x="5715000" y="1219320"/>
            <a:ext cx="2819520" cy="2225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http://inkyspot.files.wordpress.com/2008/09/tamales-wr.jpg"/>
          <p:cNvPicPr/>
          <p:nvPr/>
        </p:nvPicPr>
        <p:blipFill>
          <a:blip r:embed="rId3"/>
          <a:stretch/>
        </p:blipFill>
        <p:spPr>
          <a:xfrm>
            <a:off x="2895480" y="35053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Version propi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oll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Maíz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ap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ilantr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Yuc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lantain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1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http://1.bp.blogspot.com/_-8EnsTNY7aw/Sblkv33yplI/AAAAAAAAAHY/Jm6sby87pe8/s400/sancocho_dominicano.jpg"/>
          <p:cNvPicPr/>
          <p:nvPr/>
        </p:nvPicPr>
        <p:blipFill>
          <a:blip r:embed="rId2"/>
          <a:stretch/>
        </p:blipFill>
        <p:spPr>
          <a:xfrm>
            <a:off x="6095880" y="403848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http://www.blogcdn.com/www.slashfood.com/media/2008/12/roast-chicken.jpg"/>
          <p:cNvPicPr/>
          <p:nvPr/>
        </p:nvPicPr>
        <p:blipFill>
          <a:blip r:embed="rId3"/>
          <a:srcRect l="0" t="0" r="0" b="8402"/>
          <a:stretch/>
        </p:blipFill>
        <p:spPr>
          <a:xfrm>
            <a:off x="3352680" y="3124080"/>
            <a:ext cx="2386080" cy="1660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http://z.about.com/d/southernfood/1/0/X/d/2/pork-loin-bacon-3.jpg"/>
          <p:cNvPicPr/>
          <p:nvPr/>
        </p:nvPicPr>
        <p:blipFill>
          <a:blip r:embed="rId4"/>
          <a:stretch/>
        </p:blipFill>
        <p:spPr>
          <a:xfrm>
            <a:off x="5181480" y="1600200"/>
            <a:ext cx="23338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9:14:59Z</dcterms:created>
  <dc:creator>Kristen</dc:creator>
  <dc:description/>
  <dc:language>en-US</dc:language>
  <cp:lastModifiedBy>Kristen</cp:lastModifiedBy>
  <dcterms:modified xsi:type="dcterms:W3CDTF">2009-10-01T21:06:34Z</dcterms:modified>
  <cp:revision>44</cp:revision>
  <dc:subject/>
  <dc:title>Food Name</dc:title>
</cp:coreProperties>
</file>