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4.jpeg" ContentType="image/jpeg"/>
  <Override PartName="/ppt/media/image22.png" ContentType="image/png"/>
  <Override PartName="/ppt/media/image23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26.png" ContentType="image/png"/>
  <Override PartName="/ppt/media/image17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37.jpeg" ContentType="image/jpeg"/>
  <Override PartName="/ppt/media/image32.jpeg" ContentType="image/jpeg"/>
  <Override PartName="/ppt/media/image5.jpeg" ContentType="image/jpeg"/>
  <Override PartName="/ppt/media/image38.jpeg" ContentType="image/jpeg"/>
  <Override PartName="/ppt/media/image44.jpeg" ContentType="image/jpeg"/>
  <Override PartName="/ppt/media/image41.jpeg" ContentType="image/jpeg"/>
  <Override PartName="/ppt/media/image45.jpeg" ContentType="image/jpeg"/>
  <Override PartName="/ppt/media/image35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12.jpeg" ContentType="image/jpeg"/>
  <Override PartName="/ppt/media/image34.png" ContentType="image/png"/>
  <Override PartName="/ppt/media/image4.png" ContentType="image/png"/>
  <Override PartName="/ppt/media/image48.jpeg" ContentType="image/jpeg"/>
  <Override PartName="/ppt/media/image31.jpeg" ContentType="image/jpeg"/>
  <Override PartName="/ppt/media/image30.jpeg" ContentType="image/jpeg"/>
  <Override PartName="/ppt/media/image9.png" ContentType="image/png"/>
  <Override PartName="/ppt/media/image39.png" ContentType="image/png"/>
  <Override PartName="/ppt/media/image7.png" ContentType="image/png"/>
  <Override PartName="/ppt/media/image11.jpeg" ContentType="image/jpeg"/>
  <Override PartName="/ppt/media/image8.png" ContentType="image/png"/>
  <Override PartName="/ppt/media/image40.jpeg" ContentType="image/jpeg"/>
  <Override PartName="/ppt/media/image13.jpeg" ContentType="image/jpe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84D8-2075-4398-A14C-9D4A7BB153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4BFA-51DE-4D14-BD90-542F3BA04C00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E4FB-4090-4C9C-B54A-E22C04F43AE5}" type="slidenum">
              <a:rPr b="0" lang="en-US" sz="1200" spc="-1" strike="noStrike">
                <a:solidFill>
                  <a:srgbClr val="a5002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14B-4685-4ACD-BE9E-2F2FE628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1BC6-5EBA-40AD-A00E-054346B01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8EA-26C6-4FE1-B4AA-37482AD8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E0D-CDBC-4B1E-B7F4-F1055A7A9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8E44-849C-42CA-8AB0-F1D7C1AF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DCB40-5ADF-4ADB-A60E-75EC2125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314F-DD12-4CD3-A334-2C5C0F43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5C3E7-F853-4BF6-96C8-DF780A44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DE5-30F7-4256-98B2-F849846BC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36D1B-4125-4913-B024-B9075C0CA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A500F-A2E0-4F8F-86AF-6F3ACDA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531D-B1BF-4B1F-B363-636B9F5B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AAE85-261E-4AAC-859F-4AB63E7B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218F-9001-48F5-A702-682DBD1C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FA69-4B42-45B1-8F4D-F0AD1F4D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BBC59-01B7-46A7-99EC-7C011A27A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844EA-84FE-43F9-A5E4-8A1CD7A1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C2920-5AF4-479D-9FC0-EC27307A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E2062-138A-401A-8831-45A30683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09EE-9CD4-4634-9753-65844B6A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97F1DB-F99E-4BC4-AD7F-2E433D404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6BEFF-4E7F-4977-A142-EBD90C57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A5D-931B-4339-85EF-BBD4CAA57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5AA92-C088-44C7-8CFF-ABD6ED00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04BF0-9F67-4914-AE0E-2F0C2959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815F0-1426-4243-AEFA-F2E30E57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83CB5-FF11-48D5-B451-0A6697C7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8E740-B357-4225-8E07-37AAF230D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61FA8-3A9E-4011-8BAC-67F9FD513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1938-3D61-486D-A492-83786AB3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2C3F-4F61-4E31-87FC-81AFE629F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67181-FDA6-4122-85BF-704C490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C9B14-3119-449A-8025-D56020A1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F1A4-8D74-4E52-A38B-6F41D495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15638-1EFC-4275-86AC-CA1F3E33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0B69-9086-4CDE-8419-93092FA3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70A3C-41B0-40CF-85AC-9C5B3908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2DCA6-06C5-46FC-87EE-1CE39E3A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6FB1C-C5F1-4B2E-A7E0-35297070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C6206-74F8-4968-A580-DEC2FFDE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34773-253E-473A-BE02-30082FEC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5CFD1-709A-4535-AAB8-ED1F1D55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C328F-2C88-4DF4-B525-6B6AE587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BB857-AA6E-4A60-802E-C0376DC9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AB9-C01B-442A-ABEA-746EAAD7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05BC-076E-4074-8E3F-48C376B33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DDA48-E496-491E-A612-9E458ADFB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827B44-DAB2-4004-880D-4719039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B833F-57D4-4EBD-A23F-FBF66867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E046-D60C-45FB-92E5-D7D46A12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09EEF-D949-4633-B20D-8336DD3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380B1-94DF-4269-8E8F-38946CFEC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BE1C7-0D00-4807-9A72-FA87AB7AE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58CC8-DE3A-4DC3-AF3F-A57B00D1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EB620-5025-498B-8198-F08F9DBFC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027C-3C8C-4A97-B87F-EC211672E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C18913-A187-4D86-884B-BDE03A61D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C6A22-2806-4C89-A662-C614A709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E15D5-E831-400B-AEC5-2D55672A7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613AE-EE31-4692-B7D6-2F267D2C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46AB-4431-4F2D-889B-C6E90D1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41D92-4F31-48EE-8896-91A327A7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A48A5-B8E2-4B00-9CF9-3BBCE04A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158B9-8653-47F6-84F6-58EE6B61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3CF9D-DA9D-4FEF-BA89-A3E660A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0EA20-05CC-4689-A9AC-246C098B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5D6-CD2C-4002-9BC2-048C5C4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E1458-65FB-403F-AAF2-B4DBA0A9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1C63-2B38-4C8D-BB36-F5597807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4CD84-A32E-443A-AA6F-D3A9A8671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E8C3D-A913-469E-B82A-34E6E841C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953C6-ACA5-4F0B-879A-FCA15273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6BDEC-DF00-4835-95BB-7DBF08B6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07D0C-2585-4D89-A826-AA52B334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F3F92-174B-4058-9DB2-552D9A84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D6A12-3044-46A9-88FD-709E1947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CE063-99AC-4BFB-A45F-687E80D4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EC23-BCA6-455E-82CC-232D41E8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9F0B7-A119-4A08-ABEE-8838DEB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E94DC-820F-4332-824A-41C71F181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35F4D-61FF-4AE2-83E5-0BEE70D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B9E2-158C-4C1C-BA89-83F5E75D7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F5B7E4-BEA2-486D-9D51-E1FF06CE7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ABDA5-35E0-437B-A55C-68F59B30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7F707-98C8-4FA6-BD62-FE67ABE3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00314-18C6-40AF-9BBE-A13D3484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E90FD-8FBD-417D-AF43-55224BA8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C8283-C1F0-4A9C-B473-5FE13D2F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9D3A-88B0-4CE4-8A92-407D6F165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86CFF-A048-4FB3-AEE3-2D4DED8A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96CED-222C-4ABB-ABA7-99CAFD3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E648-5B34-4A6A-83D5-11E9C98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DCC40-DFC2-4962-9371-B74A994C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DAEE56-C547-4AC4-83DB-C4C97570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4AA7B8-9D1F-4B57-9AF5-672AC0C70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7C52F-FDFD-443F-BE31-8F3D7FEE7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5D62-C912-4869-B9AF-48043D26C73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bf2745"/>
              </a:gs>
              <a:gs pos="50000">
                <a:srgbClr val="ff6f8d"/>
              </a:gs>
              <a:gs pos="100000">
                <a:srgbClr val="bf2745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fb0b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a50021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B98C-511E-4BD5-8D31-95C3E950DE1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D324-FD43-4626-B550-E50FFB6E0B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E2D53-36CD-4C76-BB3E-F95AF28950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3A14B-9AD9-4B85-B61D-7035242FFF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4EF9F-4962-4D25-A179-F68125E368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a5002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3E57-6EE6-4669-BB27-AA807306293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ffb0b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a50021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94e69"/>
              </a:gs>
              <a:gs pos="100000">
                <a:srgbClr val="ff95a8"/>
              </a:gs>
            </a:gsLst>
            <a:lin ang="16200000"/>
          </a:gradFill>
          <a:ln cap="rnd" w="3240">
            <a:solidFill>
              <a:srgbClr val="bc5468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6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0021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66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66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DDA3-B452-4526-B028-B9B2E0D43A2A}" type="slidenum">
              <a:rPr b="0" lang="en-US" sz="10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181120" y="3581280"/>
            <a:ext cx="3429000" cy="533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Por: Kristen Popovich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78" name="Rectangle 6" descr=""/>
          <p:cNvPicPr/>
          <p:nvPr/>
        </p:nvPicPr>
        <p:blipFill>
          <a:blip r:embed="rId1"/>
          <a:stretch/>
        </p:blipFill>
        <p:spPr>
          <a:xfrm>
            <a:off x="822240" y="2682720"/>
            <a:ext cx="813924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cerdo rellenad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ervado con are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Rellenado co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ebollas verde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Especi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isantes amarill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http://colombianadas.net/albums/colombianadas2/normal_colombianadas_1672.jpg"/>
          <p:cNvPicPr/>
          <p:nvPr/>
        </p:nvPicPr>
        <p:blipFill>
          <a:blip r:embed="rId2"/>
          <a:stretch/>
        </p:blipFill>
        <p:spPr>
          <a:xfrm>
            <a:off x="5638680" y="685800"/>
            <a:ext cx="3060720" cy="40813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http://www.restaurants-121.com/images/photo/497/lechona%20dish%20crop%202%20(300%20x%20229).jpg"/>
          <p:cNvPicPr/>
          <p:nvPr/>
        </p:nvPicPr>
        <p:blipFill>
          <a:blip r:embed="rId3"/>
          <a:stretch/>
        </p:blipFill>
        <p:spPr>
          <a:xfrm>
            <a:off x="4038480" y="4419720"/>
            <a:ext cx="285768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gua de sal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Esados en un bot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a proteí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2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http://www.correvedile.com/literatura/poemas/imagenes/hormiga-culona.jpg"/>
          <p:cNvPicPr/>
          <p:nvPr/>
        </p:nvPicPr>
        <p:blipFill>
          <a:blip r:embed="rId2"/>
          <a:stretch/>
        </p:blipFill>
        <p:spPr>
          <a:xfrm>
            <a:off x="1143000" y="3581280"/>
            <a:ext cx="3000240" cy="15242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imgarticulot13812520066.jpg"/>
          <p:cNvPicPr/>
          <p:nvPr/>
        </p:nvPicPr>
        <p:blipFill>
          <a:blip r:embed="rId3"/>
          <a:stretch/>
        </p:blipFill>
        <p:spPr>
          <a:xfrm>
            <a:off x="4572000" y="2514600"/>
            <a:ext cx="3809880" cy="26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ttp://www.youtube.com/watch?v=DvNvmhzSUJw&amp;feature=player_embedded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a50021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1" descr="http://www1.ocn.ne.jp/~infinite/PeacePath_Flags_Data/ColombiaF.gif"/>
          <p:cNvPicPr/>
          <p:nvPr/>
        </p:nvPicPr>
        <p:blipFill>
          <a:blip r:embed="rId1"/>
          <a:stretch/>
        </p:blipFill>
        <p:spPr>
          <a:xfrm>
            <a:off x="1371600" y="45720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http://www.europe-map.org/south-america/maps/colombia.gif"/>
          <p:cNvPicPr/>
          <p:nvPr/>
        </p:nvPicPr>
        <p:blipFill>
          <a:blip r:embed="rId2"/>
          <a:stretch/>
        </p:blipFill>
        <p:spPr>
          <a:xfrm>
            <a:off x="4114800" y="2362320"/>
            <a:ext cx="3581280" cy="39718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http://www.cheflala.com/lifestyle/wp-content/uploads/2009/04/cilantro2.jpg"/>
          <p:cNvPicPr/>
          <p:nvPr/>
        </p:nvPicPr>
        <p:blipFill>
          <a:blip r:embed="rId3"/>
          <a:stretch/>
        </p:blipFill>
        <p:spPr>
          <a:xfrm>
            <a:off x="5029200" y="152280"/>
            <a:ext cx="109692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static.howstuffworks.com/gif/rd/getting-to-know-onion-type-basics0.jpg"/>
          <p:cNvPicPr/>
          <p:nvPr/>
        </p:nvPicPr>
        <p:blipFill>
          <a:blip r:embed="rId4"/>
          <a:stretch/>
        </p:blipFill>
        <p:spPr>
          <a:xfrm>
            <a:off x="533520" y="28954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6" descr="http://cedrus-group-international.com/yahoo_site_admin/assets/images/OLIVE4.16163226.jpg"/>
          <p:cNvPicPr/>
          <p:nvPr/>
        </p:nvPicPr>
        <p:blipFill>
          <a:blip r:embed="rId5"/>
          <a:stretch/>
        </p:blipFill>
        <p:spPr>
          <a:xfrm>
            <a:off x="1447920" y="4191120"/>
            <a:ext cx="1993680" cy="15890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http://z.hubpages.com/u/229140_f260.jpg"/>
          <p:cNvPicPr/>
          <p:nvPr/>
        </p:nvPicPr>
        <p:blipFill>
          <a:blip r:embed="rId6"/>
          <a:stretch/>
        </p:blipFill>
        <p:spPr>
          <a:xfrm>
            <a:off x="6172200" y="762120"/>
            <a:ext cx="135576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hangu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Frut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Bandeja pais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fé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ttp://www.maya-culture.de/wp-content/uploads/2009/04/changua.jpg"/>
          <p:cNvPicPr/>
          <p:nvPr/>
        </p:nvPicPr>
        <p:blipFill>
          <a:blip r:embed="rId2"/>
          <a:stretch/>
        </p:blipFill>
        <p:spPr>
          <a:xfrm>
            <a:off x="4191120" y="990720"/>
            <a:ext cx="2741400" cy="20574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http://www.granhotelparishn.com/images/foto-bandeja-paisa.jpg"/>
          <p:cNvPicPr/>
          <p:nvPr/>
        </p:nvPicPr>
        <p:blipFill>
          <a:blip r:embed="rId3"/>
          <a:stretch/>
        </p:blipFill>
        <p:spPr>
          <a:xfrm>
            <a:off x="4952880" y="3657600"/>
            <a:ext cx="3843360" cy="28828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8" descr="http://www.kingdomcoffee.co.uk/Assets/Picture/DSC00124-15315.jpg"/>
          <p:cNvPicPr/>
          <p:nvPr/>
        </p:nvPicPr>
        <p:blipFill>
          <a:blip r:embed="rId4"/>
          <a:stretch/>
        </p:blipFill>
        <p:spPr>
          <a:xfrm>
            <a:off x="3124080" y="3276720"/>
            <a:ext cx="1905120" cy="18763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0" descr="http://blog.hotelclub.com/wp-content/uploads/2008/05/03_passion_fruit.jpg"/>
          <p:cNvPicPr/>
          <p:nvPr/>
        </p:nvPicPr>
        <p:blipFill>
          <a:blip r:embed="rId5"/>
          <a:stretch/>
        </p:blipFill>
        <p:spPr>
          <a:xfrm>
            <a:off x="6781680" y="2438280"/>
            <a:ext cx="1330560" cy="9748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http://www.freakingnews.com/images/app_images/pineapple.jpg"/>
          <p:cNvPicPr/>
          <p:nvPr/>
        </p:nvPicPr>
        <p:blipFill>
          <a:blip r:embed="rId6"/>
          <a:stretch/>
        </p:blipFill>
        <p:spPr>
          <a:xfrm>
            <a:off x="457200" y="3809880"/>
            <a:ext cx="1371600" cy="180360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14" descr="http://img.alibaba.com/photo/10339375/Blackberry_Fruit_Pulp.jpg"/>
          <p:cNvPicPr/>
          <p:nvPr/>
        </p:nvPicPr>
        <p:blipFill>
          <a:blip r:embed="rId7"/>
          <a:stretch/>
        </p:blipFill>
        <p:spPr>
          <a:xfrm>
            <a:off x="3429000" y="52578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6" descr="http://www.ingredientrade.com/images/thumb/Lulo2.jpg"/>
          <p:cNvPicPr/>
          <p:nvPr/>
        </p:nvPicPr>
        <p:blipFill>
          <a:blip r:embed="rId8"/>
          <a:stretch/>
        </p:blipFill>
        <p:spPr>
          <a:xfrm>
            <a:off x="1523880" y="3886200"/>
            <a:ext cx="14288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 sabor distint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ondiciones ide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Juan Valde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2" descr="http://img.alibaba.com/photo/11330719/Certified_Utzkapeh_100_Pure_Colombian_Coffee.jpg"/>
          <p:cNvPicPr/>
          <p:nvPr/>
        </p:nvPicPr>
        <p:blipFill>
          <a:blip r:embed="rId2"/>
          <a:stretch/>
        </p:blipFill>
        <p:spPr>
          <a:xfrm>
            <a:off x="4876920" y="380880"/>
            <a:ext cx="3809880" cy="38102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6" descr="http://www.readingeagle.com/blog/madrid/archives/Juan%20valdez%20cafe%20de%20colombia.jpg"/>
          <p:cNvPicPr/>
          <p:nvPr/>
        </p:nvPicPr>
        <p:blipFill>
          <a:blip r:embed="rId3"/>
          <a:stretch/>
        </p:blipFill>
        <p:spPr>
          <a:xfrm>
            <a:off x="1295280" y="3200400"/>
            <a:ext cx="3376800" cy="2666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0" descr="http://www.swindon.gov.uk/coffee_cup.jpg"/>
          <p:cNvPicPr/>
          <p:nvPr/>
        </p:nvPicPr>
        <p:blipFill>
          <a:blip r:embed="rId4"/>
          <a:stretch/>
        </p:blipFill>
        <p:spPr>
          <a:xfrm>
            <a:off x="5562720" y="4419720"/>
            <a:ext cx="24019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El manjar de Colombi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Tahoma"/>
                <a:ea typeface="Tahoma"/>
              </a:rPr>
              <a:t>Un plato d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bistec a la parrill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puerc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salchich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frijoles rojo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huevo frit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ro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Tahoma"/>
                <a:ea typeface="Tahoma"/>
              </a:rPr>
              <a:t>are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lnSpc>
                <a:spcPct val="100000"/>
              </a:lnSpc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5" descr="http://farm1.static.flickr.com/50/114781855_f78a86e590.jpg"/>
          <p:cNvPicPr/>
          <p:nvPr/>
        </p:nvPicPr>
        <p:blipFill>
          <a:blip r:embed="rId2"/>
          <a:stretch/>
        </p:blipFill>
        <p:spPr>
          <a:xfrm>
            <a:off x="4381560" y="213372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9" descr="http://images.surlatable.com/surlatable/images/en_US/local/products/detail/Ent_Bayless_Tamales_807.jpg"/>
          <p:cNvPicPr/>
          <p:nvPr/>
        </p:nvPicPr>
        <p:blipFill>
          <a:blip r:embed="rId1"/>
          <a:stretch/>
        </p:blipFill>
        <p:spPr>
          <a:xfrm>
            <a:off x="3657600" y="4114800"/>
            <a:ext cx="1889280" cy="188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jiac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Tamale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Sancoch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Lechon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rmigas culon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04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5" descr="http://tvcolombia.com.co/images/imagenes/original/3098199.jpg"/>
          <p:cNvPicPr/>
          <p:nvPr/>
        </p:nvPicPr>
        <p:blipFill>
          <a:blip r:embed="rId3"/>
          <a:stretch/>
        </p:blipFill>
        <p:spPr>
          <a:xfrm>
            <a:off x="3962520" y="152388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http://www.online-spanisch.com/blog/wp-content/uploads/2008/11/homigaculonas.jpg"/>
          <p:cNvPicPr/>
          <p:nvPr/>
        </p:nvPicPr>
        <p:blipFill>
          <a:blip r:embed="rId4"/>
          <a:stretch/>
        </p:blipFill>
        <p:spPr>
          <a:xfrm>
            <a:off x="5562720" y="2590920"/>
            <a:ext cx="2666880" cy="1726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http://lh6.ggpht.com/_BizpeaUzxq8/SSbC79_UAVI/AAAAAAAAAjY/L0_Iuimfegk/s800/sancocho.jpg"/>
          <p:cNvPicPr/>
          <p:nvPr/>
        </p:nvPicPr>
        <p:blipFill>
          <a:blip r:embed="rId5"/>
          <a:stretch/>
        </p:blipFill>
        <p:spPr>
          <a:xfrm>
            <a:off x="6019920" y="4495680"/>
            <a:ext cx="2908080" cy="19875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13" descr="http://www.mis-recetas.org/foto/foto/340/grande/lechona-mallorca.jpg"/>
          <p:cNvPicPr/>
          <p:nvPr/>
        </p:nvPicPr>
        <p:blipFill>
          <a:blip r:embed="rId6"/>
          <a:stretch/>
        </p:blipFill>
        <p:spPr>
          <a:xfrm>
            <a:off x="6934320" y="914400"/>
            <a:ext cx="1819080" cy="15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Una sop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Incluye: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Avacado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ap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Crema agre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50021"/>
                </a:solidFill>
                <a:latin typeface="Lucida Sans Unicode"/>
              </a:rPr>
              <a:t>Guasca</a:t>
            </a: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f7590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" descr="http://photos.travellerspoint.com/162906/ajiaco.jpg"/>
          <p:cNvPicPr/>
          <p:nvPr/>
        </p:nvPicPr>
        <p:blipFill>
          <a:blip r:embed="rId2"/>
          <a:stretch/>
        </p:blipFill>
        <p:spPr>
          <a:xfrm>
            <a:off x="4876920" y="2057400"/>
            <a:ext cx="3047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uchos tip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arn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dur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Arro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Hojas de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átano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http://www.mexicologue.com/files/2008/11/tamales.jpg"/>
          <p:cNvPicPr/>
          <p:nvPr/>
        </p:nvPicPr>
        <p:blipFill>
          <a:blip r:embed="rId2"/>
          <a:stretch/>
        </p:blipFill>
        <p:spPr>
          <a:xfrm>
            <a:off x="5715000" y="1219320"/>
            <a:ext cx="2819520" cy="2225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4" descr="http://inkyspot.files.wordpress.com/2008/09/tamales-wr.jpg"/>
          <p:cNvPicPr/>
          <p:nvPr/>
        </p:nvPicPr>
        <p:blipFill>
          <a:blip r:embed="rId3"/>
          <a:stretch/>
        </p:blipFill>
        <p:spPr>
          <a:xfrm>
            <a:off x="2895480" y="3505320"/>
            <a:ext cx="388620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Version propi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oll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Maíz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apas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Cilantro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Yuca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a50021"/>
                </a:solidFill>
                <a:latin typeface="Lucida Sans Unicode"/>
              </a:rPr>
              <a:t>Plantain</a:t>
            </a: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f7590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a50021"/>
              </a:solidFill>
              <a:latin typeface="Lucida Sans Unicode"/>
            </a:endParaRPr>
          </a:p>
        </p:txBody>
      </p:sp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http://1.bp.blogspot.com/_-8EnsTNY7aw/Sblkv33yplI/AAAAAAAAAHY/Jm6sby87pe8/s400/sancocho_dominicano.jpg"/>
          <p:cNvPicPr/>
          <p:nvPr/>
        </p:nvPicPr>
        <p:blipFill>
          <a:blip r:embed="rId2"/>
          <a:stretch/>
        </p:blipFill>
        <p:spPr>
          <a:xfrm>
            <a:off x="6095880" y="403848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4" descr="http://www.blogcdn.com/www.slashfood.com/media/2008/12/roast-chicken.jpg"/>
          <p:cNvPicPr/>
          <p:nvPr/>
        </p:nvPicPr>
        <p:blipFill>
          <a:blip r:embed="rId3"/>
          <a:srcRect l="0" t="0" r="0" b="8402"/>
          <a:stretch/>
        </p:blipFill>
        <p:spPr>
          <a:xfrm>
            <a:off x="3352680" y="3124080"/>
            <a:ext cx="2386080" cy="16606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6" descr="http://z.about.com/d/southernfood/1/0/X/d/2/pork-loin-bacon-3.jpg"/>
          <p:cNvPicPr/>
          <p:nvPr/>
        </p:nvPicPr>
        <p:blipFill>
          <a:blip r:embed="rId4"/>
          <a:stretch/>
        </p:blipFill>
        <p:spPr>
          <a:xfrm>
            <a:off x="5181480" y="1600200"/>
            <a:ext cx="23338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9:14:59Z</dcterms:created>
  <dc:creator>Kristen</dc:creator>
  <dc:description/>
  <dc:language>en-US</dc:language>
  <cp:lastModifiedBy>Kristen</cp:lastModifiedBy>
  <dcterms:modified xsi:type="dcterms:W3CDTF">2009-10-01T21:06:34Z</dcterms:modified>
  <cp:revision>44</cp:revision>
  <dc:subject/>
  <dc:title>Food Name</dc:title>
</cp:coreProperties>
</file>