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5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A596-8939-47E1-92C7-7966BCB4D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669E-8176-4E33-834B-289809F0F092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5FD-ADCD-498C-827D-A27C6CBB88AA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1B42-BB64-4685-8779-9FB54D4F3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AEF6-8A35-4B64-A731-58B16440C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4141-E7CF-4962-AD67-A93E59DF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B0F-F68C-4669-B218-6C95731A9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2460-64D1-4937-B0A7-860AC945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7FEE-AE21-4AF2-89F3-427F22F69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D32B-D402-4C54-A461-F215980C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8D2C-8148-45BD-89A2-523FEE203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A03E1-B762-43DC-AA6F-514C03C04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1D9F-C877-43ED-BA2A-2106DAAA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C0C1-5D15-4C35-A749-6C99079C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601F-BFD5-4B97-918C-9FF1DFC3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5DE4-2031-4DB4-8887-F7C89C7A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26C6-2E00-4B83-980E-3962BCF9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451D-CB72-4D13-AA72-BF16F50C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F532-090F-44B7-870C-A51DB847B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5AF0-B8E0-4721-BB3B-7F9D92B7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7F6C5-D042-4737-9199-BE35B2EA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226C2-4765-44AB-8666-849DC9EC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1D739-1180-402B-81BB-901B5C2F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0DCC4-FA90-4D17-B3FB-252C920E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D13B6-E515-4D34-84CC-943A81EAA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6DC2-2476-4AF8-8198-321251D6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B3741-7E28-4DDF-A43B-C03A7F38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239D9-5F06-48C1-B0BE-FAEFF2F8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A5F3-EF12-40D2-A6C7-140873EA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02DF3-1ACC-4DC2-BF4B-F071AD8D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A3569-645D-4569-ACB1-A9CB7BB72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82409-4F41-441C-A65A-A6E4984CA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868A-65E7-46E3-9435-B7891330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7D4E5-3FB1-4ABD-8651-55C90984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7DD81-ED90-4B2A-9C2C-1A6D2E1A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395CF-661B-49B4-8FC8-7C4908B32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378E-BB5A-4723-81C0-F4B6720E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D14EA-E442-405F-9B4A-5C63D67B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813CC-1A5A-45D0-B586-0418374BB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6FB6-947F-4FDB-A066-5EECD21F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0D73-E898-4131-A8F8-F1061242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31F0B-6E76-425C-A627-4AD84362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98ED7-AF17-4135-AB5C-E50D4B93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5FEF8-4A51-4FA3-8B78-23A96DA3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02AF-A272-43B4-A71D-5EC1E3C30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BBD68-4FBD-4D78-BD1D-3977F3AF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951F2-92E7-48A3-A257-AED9AA55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7373-946D-4EC2-8FEB-08A41C2C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172AD-2BB4-47EA-A280-6E326AB9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CC9DD-311F-46A7-B485-4B660BBA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BE1B2-993A-48D0-9DC4-59CB5F25C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4B7C9-E385-4C6D-BB19-91F58FE64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C689C-9C1E-4E45-9705-3AD1FF14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24725-B369-4C1A-B020-ED1E44AC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DD7EA6-83DF-4335-9411-C8C32D8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831F69-C4E9-401D-A331-374D6F1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8FD4A-BC62-41D9-B8E0-22FB48E8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AA2B9-AC24-43D7-B7C1-8C45372C2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A90B-5F3B-4F50-9D00-0514F83C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951BA-74F9-493D-B01E-D5F06079F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B4504-1402-4D68-B7EC-23E0B072F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3F20B-ABC5-40E5-A58C-78A27129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16A44-5438-467B-8D8F-BADA636F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48586-4249-479C-A799-CA191C62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291DA5-C4F1-4FC5-97EC-4F9F84E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C5454-58F7-4011-B5B3-B0CCC1EC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EA75F-1750-4324-A333-AB93F19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248202-989F-4ED9-9DEF-16EC3C11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65452-CD4A-467E-9576-DA762831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81A5-5AD9-4A32-BDE0-87D2CB02E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94DAA-E059-4F89-BF4D-D26B3992E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BD9A52-F0AA-4D8A-982B-6D82AEE8E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859F2-904B-4D3E-8DBA-51EE2F00A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24CA6-B5B2-4175-89CB-BAF6EE54C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49BF0-0F49-4F8C-92A7-47EB3C8AD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5D15E1-B0AD-4426-899B-960522B1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541C-4CC4-4AA4-893A-2024DF4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4187E-7496-4ED7-9B4D-FBC001E4A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CB94B-72A5-4742-B877-235EE93B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14458-5E5D-4881-B665-04992D64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F924-9F6D-4134-9BF5-2EE0DEF12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A7B28-AC63-4C11-A761-D43CF0D8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011F-8B40-45A7-9107-ECD9F524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E45C2-D440-428B-8928-1F16AD46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092ED-57E0-4E17-98F5-B761E83D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4EF0F-F634-41AD-BD75-24F93508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9B79F-5FEA-44E9-B85B-5BC82617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30764-7CCF-414C-8B4A-04BB0EDF4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4E484-0B2E-4B2F-8872-56F0C31F4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E90792-BC31-43AD-968F-74457C02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982C0E-C085-4BD7-BF6A-858B11C5C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7A52-47A8-4AB6-830B-30AE27AC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D3C0C-BC13-44BA-A95B-B074B004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CA055-CB61-4BEF-9007-4C81C076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DD8C7-00F6-44C3-83AA-B557E200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1B0F36-BC5C-4874-AEEC-436E71BF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2792-B779-47C1-87B8-EAC81B93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E73E9-897D-4340-9097-BC61A84D1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C21665-A55B-45E4-B52E-841CF43BD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1114-0707-4AF1-9437-DC61878E50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f2745"/>
              </a:gs>
              <a:gs pos="50000">
                <a:srgbClr val="ff6f8d"/>
              </a:gs>
              <a:gs pos="100000">
                <a:srgbClr val="bf274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0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AF8F-32CB-4CB5-B5A6-5CACE43068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D1F-21E2-4A4E-A0BF-8177FAE0B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EF7F-E095-4706-A507-0E3B395204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6B18-E0A6-4861-AE6B-B7DA6E671D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1BBE-CE08-455A-9B90-E2194794BE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505D-5DEB-467C-9F7D-3137839F38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8874-D970-4E3C-B34A-66BCB7CBA1A8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181120" y="35812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Por: Kristen Popovich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78" name="Rectangle 6" descr=""/>
          <p:cNvPicPr/>
          <p:nvPr/>
        </p:nvPicPr>
        <p:blipFill>
          <a:blip r:embed="rId1"/>
          <a:stretch/>
        </p:blipFill>
        <p:spPr>
          <a:xfrm>
            <a:off x="822240" y="2682720"/>
            <a:ext cx="8139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cerdo rellenad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rvado con are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Rellenado co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ebollas verde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Especi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isantes amarill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colombianadas.net/albums/colombianadas2/normal_colombianadas_1672.jpg"/>
          <p:cNvPicPr/>
          <p:nvPr/>
        </p:nvPicPr>
        <p:blipFill>
          <a:blip r:embed="rId2"/>
          <a:stretch/>
        </p:blipFill>
        <p:spPr>
          <a:xfrm>
            <a:off x="5638680" y="685800"/>
            <a:ext cx="3060720" cy="4081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restaurants-121.com/images/photo/497/lechona%20dish%20crop%202%20(300%20x%20229).jpg"/>
          <p:cNvPicPr/>
          <p:nvPr/>
        </p:nvPicPr>
        <p:blipFill>
          <a:blip r:embed="rId3"/>
          <a:stretch/>
        </p:blipFill>
        <p:spPr>
          <a:xfrm>
            <a:off x="4038480" y="441972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gua de sa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Esados en un bot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a proteí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http://www.correvedile.com/literatura/poemas/imagenes/hormiga-culona.jpg"/>
          <p:cNvPicPr/>
          <p:nvPr/>
        </p:nvPicPr>
        <p:blipFill>
          <a:blip r:embed="rId2"/>
          <a:stretch/>
        </p:blipFill>
        <p:spPr>
          <a:xfrm>
            <a:off x="1143000" y="358128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imgarticulot13812520066.jpg"/>
          <p:cNvPicPr/>
          <p:nvPr/>
        </p:nvPicPr>
        <p:blipFill>
          <a:blip r:embed="rId3"/>
          <a:stretch/>
        </p:blipFill>
        <p:spPr>
          <a:xfrm>
            <a:off x="4572000" y="251460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ttp://www.youtube.com/watch?v=DvNvmhzSUJw&amp;feature=player_embedded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http://www1.ocn.ne.jp/~infinite/PeacePath_Flags_Data/ColombiaF.gif"/>
          <p:cNvPicPr/>
          <p:nvPr/>
        </p:nvPicPr>
        <p:blipFill>
          <a:blip r:embed="rId1"/>
          <a:stretch/>
        </p:blipFill>
        <p:spPr>
          <a:xfrm>
            <a:off x="1371600" y="45720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www.europe-map.org/south-america/maps/colombia.gif"/>
          <p:cNvPicPr/>
          <p:nvPr/>
        </p:nvPicPr>
        <p:blipFill>
          <a:blip r:embed="rId2"/>
          <a:stretch/>
        </p:blipFill>
        <p:spPr>
          <a:xfrm>
            <a:off x="4114800" y="2362320"/>
            <a:ext cx="3581280" cy="3971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www.cheflala.com/lifestyle/wp-content/uploads/2009/04/cilantro2.jpg"/>
          <p:cNvPicPr/>
          <p:nvPr/>
        </p:nvPicPr>
        <p:blipFill>
          <a:blip r:embed="rId3"/>
          <a:stretch/>
        </p:blipFill>
        <p:spPr>
          <a:xfrm>
            <a:off x="5029200" y="15228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static.howstuffworks.com/gif/rd/getting-to-know-onion-type-basics0.jpg"/>
          <p:cNvPicPr/>
          <p:nvPr/>
        </p:nvPicPr>
        <p:blipFill>
          <a:blip r:embed="rId4"/>
          <a:stretch/>
        </p:blipFill>
        <p:spPr>
          <a:xfrm>
            <a:off x="533520" y="2895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cedrus-group-international.com/yahoo_site_admin/assets/images/OLIVE4.16163226.jpg"/>
          <p:cNvPicPr/>
          <p:nvPr/>
        </p:nvPicPr>
        <p:blipFill>
          <a:blip r:embed="rId5"/>
          <a:stretch/>
        </p:blipFill>
        <p:spPr>
          <a:xfrm>
            <a:off x="1447920" y="4191120"/>
            <a:ext cx="1993680" cy="158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http://z.hubpages.com/u/229140_f260.jpg"/>
          <p:cNvPicPr/>
          <p:nvPr/>
        </p:nvPicPr>
        <p:blipFill>
          <a:blip r:embed="rId6"/>
          <a:stretch/>
        </p:blipFill>
        <p:spPr>
          <a:xfrm>
            <a:off x="6172200" y="762120"/>
            <a:ext cx="1355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hangu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rut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Bandeja pais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fé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maya-culture.de/wp-content/uploads/2009/04/changua.jpg"/>
          <p:cNvPicPr/>
          <p:nvPr/>
        </p:nvPicPr>
        <p:blipFill>
          <a:blip r:embed="rId2"/>
          <a:stretch/>
        </p:blipFill>
        <p:spPr>
          <a:xfrm>
            <a:off x="4191120" y="99072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www.granhotelparishn.com/images/foto-bandeja-paisa.jpg"/>
          <p:cNvPicPr/>
          <p:nvPr/>
        </p:nvPicPr>
        <p:blipFill>
          <a:blip r:embed="rId3"/>
          <a:stretch/>
        </p:blipFill>
        <p:spPr>
          <a:xfrm>
            <a:off x="4952880" y="36576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kingdomcoffee.co.uk/Assets/Picture/DSC00124-15315.jpg"/>
          <p:cNvPicPr/>
          <p:nvPr/>
        </p:nvPicPr>
        <p:blipFill>
          <a:blip r:embed="rId4"/>
          <a:stretch/>
        </p:blipFill>
        <p:spPr>
          <a:xfrm>
            <a:off x="3124080" y="3276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http://blog.hotelclub.com/wp-content/uploads/2008/05/03_passion_fruit.jpg"/>
          <p:cNvPicPr/>
          <p:nvPr/>
        </p:nvPicPr>
        <p:blipFill>
          <a:blip r:embed="rId5"/>
          <a:stretch/>
        </p:blipFill>
        <p:spPr>
          <a:xfrm>
            <a:off x="6781680" y="2438280"/>
            <a:ext cx="1330560" cy="974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http://www.freakingnews.com/images/app_images/pineapple.jpg"/>
          <p:cNvPicPr/>
          <p:nvPr/>
        </p:nvPicPr>
        <p:blipFill>
          <a:blip r:embed="rId6"/>
          <a:stretch/>
        </p:blipFill>
        <p:spPr>
          <a:xfrm>
            <a:off x="457200" y="3809880"/>
            <a:ext cx="1371600" cy="1803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http://img.alibaba.com/photo/10339375/Blackberry_Fruit_Pulp.jpg"/>
          <p:cNvPicPr/>
          <p:nvPr/>
        </p:nvPicPr>
        <p:blipFill>
          <a:blip r:embed="rId7"/>
          <a:stretch/>
        </p:blipFill>
        <p:spPr>
          <a:xfrm>
            <a:off x="3429000" y="5257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http://www.ingredientrade.com/images/thumb/Lulo2.jpg"/>
          <p:cNvPicPr/>
          <p:nvPr/>
        </p:nvPicPr>
        <p:blipFill>
          <a:blip r:embed="rId8"/>
          <a:stretch/>
        </p:blipFill>
        <p:spPr>
          <a:xfrm>
            <a:off x="1523880" y="38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sabor distint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ondiciones ide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Juan Valde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.alibaba.com/photo/11330719/Certified_Utzkapeh_100_Pure_Colombian_Coffee.jpg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readingeagle.com/blog/madrid/archives/Juan%20valdez%20cafe%20de%20colombia.jpg"/>
          <p:cNvPicPr/>
          <p:nvPr/>
        </p:nvPicPr>
        <p:blipFill>
          <a:blip r:embed="rId3"/>
          <a:stretch/>
        </p:blipFill>
        <p:spPr>
          <a:xfrm>
            <a:off x="1295280" y="3200400"/>
            <a:ext cx="337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http://www.swindon.gov.uk/coffee_cup.jpg"/>
          <p:cNvPicPr/>
          <p:nvPr/>
        </p:nvPicPr>
        <p:blipFill>
          <a:blip r:embed="rId4"/>
          <a:stretch/>
        </p:blipFill>
        <p:spPr>
          <a:xfrm>
            <a:off x="5562720" y="4419720"/>
            <a:ext cx="2401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El manjar de Colombi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Un plato d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bistec a la parrill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puerc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salchich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frijoles roj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huev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e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ttp://farm1.static.flickr.com/50/114781855_f78a86e590.jpg"/>
          <p:cNvPicPr/>
          <p:nvPr/>
        </p:nvPicPr>
        <p:blipFill>
          <a:blip r:embed="rId2"/>
          <a:stretch/>
        </p:blipFill>
        <p:spPr>
          <a:xfrm>
            <a:off x="4381560" y="2133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http://images.surlatable.com/surlatable/images/en_US/local/products/detail/Ent_Bayless_Tamales_807.jpg"/>
          <p:cNvPicPr/>
          <p:nvPr/>
        </p:nvPicPr>
        <p:blipFill>
          <a:blip r:embed="rId1"/>
          <a:stretch/>
        </p:blipFill>
        <p:spPr>
          <a:xfrm>
            <a:off x="3657600" y="411480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jiac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am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ancoch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Lecho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rmigas culon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http://tvcolombia.com.co/images/imagenes/original/3098199.jpg"/>
          <p:cNvPicPr/>
          <p:nvPr/>
        </p:nvPicPr>
        <p:blipFill>
          <a:blip r:embed="rId3"/>
          <a:stretch/>
        </p:blipFill>
        <p:spPr>
          <a:xfrm>
            <a:off x="39625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http://www.online-spanisch.com/blog/wp-content/uploads/2008/11/homigaculonas.jpg"/>
          <p:cNvPicPr/>
          <p:nvPr/>
        </p:nvPicPr>
        <p:blipFill>
          <a:blip r:embed="rId4"/>
          <a:stretch/>
        </p:blipFill>
        <p:spPr>
          <a:xfrm>
            <a:off x="5562720" y="2590920"/>
            <a:ext cx="2666880" cy="172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http://lh6.ggpht.com/_BizpeaUzxq8/SSbC79_UAVI/AAAAAAAAAjY/L0_Iuimfegk/s800/sancocho.jpg"/>
          <p:cNvPicPr/>
          <p:nvPr/>
        </p:nvPicPr>
        <p:blipFill>
          <a:blip r:embed="rId5"/>
          <a:stretch/>
        </p:blipFill>
        <p:spPr>
          <a:xfrm>
            <a:off x="6019920" y="4495680"/>
            <a:ext cx="2908080" cy="198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://www.mis-recetas.org/foto/foto/340/grande/lechona-mallorca.jpg"/>
          <p:cNvPicPr/>
          <p:nvPr/>
        </p:nvPicPr>
        <p:blipFill>
          <a:blip r:embed="rId6"/>
          <a:stretch/>
        </p:blipFill>
        <p:spPr>
          <a:xfrm>
            <a:off x="6934320" y="914400"/>
            <a:ext cx="18190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a so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Incluy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a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rema agre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asc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photos.travellerspoint.com/162906/ajiaco.jpg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os tip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rn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dur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jas d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átan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www.mexicologue.com/files/2008/11/tamales.jpg"/>
          <p:cNvPicPr/>
          <p:nvPr/>
        </p:nvPicPr>
        <p:blipFill>
          <a:blip r:embed="rId2"/>
          <a:stretch/>
        </p:blipFill>
        <p:spPr>
          <a:xfrm>
            <a:off x="5715000" y="1219320"/>
            <a:ext cx="2819520" cy="2225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inkyspot.files.wordpress.com/2008/09/tamales-wr.jpg"/>
          <p:cNvPicPr/>
          <p:nvPr/>
        </p:nvPicPr>
        <p:blipFill>
          <a:blip r:embed="rId3"/>
          <a:stretch/>
        </p:blipFill>
        <p:spPr>
          <a:xfrm>
            <a:off x="2895480" y="35053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sion propi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ilantr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Yuc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antai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_-8EnsTNY7aw/Sblkv33yplI/AAAAAAAAAHY/Jm6sby87pe8/s400/sancocho_dominicano.jpg"/>
          <p:cNvPicPr/>
          <p:nvPr/>
        </p:nvPicPr>
        <p:blipFill>
          <a:blip r:embed="rId2"/>
          <a:stretch/>
        </p:blipFill>
        <p:spPr>
          <a:xfrm>
            <a:off x="6095880" y="4038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blogcdn.com/www.slashfood.com/media/2008/12/roast-chicken.jpg"/>
          <p:cNvPicPr/>
          <p:nvPr/>
        </p:nvPicPr>
        <p:blipFill>
          <a:blip r:embed="rId3"/>
          <a:srcRect l="0" t="0" r="0" b="8402"/>
          <a:stretch/>
        </p:blipFill>
        <p:spPr>
          <a:xfrm>
            <a:off x="3352680" y="3124080"/>
            <a:ext cx="2386080" cy="1660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z.about.com/d/southernfood/1/0/X/d/2/pork-loin-bacon-3.jpg"/>
          <p:cNvPicPr/>
          <p:nvPr/>
        </p:nvPicPr>
        <p:blipFill>
          <a:blip r:embed="rId4"/>
          <a:stretch/>
        </p:blipFill>
        <p:spPr>
          <a:xfrm>
            <a:off x="5181480" y="1600200"/>
            <a:ext cx="2333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9:14:59Z</dcterms:created>
  <dc:creator>Kristen</dc:creator>
  <dc:description/>
  <dc:language>en-US</dc:language>
  <cp:lastModifiedBy>Kristen</cp:lastModifiedBy>
  <dcterms:modified xsi:type="dcterms:W3CDTF">2009-10-01T21:06:34Z</dcterms:modified>
  <cp:revision>44</cp:revision>
  <dc:subject/>
  <dc:title>Food Name</dc:title>
</cp:coreProperties>
</file>