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8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26.png" ContentType="image/png"/>
  <Override PartName="/ppt/media/image17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37.jpeg" ContentType="image/jpeg"/>
  <Override PartName="/ppt/media/image32.jpeg" ContentType="image/jpeg"/>
  <Override PartName="/ppt/media/image5.jpeg" ContentType="image/jpeg"/>
  <Override PartName="/ppt/media/image38.jpeg" ContentType="image/jpeg"/>
  <Override PartName="/ppt/media/image44.jpeg" ContentType="image/jpeg"/>
  <Override PartName="/ppt/media/image41.jpeg" ContentType="image/jpeg"/>
  <Override PartName="/ppt/media/image45.jpeg" ContentType="image/jpeg"/>
  <Override PartName="/ppt/media/image35.jpeg" ContentType="image/jpeg"/>
  <Override PartName="/ppt/media/image46.png" ContentType="image/png"/>
  <Override PartName="/ppt/media/image43.png" ContentType="image/png"/>
  <Override PartName="/ppt/media/image47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48.jpeg" ContentType="image/jpeg"/>
  <Override PartName="/ppt/media/image31.jpeg" ContentType="image/jpeg"/>
  <Override PartName="/ppt/media/image30.jpeg" ContentType="image/jpeg"/>
  <Override PartName="/ppt/media/image9.png" ContentType="image/png"/>
  <Override PartName="/ppt/media/image3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40.jpeg" ContentType="image/jpeg"/>
  <Override PartName="/ppt/media/image13.jpeg" ContentType="image/jpe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a50021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0527-1B82-4B6E-9433-C0A0AF676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1140-C2C2-4B69-86EA-1EF24E0556DC}" type="slidenum">
              <a:rPr b="0" lang="en-US" sz="12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B242-44C8-466A-AEB2-A31CEC2D06C4}" type="slidenum">
              <a:rPr b="0" lang="en-US" sz="12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E014-871B-41E4-BB95-A0C174087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7B66-532A-48F0-B078-3CA8BA78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8FA2-B323-444B-967B-C1DBE776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0146-8CFD-4700-986A-06B66F0D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E670-9DE3-49F9-A160-BD572166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3601-FFE0-4BD3-9661-1DFD0CE9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78A9-DEE8-43BE-94C5-A0FE12F6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22C7-1B6C-4475-BE35-A6087305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B576-5C4E-43D9-BF05-246BAED3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2B71-C3CE-4908-A88F-C618A1B8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5D6A-F615-4A46-9F35-9A6A318D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D359-6864-40BD-BE6D-05E6FF38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365B-9EB6-4DFD-9C7B-F2D87EB8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3EAC-A3F2-4A1A-AD94-CB636293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525E-B766-4429-91AB-A81AE385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D5C9-81A6-47EF-8A65-947A716BE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81A6-5893-4A30-977C-A410247A4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0A40A-1A52-4CE2-9BFE-A81E189EB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D6146-9121-4DE4-A435-7BD46DC6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BB8A5-A643-4D85-982C-6C0F5971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C9262-1F2E-4A23-998B-89E8653C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024B8-BE19-4FA4-911E-D5E05276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6060-8C30-40E8-A27B-4D7B2D90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48F04-E2FE-4C4F-ABBA-5B0633BB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CA34E-DC4C-44B2-ACA8-D3A15ED9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68476-B25A-44A5-9CA9-29376991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02D3D-7C51-411F-9DE6-4EFA2FC5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205A4-EAF2-4C42-AE8D-6E1A0617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8BF60-5913-472A-918B-95DFF668A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14274-11A0-435B-907B-5DB7D358E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44329-D1E2-43D0-B088-BC5053170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E5EC6-5C0A-415F-821F-051E606A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813B4-0454-427F-A37E-9AA6518B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AFC7-74A1-4C1C-943E-418FB8DD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C83A7-CFA9-4DB3-9375-ABC1890B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4F123-63AE-4C0C-BEF1-E1068EE5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7BCF6-F5A9-43AB-8EC4-E3BFA899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DFAC4-F1E0-4C42-95F4-788AE48E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0E627-84D9-4A45-9D15-DBAB4BEF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DBC51-E351-4176-AAC3-9F12A995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3C055-07F2-45E0-A64E-56AD3131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FFACB-37F0-483E-80B4-B4C4F68CB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97988-37E4-41AE-8142-5AF337D5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28CC3-8490-4635-BB4C-337476DDC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4ED5-63F5-4E5E-972F-A296552E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BAE51-EA75-45B5-BA9F-63DE71BE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D749C-157F-4ECC-AC07-77C9DB0C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726D3-A90F-49AD-BE70-8F456AAF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D32C8-A2D3-482A-AE02-852289F7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6A7E2-C987-4D2F-BDBF-ECF72233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A8AE4-7445-4F66-9EAB-ADBFCBA7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ACED1-158C-40EE-A244-0AAA5CBD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8F3A4-CE58-4D8C-B18D-C84AC437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951B1-3D07-4B27-9684-764C8609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21E7A-2214-495F-8AD6-1B939E66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6868-CA9F-42B6-915E-91F0FC90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B52D4-D604-491C-806B-7E9B56556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38C39-E7F5-43BA-A13A-69D81F0F3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AF05F-FE48-4BA5-9080-0D678DFE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0A0F2-A71C-4A13-A040-F9DBF07B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EFC0D-0740-4EBF-9E22-F55683C1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88C5A-FE8A-4546-9E02-ADA4EF71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3700B-3F91-4A92-A5B9-F612D41D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284BB-6499-418B-9550-564361E4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109D5-33DF-4CAC-B8A2-40BB64E3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A973B-485A-4905-9D5A-7150DCA3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8E75-CAF8-4932-97ED-8CE9F4CB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99A36-448F-46CB-8CA4-EE2F3038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F9E8B-2172-4B5B-8FBC-1B38C4BEE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355E0-56BB-4324-810C-D3DCC4674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D83C0-E97B-4A67-BE93-96EAFDA7D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9D9E9-6575-4526-9309-1608B3ED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60C97-B817-4198-9E9A-2C748F15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74BF1-532D-4EC9-B2E5-945CCDD1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1A563-DFEE-482E-AAEC-EE04843B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4B072-3CCA-42AE-BF4E-A9D5D984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515B3-D853-4D46-A268-598B99B8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23C6-6DEB-4540-B0B0-4C1FD167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BBA8D-5BA0-40C7-9078-0683520E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1408B-3B4F-4EA7-AEC4-E56D3618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F58B1-7AE3-4008-80B9-D7F72C7C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C2A1D-A1E8-4FB8-B8CB-5DB8A83D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27BF8-240B-461C-BDF8-5135F36E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9F3A1-44C6-448A-A46A-8E38FF112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AA0F4-E280-40BA-A8FC-F6E3DDBD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888BF-DCA1-4A6E-8DBC-8C87ABAF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34884-D756-485B-88EF-739AAA16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D81B1-08E7-4089-AC21-F18EFEAE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B797-7A30-4024-884B-A6EBDA3D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6A3BA-4762-4917-8C3B-E1B2862F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9BBFF-1212-40AD-A643-2D15B2C2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72A89-6A78-4186-BC62-CC721386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402CD-8835-41AF-82B1-27913694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76C20-54A6-4C53-9D59-22938CD2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72F57-D9DF-4F57-9473-C278638A7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41078-3CEB-4D37-85E7-0A9187F2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fb0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a5002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EDBA-B2C1-4482-9E7C-598DE066EA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bf2745"/>
              </a:gs>
              <a:gs pos="50000">
                <a:srgbClr val="ff6f8d"/>
              </a:gs>
              <a:gs pos="100000">
                <a:srgbClr val="bf2745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ffb0b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50021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a5002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E4E9-F7B5-42CB-A019-E37AF50C3E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fb0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94e69"/>
              </a:gs>
              <a:gs pos="100000">
                <a:srgbClr val="ff95a8"/>
              </a:gs>
            </a:gsLst>
            <a:lin ang="16200000"/>
          </a:gradFill>
          <a:ln cap="rnd" w="3240">
            <a:solidFill>
              <a:srgbClr val="bc5468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94e69"/>
              </a:gs>
              <a:gs pos="100000">
                <a:srgbClr val="ff95a8"/>
              </a:gs>
            </a:gsLst>
            <a:lin ang="16200000"/>
          </a:gradFill>
          <a:ln cap="rnd" w="3240">
            <a:solidFill>
              <a:srgbClr val="bc5468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2CA2-3349-44AE-8783-04A23B3BBE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fb0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E63B-857A-4650-8F2E-2A1A766571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a5002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2736-8D7D-4A9B-9F44-F21DFF0A7B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fb0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375D-60C6-4EBB-A8C6-AC95BBFE3B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a5002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730C-0297-4F3E-9ED9-6566C5212D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fb0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94e69"/>
              </a:gs>
              <a:gs pos="100000">
                <a:srgbClr val="ff95a8"/>
              </a:gs>
            </a:gsLst>
            <a:lin ang="16200000"/>
          </a:gradFill>
          <a:ln cap="rnd" w="3240">
            <a:solidFill>
              <a:srgbClr val="bc5468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94e69"/>
              </a:gs>
              <a:gs pos="100000">
                <a:srgbClr val="ff95a8"/>
              </a:gs>
            </a:gsLst>
            <a:lin ang="16200000"/>
          </a:gradFill>
          <a:ln cap="rnd" w="3240">
            <a:solidFill>
              <a:srgbClr val="bc5468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8C9F-94EA-425B-B0A6-54ACA4C94BB2}" type="slidenum">
              <a:rPr b="0" lang="en-US" sz="10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5181120" y="3581280"/>
            <a:ext cx="3429000" cy="53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Tahoma"/>
                <a:ea typeface="Tahoma"/>
              </a:rPr>
              <a:t>Por: Kristen Popovich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378" name="Rectangle 6" descr=""/>
          <p:cNvPicPr/>
          <p:nvPr/>
        </p:nvPicPr>
        <p:blipFill>
          <a:blip r:embed="rId1"/>
          <a:stretch/>
        </p:blipFill>
        <p:spPr>
          <a:xfrm>
            <a:off x="822240" y="2682720"/>
            <a:ext cx="81392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Un cerdo rellenado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rvado con arep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Rellenado con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Arroz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Cebollas verdes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Especias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Guisantes amarillos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42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http://colombianadas.net/albums/colombianadas2/normal_colombianadas_1672.jpg"/>
          <p:cNvPicPr/>
          <p:nvPr/>
        </p:nvPicPr>
        <p:blipFill>
          <a:blip r:embed="rId2"/>
          <a:stretch/>
        </p:blipFill>
        <p:spPr>
          <a:xfrm>
            <a:off x="5638680" y="685800"/>
            <a:ext cx="3060720" cy="40813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http://www.restaurants-121.com/images/photo/497/lechona%20dish%20crop%202%20(300%20x%20229).jpg"/>
          <p:cNvPicPr/>
          <p:nvPr/>
        </p:nvPicPr>
        <p:blipFill>
          <a:blip r:embed="rId3"/>
          <a:stretch/>
        </p:blipFill>
        <p:spPr>
          <a:xfrm>
            <a:off x="4038480" y="4419720"/>
            <a:ext cx="28576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Agua de sa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Esados en un bote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Mucha proteín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42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http://www.correvedile.com/literatura/poemas/imagenes/hormiga-culona.jpg"/>
          <p:cNvPicPr/>
          <p:nvPr/>
        </p:nvPicPr>
        <p:blipFill>
          <a:blip r:embed="rId2"/>
          <a:stretch/>
        </p:blipFill>
        <p:spPr>
          <a:xfrm>
            <a:off x="1143000" y="3581280"/>
            <a:ext cx="3000240" cy="15242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imgarticulot13812520066.jpg"/>
          <p:cNvPicPr/>
          <p:nvPr/>
        </p:nvPicPr>
        <p:blipFill>
          <a:blip r:embed="rId3"/>
          <a:stretch/>
        </p:blipFill>
        <p:spPr>
          <a:xfrm>
            <a:off x="4572000" y="2514600"/>
            <a:ext cx="38098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http://www.youtube.com/watch?v=DvNvmhzSUJw&amp;feature=player_embedded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1" descr="http://www1.ocn.ne.jp/~infinite/PeacePath_Flags_Data/ColombiaF.gif"/>
          <p:cNvPicPr/>
          <p:nvPr/>
        </p:nvPicPr>
        <p:blipFill>
          <a:blip r:embed="rId1"/>
          <a:stretch/>
        </p:blipFill>
        <p:spPr>
          <a:xfrm>
            <a:off x="1371600" y="45720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http://www.europe-map.org/south-america/maps/colombia.gif"/>
          <p:cNvPicPr/>
          <p:nvPr/>
        </p:nvPicPr>
        <p:blipFill>
          <a:blip r:embed="rId2"/>
          <a:stretch/>
        </p:blipFill>
        <p:spPr>
          <a:xfrm>
            <a:off x="4114800" y="2362320"/>
            <a:ext cx="3581280" cy="39718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http://www.cheflala.com/lifestyle/wp-content/uploads/2009/04/cilantro2.jpg"/>
          <p:cNvPicPr/>
          <p:nvPr/>
        </p:nvPicPr>
        <p:blipFill>
          <a:blip r:embed="rId3"/>
          <a:stretch/>
        </p:blipFill>
        <p:spPr>
          <a:xfrm>
            <a:off x="5029200" y="152280"/>
            <a:ext cx="1096920" cy="1371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http://static.howstuffworks.com/gif/rd/getting-to-know-onion-type-basics0.jpg"/>
          <p:cNvPicPr/>
          <p:nvPr/>
        </p:nvPicPr>
        <p:blipFill>
          <a:blip r:embed="rId4"/>
          <a:stretch/>
        </p:blipFill>
        <p:spPr>
          <a:xfrm>
            <a:off x="533520" y="2895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6" descr="http://cedrus-group-international.com/yahoo_site_admin/assets/images/OLIVE4.16163226.jpg"/>
          <p:cNvPicPr/>
          <p:nvPr/>
        </p:nvPicPr>
        <p:blipFill>
          <a:blip r:embed="rId5"/>
          <a:stretch/>
        </p:blipFill>
        <p:spPr>
          <a:xfrm>
            <a:off x="1447920" y="4191120"/>
            <a:ext cx="1993680" cy="15890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8" descr="http://z.hubpages.com/u/229140_f260.jpg"/>
          <p:cNvPicPr/>
          <p:nvPr/>
        </p:nvPicPr>
        <p:blipFill>
          <a:blip r:embed="rId6"/>
          <a:stretch/>
        </p:blipFill>
        <p:spPr>
          <a:xfrm>
            <a:off x="6172200" y="762120"/>
            <a:ext cx="135576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hangu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ruta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Bandeja pais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afé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http://www.maya-culture.de/wp-content/uploads/2009/04/changua.jpg"/>
          <p:cNvPicPr/>
          <p:nvPr/>
        </p:nvPicPr>
        <p:blipFill>
          <a:blip r:embed="rId2"/>
          <a:stretch/>
        </p:blipFill>
        <p:spPr>
          <a:xfrm>
            <a:off x="4191120" y="990720"/>
            <a:ext cx="2741400" cy="20574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http://www.granhotelparishn.com/images/foto-bandeja-paisa.jpg"/>
          <p:cNvPicPr/>
          <p:nvPr/>
        </p:nvPicPr>
        <p:blipFill>
          <a:blip r:embed="rId3"/>
          <a:stretch/>
        </p:blipFill>
        <p:spPr>
          <a:xfrm>
            <a:off x="4952880" y="3657600"/>
            <a:ext cx="3843360" cy="28828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http://www.kingdomcoffee.co.uk/Assets/Picture/DSC00124-15315.jpg"/>
          <p:cNvPicPr/>
          <p:nvPr/>
        </p:nvPicPr>
        <p:blipFill>
          <a:blip r:embed="rId4"/>
          <a:stretch/>
        </p:blipFill>
        <p:spPr>
          <a:xfrm>
            <a:off x="3124080" y="3276720"/>
            <a:ext cx="1905120" cy="18763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0" descr="http://blog.hotelclub.com/wp-content/uploads/2008/05/03_passion_fruit.jpg"/>
          <p:cNvPicPr/>
          <p:nvPr/>
        </p:nvPicPr>
        <p:blipFill>
          <a:blip r:embed="rId5"/>
          <a:stretch/>
        </p:blipFill>
        <p:spPr>
          <a:xfrm>
            <a:off x="6781680" y="2438280"/>
            <a:ext cx="1330560" cy="9748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http://www.freakingnews.com/images/app_images/pineapple.jpg"/>
          <p:cNvPicPr/>
          <p:nvPr/>
        </p:nvPicPr>
        <p:blipFill>
          <a:blip r:embed="rId6"/>
          <a:stretch/>
        </p:blipFill>
        <p:spPr>
          <a:xfrm>
            <a:off x="457200" y="3809880"/>
            <a:ext cx="1371600" cy="18036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4" descr="http://img.alibaba.com/photo/10339375/Blackberry_Fruit_Pulp.jpg"/>
          <p:cNvPicPr/>
          <p:nvPr/>
        </p:nvPicPr>
        <p:blipFill>
          <a:blip r:embed="rId7"/>
          <a:stretch/>
        </p:blipFill>
        <p:spPr>
          <a:xfrm>
            <a:off x="3429000" y="525780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6" descr="http://www.ingredientrade.com/images/thumb/Lulo2.jpg"/>
          <p:cNvPicPr/>
          <p:nvPr/>
        </p:nvPicPr>
        <p:blipFill>
          <a:blip r:embed="rId8"/>
          <a:stretch/>
        </p:blipFill>
        <p:spPr>
          <a:xfrm>
            <a:off x="1523880" y="3886200"/>
            <a:ext cx="14288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Un sabor distinto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ondiciones ideale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Juan Valdez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http://img.alibaba.com/photo/11330719/Certified_Utzkapeh_100_Pure_Colombian_Coffee.jpg"/>
          <p:cNvPicPr/>
          <p:nvPr/>
        </p:nvPicPr>
        <p:blipFill>
          <a:blip r:embed="rId2"/>
          <a:stretch/>
        </p:blipFill>
        <p:spPr>
          <a:xfrm>
            <a:off x="4876920" y="3808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http://www.readingeagle.com/blog/madrid/archives/Juan%20valdez%20cafe%20de%20colombia.jpg"/>
          <p:cNvPicPr/>
          <p:nvPr/>
        </p:nvPicPr>
        <p:blipFill>
          <a:blip r:embed="rId3"/>
          <a:stretch/>
        </p:blipFill>
        <p:spPr>
          <a:xfrm>
            <a:off x="1295280" y="3200400"/>
            <a:ext cx="3376800" cy="26668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0" descr="http://www.swindon.gov.uk/coffee_cup.jpg"/>
          <p:cNvPicPr/>
          <p:nvPr/>
        </p:nvPicPr>
        <p:blipFill>
          <a:blip r:embed="rId4"/>
          <a:stretch/>
        </p:blipFill>
        <p:spPr>
          <a:xfrm>
            <a:off x="5562720" y="4419720"/>
            <a:ext cx="240192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Tahoma"/>
                <a:ea typeface="Tahoma"/>
              </a:rPr>
              <a:t>El manjar de Colombi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Tahoma"/>
                <a:ea typeface="Tahoma"/>
              </a:rPr>
              <a:t>Un plato de: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bistec a la parrilla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puerco frito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salchicha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frijoles rojos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huevo frito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avacado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arroz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arepa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http://farm1.static.flickr.com/50/114781855_f78a86e590.jpg"/>
          <p:cNvPicPr/>
          <p:nvPr/>
        </p:nvPicPr>
        <p:blipFill>
          <a:blip r:embed="rId2"/>
          <a:stretch/>
        </p:blipFill>
        <p:spPr>
          <a:xfrm>
            <a:off x="4381560" y="213372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9" descr="http://images.surlatable.com/surlatable/images/en_US/local/products/detail/Ent_Bayless_Tamales_807.jpg"/>
          <p:cNvPicPr/>
          <p:nvPr/>
        </p:nvPicPr>
        <p:blipFill>
          <a:blip r:embed="rId1"/>
          <a:stretch/>
        </p:blipFill>
        <p:spPr>
          <a:xfrm>
            <a:off x="3657600" y="4114800"/>
            <a:ext cx="1889280" cy="18892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Ajiaco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Tamale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ancocho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Lechon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Hormigas culona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404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http://tvcolombia.com.co/images/imagenes/original/3098199.jpg"/>
          <p:cNvPicPr/>
          <p:nvPr/>
        </p:nvPicPr>
        <p:blipFill>
          <a:blip r:embed="rId3"/>
          <a:stretch/>
        </p:blipFill>
        <p:spPr>
          <a:xfrm>
            <a:off x="3962520" y="15238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http://www.online-spanisch.com/blog/wp-content/uploads/2008/11/homigaculonas.jpg"/>
          <p:cNvPicPr/>
          <p:nvPr/>
        </p:nvPicPr>
        <p:blipFill>
          <a:blip r:embed="rId4"/>
          <a:stretch/>
        </p:blipFill>
        <p:spPr>
          <a:xfrm>
            <a:off x="5562720" y="2590920"/>
            <a:ext cx="2666880" cy="17269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1" descr="http://lh6.ggpht.com/_BizpeaUzxq8/SSbC79_UAVI/AAAAAAAAAjY/L0_Iuimfegk/s800/sancocho.jpg"/>
          <p:cNvPicPr/>
          <p:nvPr/>
        </p:nvPicPr>
        <p:blipFill>
          <a:blip r:embed="rId5"/>
          <a:stretch/>
        </p:blipFill>
        <p:spPr>
          <a:xfrm>
            <a:off x="6019920" y="4495680"/>
            <a:ext cx="2908080" cy="19875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3" descr="http://www.mis-recetas.org/foto/foto/340/grande/lechona-mallorca.jpg"/>
          <p:cNvPicPr/>
          <p:nvPr/>
        </p:nvPicPr>
        <p:blipFill>
          <a:blip r:embed="rId6"/>
          <a:stretch/>
        </p:blipFill>
        <p:spPr>
          <a:xfrm>
            <a:off x="6934320" y="914400"/>
            <a:ext cx="181908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Una sop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Incluye: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Pollo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Papas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Maíz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Avacado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Capa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Crema agrea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Guasca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41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http://photos.travellerspoint.com/162906/ajiaco.jpg"/>
          <p:cNvPicPr/>
          <p:nvPr/>
        </p:nvPicPr>
        <p:blipFill>
          <a:blip r:embed="rId2"/>
          <a:stretch/>
        </p:blipFill>
        <p:spPr>
          <a:xfrm>
            <a:off x="4876920" y="2057400"/>
            <a:ext cx="3047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Muchos tipo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arne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Verdura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Arroz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Hojas de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plátano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41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http://www.mexicologue.com/files/2008/11/tamales.jpg"/>
          <p:cNvPicPr/>
          <p:nvPr/>
        </p:nvPicPr>
        <p:blipFill>
          <a:blip r:embed="rId2"/>
          <a:stretch/>
        </p:blipFill>
        <p:spPr>
          <a:xfrm>
            <a:off x="5715000" y="1219320"/>
            <a:ext cx="2819520" cy="2225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http://inkyspot.files.wordpress.com/2008/09/tamales-wr.jpg"/>
          <p:cNvPicPr/>
          <p:nvPr/>
        </p:nvPicPr>
        <p:blipFill>
          <a:blip r:embed="rId3"/>
          <a:stretch/>
        </p:blipFill>
        <p:spPr>
          <a:xfrm>
            <a:off x="2895480" y="350532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Version propio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Pollo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Maíz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Papa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ilantro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Yuc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Plantain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41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http://1.bp.blogspot.com/_-8EnsTNY7aw/Sblkv33yplI/AAAAAAAAAHY/Jm6sby87pe8/s400/sancocho_dominicano.jpg"/>
          <p:cNvPicPr/>
          <p:nvPr/>
        </p:nvPicPr>
        <p:blipFill>
          <a:blip r:embed="rId2"/>
          <a:stretch/>
        </p:blipFill>
        <p:spPr>
          <a:xfrm>
            <a:off x="6095880" y="403848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http://www.blogcdn.com/www.slashfood.com/media/2008/12/roast-chicken.jpg"/>
          <p:cNvPicPr/>
          <p:nvPr/>
        </p:nvPicPr>
        <p:blipFill>
          <a:blip r:embed="rId3"/>
          <a:srcRect l="0" t="0" r="0" b="8402"/>
          <a:stretch/>
        </p:blipFill>
        <p:spPr>
          <a:xfrm>
            <a:off x="3352680" y="3124080"/>
            <a:ext cx="2386080" cy="16606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http://z.about.com/d/southernfood/1/0/X/d/2/pork-loin-bacon-3.jpg"/>
          <p:cNvPicPr/>
          <p:nvPr/>
        </p:nvPicPr>
        <p:blipFill>
          <a:blip r:embed="rId4"/>
          <a:stretch/>
        </p:blipFill>
        <p:spPr>
          <a:xfrm>
            <a:off x="5181480" y="1600200"/>
            <a:ext cx="233388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9:14:59Z</dcterms:created>
  <dc:creator>Kristen</dc:creator>
  <dc:description/>
  <dc:language>en-US</dc:language>
  <cp:lastModifiedBy>Kristen</cp:lastModifiedBy>
  <dcterms:modified xsi:type="dcterms:W3CDTF">2009-10-01T21:06:34Z</dcterms:modified>
  <cp:revision>44</cp:revision>
  <dc:subject/>
  <dc:title>Food Name</dc:title>
</cp:coreProperties>
</file>