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699-9218-4987-812E-55EB4A46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866-8E17-47AB-86BC-0966F6C0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DF5-66D6-4522-9B83-64F50F85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500-3572-4BC3-BC72-042BC2E8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BC65-4858-48D9-BE97-12D217CA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9D87-2B62-4D17-BE66-2D4E6AB9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D8C3-E7F7-469A-BF14-BDCB49EF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6C90-5F27-420F-941D-556E2245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4B30-67B0-437D-9B66-807B6AE7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89D6-145D-49E8-8B81-0352ABF0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F5E4-548E-43FF-960E-4995AB93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2E4-0D81-4361-A594-9647DA29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22BE-0B0D-409B-83FD-75A1805F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6661-C0D9-4148-9B04-CE4575AF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4493-9C29-4958-8D00-E4174A8C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2298-9461-452A-B03E-1183CFF5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1502-838F-4AED-AA26-01B44713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D458-08A3-4B92-91D4-6365915F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B426A-07FE-42CB-9C37-796C9B60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C0EA-4A3C-4B32-9570-A8CD8F9A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4C64-FFD1-4037-BFE8-1466AA32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86D2C-FC04-443E-9661-0FC86EC5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BC0-14C6-457A-A131-1BCB1333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3423D-3479-4E4E-8688-5B5A4B2C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6F20-0ABB-4A0F-89DC-68F8BEA5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F5FC-E58B-4FB7-A60A-85E89039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EB12-7D7C-49FA-A0CD-2CE1F858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B8592-FD8A-4042-9932-EF1485EE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F187D-875B-4837-B73E-2AECE541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FA5CE-3B62-4925-B54A-18875421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1ECB4-8223-4E1B-A5CC-C90F46DE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521EA-8EF1-464B-8500-F8F44C73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96B41-7574-417D-9247-B32BFE4F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A42-8EB0-45B4-BF12-9E66C926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831B4-743F-4B51-89F5-BAF238FF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C0C6A-21F6-4370-A4AB-C1F18C4E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60952-2BE6-42B3-87EE-A7C79FEE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D048B-E44C-45CF-A21E-225D3889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A6257-650C-4DB7-977D-794015E2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E000A-AD38-46EF-87FB-18EFEDCC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CCFCC-F5AF-454F-865D-94BC4B38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C85A-9229-4AE3-97F3-D676C9D4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2306-F52D-44BB-9803-7A506B10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7EB5D-01F8-47E6-B945-1E26248A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91B-3186-42AC-B52D-D908ED4C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F78BB-894D-41E9-863C-ECF08031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C3975-1A79-405E-BC38-91381B59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ABC3D-C6DA-4829-AEDA-84EE6861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ED1F6-9B7A-493B-8EE6-FBE9C39F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9D462-C019-4B95-BC95-6AA4D0F0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5355A-696D-4479-8E0C-8BD9EA4C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C0A01-1732-4052-BF2E-EA73F3C7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E0D57-3E46-424A-84CF-D80B6C31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A1A67-37C6-4009-8EC0-19B631A0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EB07-F89F-46E4-9151-20361639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DC0-8F65-4210-A181-00C157BA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8ED34-4B51-41DB-82D7-770D8A60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E0862-293E-47B4-BF36-3900A62C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01193-7954-4CE9-B8FB-C28954BE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D69A9-C9E9-45FF-A193-63738CA4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22BA5-67D3-43F8-AFAC-20CA3446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F753C-D8F1-4409-BA37-52D87065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255FF-C117-4B87-89BE-00A670BF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C60E2-5F58-4793-B51D-A7359C55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0CA28-A650-40E8-9A42-9148BE99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F81DA-90D1-449F-84A4-79642CF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0D5-4BC6-46EB-973F-F864C38E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05FDF-30E8-4B55-9F59-E8B9A4DC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92FE3-47FC-4567-AF84-9B11598C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26B6D-2900-4853-8376-57AC189A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8871B-5161-49F9-80DF-D0E6286B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645B5-B869-4BDB-9F95-AE7736E3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AB406-C542-4A96-97F7-D469D2A0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03339-7905-4208-8E69-FAB3DBDA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9F3E6-B36B-4458-BB04-88E348E7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6BD53-AFCE-4943-A595-86CCCF81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3E5C3-D821-49AD-AE32-E499A568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343-0BF6-4E12-B510-275A57AB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62494-BDF0-49CE-81C7-182C6D0F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A849D-FBD2-4673-9B8A-EE0BB13E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1390E-DABB-42D7-9EE9-4AF3E139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B00A3-D9B2-438C-AFDC-64BB12FC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FE4C3-D3AE-4D7F-B741-C943C8FA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2C8F3-F6B2-4272-B9AD-FFD1CCF9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42697-818C-4653-99B3-1F2371A9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AB49B-38D9-4584-90C8-695A6C28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A325F-D9BE-413C-978A-09E5A631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7737B-98D9-4E87-B1C2-87DF84A8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44B-3655-4893-91BE-96FD9018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C08DD-4C83-4168-9950-60F66E6B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B36DE-FFE4-4F34-8C54-B55B160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D7C67-BE21-4AA5-AEC7-7B556676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85D4E-FD01-4FB2-9462-0BFE3061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18515-865D-4D93-88F1-913E1DB9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14929-6D93-49BA-8408-3E53F590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11FB7-B7B2-48D1-A279-D9A8F494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7AB7-140B-4B39-9E63-5BCC7EEDBB4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DB24-2954-4272-B6C1-173591FD255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2165-0441-4792-B59F-796028863F31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F553-E542-4EDF-BC50-7C0B92E295C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C229-D43E-4556-B4E2-1BDB110DA4A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02C4-9F38-47F6-B9CE-1681C62D16C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E1C7-A769-4B90-B888-652720CF21A0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9163-7677-4559-868F-81575CAD211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1mflr-kQlk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3809880"/>
            <a:ext cx="5790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La Tecnología y Contacto Humano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Abbey Musi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El Fin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64653"/>
                </a:solidFill>
                <a:latin typeface="Bookman Old Style"/>
              </a:rPr>
              <a:t>La tecnología nos impide mantener el contacto humano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3276720" y="4648320"/>
            <a:ext cx="236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Sí o n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464653"/>
                </a:solidFill>
                <a:latin typeface="Bookman Old Style"/>
              </a:rPr>
              <a:t>cara a cara a hablar.</a:t>
            </a:r>
            <a:endParaRPr b="0" lang="en-US" sz="6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youtube.com/watch?v=m1mflr-kQl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64653"/>
                </a:solidFill>
                <a:latin typeface="Bookman Old Style"/>
              </a:rPr>
              <a:t>la sobrecarga de la tecnología.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1828800" cy="301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3"/>
          <a:stretch/>
        </p:blipFill>
        <p:spPr>
          <a:xfrm>
            <a:off x="2971800" y="1468440"/>
            <a:ext cx="3054240" cy="2494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4"/>
          <a:stretch/>
        </p:blipFill>
        <p:spPr>
          <a:xfrm>
            <a:off x="2971800" y="4191120"/>
            <a:ext cx="2009880" cy="2009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5"/>
          <a:stretch/>
        </p:blipFill>
        <p:spPr>
          <a:xfrm>
            <a:off x="5791320" y="4191120"/>
            <a:ext cx="2154240" cy="2162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6"/>
          <a:stretch/>
        </p:blipFill>
        <p:spPr>
          <a:xfrm>
            <a:off x="380880" y="3048120"/>
            <a:ext cx="19144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         </a:t>
            </a:r>
            <a:r>
              <a:rPr b="0" lang="en-US" sz="5400" spc="-1" strike="noStrike">
                <a:solidFill>
                  <a:srgbClr val="464653"/>
                </a:solidFill>
                <a:latin typeface="Bookman Old Style"/>
              </a:rPr>
              <a:t>efectos positivos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tener el contac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hacer las tareas más si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hace más fácil la interac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53"/>
                </a:solidFill>
                <a:latin typeface="Bookman Old Style"/>
              </a:rPr>
              <a:t>entonces, ¿qué pasa?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 la pere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la separación social de la interacción humana singul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crea nuevas formas de peligro (bombas nuclear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fluencia sobre los niños.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llegan a ser demasiado dependientes de la tecnologí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2716200" cy="2409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2457360" cy="2584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3"/>
          <a:stretch/>
        </p:blipFill>
        <p:spPr>
          <a:xfrm>
            <a:off x="3048120" y="2743200"/>
            <a:ext cx="26622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53"/>
                </a:solidFill>
                <a:latin typeface="Bookman Old Style"/>
              </a:rPr>
              <a:t>¿qué hacemos?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Georgia"/>
              </a:rPr>
              <a:t>tenemos que mantener nuestras habilidades motoras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37227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1:53:59Z</dcterms:created>
  <dc:creator>Abbey Musial</dc:creator>
  <dc:description/>
  <dc:language>en-US</dc:language>
  <cp:lastModifiedBy>musialaa</cp:lastModifiedBy>
  <dcterms:modified xsi:type="dcterms:W3CDTF">2009-12-09T19:58:56Z</dcterms:modified>
  <cp:revision>11</cp:revision>
  <dc:subject/>
  <dc:title>Tecnología y Contacto Humano</dc:title>
</cp:coreProperties>
</file>