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78CF-7DF8-4068-91B2-1DCE31F3D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5AD-0B34-4F95-9220-A8ACC1262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D753-C09A-4B71-A566-2B990260D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23D-7D1E-484A-95CC-C4CEEED5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E678-27D8-4770-8105-F21AA215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5D18-F5E4-4203-AC55-70DD3CD0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68B1-05CD-469A-B7EA-351F856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E447-FF22-4DAB-9D28-1B028C63C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DE02-5E35-4C13-B910-CB3C454C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1106-3DF2-4E91-8967-60098B48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6F01D-8EF7-4F54-BE05-BD4CA31C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825B-073F-4E54-9ECD-301FAC9D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3E5F-BD22-4B93-BF7C-01E2DDBC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D40B-0469-4C24-9FCC-2F860C04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97170-8C0F-4393-9EDB-FB70CECB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9B807-0B58-4523-8AC7-E95D7FDB2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F32F7-42A5-4B53-9916-C231A1FA6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948C3-A300-428F-82B7-72224055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7E8B-2B33-4358-A7F8-F11FD9A7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55072-06FE-434A-BDA0-BCC1610B2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A5744-B611-4DEA-85B2-53B25B6D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23CD-BFE5-4E57-8B14-6DD529F4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233A-5F0B-416F-BD7C-C6E907532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A363-E7F8-4C3E-9581-1B4DC765E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922D0-1FEE-4D2F-BE7A-76673B60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83452-F20D-4532-8595-8E65A019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CFA06-031D-4381-8B9F-5D7F2CAA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A250F-2DED-4B44-B28C-0FFD49FB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C59EF-2D08-47A5-A598-689EF181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30CD15-F346-494C-8ABF-4A70C3A8E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C0997-B0C7-4D73-A670-E52A2DB64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E01C4-ADFA-419B-B987-F5FB3D28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1F061-9A16-4175-AD43-9FF9671C4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5440-1BE6-467A-AB41-D7F78083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E69B5-5D0A-433B-B8EF-0FDA7CD5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D8637-6957-4F01-9F18-3FFAE7AD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98117-B20C-46A1-9AE9-F03AA634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FC5B-18BC-4058-BB17-FBB0A276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F906B-6B23-4529-AA2E-82338AE0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2AF8-733D-41F4-8288-5D24519C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4AD4A-8740-4541-AB8F-FB205CDD7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C07CF-015C-4E4F-A60A-A82383FC3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31F98-1F5D-4E62-8677-0F9B3AF8A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F9FA1-7786-4D72-9100-32F2D2106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3010-0776-4BF3-ACD6-F5C7152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07ECD-8176-46C0-A7FB-6A61BD0F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625BE-32D2-459E-AE63-0D248FE4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67998-84BB-4A40-B952-AF973B5DE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DE4B7-AC06-4C40-9A14-DA056ED82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0C20FE-F3E0-4960-9DE6-375CBDD93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24390-207D-4FB8-9C34-251979B0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7F4D-518F-4C78-8455-7C2B5E82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536F2-AB52-4CF2-9E46-92BC649B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FE34B-21CB-4236-9C0E-6665C36D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58CC9-2F15-493E-898A-F3CC10C8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259D-37B3-42ED-8020-8B377BB85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0902F-0B4D-49D7-B2FE-9BEEE47E3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D34FB-E63F-442B-8A28-DE86A9428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A2241-5FCD-4ACB-BB21-AD323303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C0BD5-172F-4C8D-B244-EC62BF8A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D674A-E777-423E-A296-1DF6E01B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029EB-A3F7-405E-8F72-A24CA786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BB261-B06F-43D0-B886-F198C97E1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8ACE4-D99F-4EB2-B845-0F7F4EAD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F2B5-2BBF-44BC-B331-6A826DA4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14E0F-58A4-48EB-BEA6-511943B18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0257-E5EA-42F6-B358-63CBD4B1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CCD95-2D99-4DA2-8542-1561A3B9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847F0-712B-4C8E-A106-224F5E3EC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755A-8CD5-4597-82A4-7A22302B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0E8E1-FA77-4298-A1AA-85EBBEA3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301C8-D8D1-4E45-A078-695EE147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C0F15-D7BE-4972-9366-2C331082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56A8D-4160-452E-A686-36700C6C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149F6-29E7-491D-A3CF-91C1FFDB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185A0-431A-4B45-A6F7-710555AC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50AAC7-8051-40C0-A35E-DB10D1D8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B449-551B-4405-ACA4-99CF2DF5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E875-3329-4B3A-A8BB-2DE6B6E3E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C3956B-3FEE-4CBC-B72C-78C13B99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F0A3C-1ED7-4035-9274-A2AEB66B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0C565-83BE-4F01-AABF-B8162EB96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574EC-1BB9-4A56-A1CE-011B481A5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C1F38-8BC6-4CE6-A1A0-88A815A3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C4052-A100-4EBF-9505-A8D69AFB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DBCE5-1F3E-43AD-8DDE-F5CF91F0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213F7-4053-4599-8087-AC21DD859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B6D1E1-E353-4FD1-BD37-977DE3DF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CE37-D325-4DC3-B002-BD92CDAC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CE6ECF-9B3B-4342-887A-0B643A27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712C0-2AB0-4F08-A853-2442406D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1B952-A4F3-4C98-BA31-96BDADFD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8BC87-DFC7-4166-BD82-2D93F513D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A39FD-8C88-424A-9157-9D3B6762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7E448-76D8-454F-B991-C12024141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9B107-BC5B-462C-A075-2A367F3D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B0E5F-1825-448B-8490-D35F37EED0D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4059-C273-42D1-B147-561665D87D3C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1C22-81E0-4674-BEF3-ADF3E71BE3C2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E57E-8CB3-4458-A2C4-9D7C08B89B8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B3F2-7B25-4583-9E1D-1891C874B970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E25AF-AD1F-411D-90D3-5077A61E6029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F166-6489-4D07-82F4-351DA364D62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8C02-945E-400D-AE60-1503075642B6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1mflr-kQl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3809880"/>
            <a:ext cx="5790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La Tecnología y Contacto Humano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bbey Mus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El Fin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64653"/>
                </a:solidFill>
                <a:latin typeface="Bookman Old Style"/>
              </a:rPr>
              <a:t>La tecnología nos impide mantener el contacto humano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3276720" y="464832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Sí o n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464653"/>
                </a:solidFill>
                <a:latin typeface="Bookman Old Style"/>
              </a:rPr>
              <a:t>cara a cara a hablar.</a:t>
            </a: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youtube.com/watch?v=m1mflr-kQl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64653"/>
                </a:solidFill>
                <a:latin typeface="Bookman Old Style"/>
              </a:rPr>
              <a:t>la sobrecarga de la tecnología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1828800" cy="30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2971800" y="1468440"/>
            <a:ext cx="3054240" cy="2494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4"/>
          <a:stretch/>
        </p:blipFill>
        <p:spPr>
          <a:xfrm>
            <a:off x="2971800" y="4191120"/>
            <a:ext cx="2009880" cy="2009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5"/>
          <a:stretch/>
        </p:blipFill>
        <p:spPr>
          <a:xfrm>
            <a:off x="5791320" y="4191120"/>
            <a:ext cx="2154240" cy="21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1914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        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fectos positivos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tener el contac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r las tareas más si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 más fácil la intera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ntonces, ¿qué pasa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 la pe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la separación social de la interacción humana sing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crea nuevas formas de peligro (bombas nuclear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fluencia sobre los niños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llegan a ser demasiado dependientes de la tecnologí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716200" cy="2409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457360" cy="2584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662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¿qué hacemos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eorgia"/>
              </a:rPr>
              <a:t>tenemos que mantener nuestras habilidades motoras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722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3:59Z</dcterms:created>
  <dc:creator>Abbey Musial</dc:creator>
  <dc:description/>
  <dc:language>en-US</dc:language>
  <cp:lastModifiedBy>musialaa</cp:lastModifiedBy>
  <dcterms:modified xsi:type="dcterms:W3CDTF">2009-12-09T19:58:56Z</dcterms:modified>
  <cp:revision>11</cp:revision>
  <dc:subject/>
  <dc:title>Tecnología y Contacto Humano</dc:title>
</cp:coreProperties>
</file>