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C09-9412-40BC-9B13-8973A876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922-1FCC-4D3F-9A11-CF5B20E5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5E7-5321-42D2-BC11-B6582778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A05-22A5-4250-B208-D83B0470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BC6B-1794-4EEC-8E12-B27CC492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90C5-AF0C-49C4-831E-3FE5A0DB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A37C-6AAE-4AF2-A662-1161B4F4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EA30-AA84-4DC8-AA48-C31766B7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BF32-CB3D-48C0-BF7E-5B7E336E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57BE-C670-468F-9BDD-F1B61280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CEDC-B011-4C02-A7A3-48E25CB8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445-64E9-4475-A0A6-1CCC98B8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57C5-7689-4BEE-BE93-671F12DE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9B02-D9BE-4AD9-BA17-35EAD5E4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3EFD-D308-4820-90CB-BD3A4D74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B6F8-64DB-424A-8082-3FC87B6E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3DB1-CDE6-4081-BC00-47657509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839D2-4A49-4C00-85C9-E4BB477E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ABB88-53CF-4079-8B1E-5FCC7B42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787CA-40A2-4E13-8530-6D7CA62C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72849-66EC-470C-929F-209D8B05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31C32-EC66-486B-8619-755E995F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D9E2-E47B-47F2-96E7-BE7B0DB8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E1BCB-C4A6-4E79-B911-A749E6FC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8D01-CAA3-4312-A483-150F5815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31DBB-4BEC-42DF-85CC-5CDC9B12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84A83-5346-49E2-8BF2-3F386C12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7E9DD-2947-45D9-A9EA-DB5E14DF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D01B9-E149-4E4C-9147-02CB2445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BFD35-E318-42FB-B572-AD3F45A6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A12DD-FA57-476B-9BB6-61906297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5CBB8-30D5-45FB-B421-1B699B3B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39280-3BAC-4DB7-B2EA-04DFE453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ED4-8B53-4F80-9D23-4BEAADBA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9E2AD-B445-45E3-B406-9208B4E3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CC812-8410-4BC6-B033-3279C652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59439-FAC4-4ADC-874C-2C9B9E30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1B6A3-6DBA-417F-810D-9D843F18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35285-04E9-46DB-B7D8-0BB52CFA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D9F31-0155-43B3-9E40-3ABB77E7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60A92-51B3-4B53-9016-5EE199C0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5A7A1-4E2E-47DB-B5CE-1D0595D3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2B752-BE67-4170-BE3E-917B98A2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46E61-5489-4CA6-AF66-AA907DC2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6764-FEFE-4242-B68B-4051ADB2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AACFC-EFEC-44AE-9E78-891A3BBC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25EC1-1BCF-4E93-88B3-F8D9BB19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CE426-E2FE-44FA-AA99-4B4F6F58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08866-0EEE-4F5A-8AB8-7054A344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16B4D-8143-4B57-9AA5-A0E974C9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03089-6E05-44C6-8DB7-587A9AA1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0C757-5802-4084-ADF5-C01B469F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F67E3-0E3A-4264-B68D-706ED9D7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4D783-BD63-4F82-AFF9-F90ECF35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CBE56-1E8B-4C47-A93B-F1176EB1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3CD-92DF-4CD7-B0CD-24D62AEE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4BDDB-9C0C-4742-8F21-17AA6E0E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230D8-DED1-4601-A8CE-BB1FC59D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03199-82D9-4243-A07D-71402D49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0C604-0FCC-45B1-BE77-1175F20D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3366C-4393-4B80-A979-7A412A7C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F6357-5769-4B2A-92DC-D2226B19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916EA-6CD0-49A5-8330-FEE3AB26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B4ADD-8897-4D71-B8DB-5CC6F3F4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C1BDD-E418-4819-98D1-657DB0F1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3D44C-A662-42F0-906A-8D7E2BC8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3C5-8E03-4A6F-852E-13BAEA46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B9C97-2250-48D2-B8A0-DC0B2AC8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65524-3494-4788-A9E9-661F1ED7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EA9C6-D8AF-4256-B0D0-82529AC0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EB17B-B3B3-4B13-87C9-0AF302B4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1A4E0-A3B3-4DDE-899B-2604FC83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349A9-8CAB-4EC3-B634-0B34007A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F5881-5EA5-4FBE-AA32-4EA45ABD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C131E-CBD5-41F6-9A4B-D6897D84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1BFC5-D124-4037-877A-65AB37D1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0C73D-4B1F-45B0-95F3-92F38DB9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D72-389C-4A4E-A433-AD0F34BC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1A655-46AD-45A2-B29A-5FE85A35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5C7C5-1294-410A-97F8-A6EA8E1C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3C487-4154-4C27-93E6-00D28A72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46AE0-926B-4544-B0CA-EB3303B7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69256-4900-4CCA-A62E-1F6A54DE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86EDC-320D-4AE3-B42D-4F067E1F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571AB-1F94-41C3-B9AE-BA795928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12750-70B3-4F3A-806B-2B460FB2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65DC9-1C12-4AED-A183-9FC5F27E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97BB4-FA52-4E9A-BD2B-3343B4AA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14A-1D7E-4E53-A80D-8331879F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19FDC-7332-4938-A341-24D094F9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884CE-117F-4466-88B9-47208118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4B538-3ABD-452B-B1CA-55C91B04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B954A-BCD0-4FA3-A3DE-A07D2F3F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D997C-9386-4E4E-A855-5F275BF7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A8C8F-41DF-4A7F-B3D4-04D8C063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F541B-42D2-45F9-98D1-DDD19774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7D2F-7736-4C85-966C-9B2AE6D7A14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5B10-623D-4674-8797-D0B70E0A7E0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D209-BB13-4566-8FEB-4AE896FCACF3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C927-693E-4C08-8574-67382DA3241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ED77-36C7-4DCC-B5B9-B666A48561C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C8B7-576E-4AEA-99FD-5D9EACFF730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94BF-A673-47EE-9C17-0E6B12A83B26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6B70-3782-494D-B61D-FCB09F697F3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1mflr-kQlk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3809880"/>
            <a:ext cx="5790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La Tecnología y Contacto Humano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Abbey Musi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El Fin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64653"/>
                </a:solidFill>
                <a:latin typeface="Bookman Old Style"/>
              </a:rPr>
              <a:t>La tecnología nos impide mantener el contacto humano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3276720" y="4648320"/>
            <a:ext cx="236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Sí o n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464653"/>
                </a:solidFill>
                <a:latin typeface="Bookman Old Style"/>
              </a:rPr>
              <a:t>cara a cara a hablar.</a:t>
            </a:r>
            <a:endParaRPr b="0" lang="en-US" sz="6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http://www.youtube.com/watch?v=m1mflr-kQl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64653"/>
                </a:solidFill>
                <a:latin typeface="Bookman Old Style"/>
              </a:rPr>
              <a:t>la sobrecarga de la tecnología.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6477120" y="1219320"/>
            <a:ext cx="1828800" cy="3017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"/>
          <p:cNvPicPr/>
          <p:nvPr/>
        </p:nvPicPr>
        <p:blipFill>
          <a:blip r:embed="rId3"/>
          <a:stretch/>
        </p:blipFill>
        <p:spPr>
          <a:xfrm>
            <a:off x="2971800" y="1468440"/>
            <a:ext cx="3054240" cy="2494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4"/>
          <a:stretch/>
        </p:blipFill>
        <p:spPr>
          <a:xfrm>
            <a:off x="2971800" y="4191120"/>
            <a:ext cx="2009880" cy="2009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"/>
          <p:cNvPicPr/>
          <p:nvPr/>
        </p:nvPicPr>
        <p:blipFill>
          <a:blip r:embed="rId5"/>
          <a:stretch/>
        </p:blipFill>
        <p:spPr>
          <a:xfrm>
            <a:off x="5791320" y="4191120"/>
            <a:ext cx="2154240" cy="2162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"/>
          <p:cNvPicPr/>
          <p:nvPr/>
        </p:nvPicPr>
        <p:blipFill>
          <a:blip r:embed="rId6"/>
          <a:stretch/>
        </p:blipFill>
        <p:spPr>
          <a:xfrm>
            <a:off x="380880" y="3048120"/>
            <a:ext cx="19144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         </a:t>
            </a:r>
            <a:r>
              <a:rPr b="0" lang="en-US" sz="5400" spc="-1" strike="noStrike">
                <a:solidFill>
                  <a:srgbClr val="464653"/>
                </a:solidFill>
                <a:latin typeface="Bookman Old Style"/>
              </a:rPr>
              <a:t>efectos positivos</a:t>
            </a:r>
            <a:endParaRPr b="0" lang="en-US" sz="5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ntener el contac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hacer las tareas más simp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hace más fácil la interac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53"/>
                </a:solidFill>
                <a:latin typeface="Bookman Old Style"/>
              </a:rPr>
              <a:t>entonces, ¿qué pasa?</a:t>
            </a:r>
            <a:endParaRPr b="0" lang="en-US" sz="5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 la perez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la separación social de la interacción humana singul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crea nuevas formas de peligro (bombas nucleare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influencia sobre los niños.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llegan a ser demasiado dependientes de la tecnologí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2716200" cy="2409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2457360" cy="25844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"/>
          <p:cNvPicPr/>
          <p:nvPr/>
        </p:nvPicPr>
        <p:blipFill>
          <a:blip r:embed="rId3"/>
          <a:stretch/>
        </p:blipFill>
        <p:spPr>
          <a:xfrm>
            <a:off x="3048120" y="2743200"/>
            <a:ext cx="26622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53"/>
                </a:solidFill>
                <a:latin typeface="Bookman Old Style"/>
              </a:rPr>
              <a:t>¿qué hacemos?</a:t>
            </a:r>
            <a:endParaRPr b="0" lang="en-US" sz="5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Georgia"/>
              </a:rPr>
              <a:t>tenemos que mantener nuestras habilidades motoras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372276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1:53:59Z</dcterms:created>
  <dc:creator>Abbey Musial</dc:creator>
  <dc:description/>
  <dc:language>en-US</dc:language>
  <cp:lastModifiedBy>musialaa</cp:lastModifiedBy>
  <dcterms:modified xsi:type="dcterms:W3CDTF">2009-12-09T19:58:56Z</dcterms:modified>
  <cp:revision>11</cp:revision>
  <dc:subject/>
  <dc:title>Tecnología y Contacto Humano</dc:title>
</cp:coreProperties>
</file>