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588-C770-4A4B-AD5B-007D51EA2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DF9A-C332-4ABF-8302-D941B529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BC1B-18B5-4EF2-BD82-A861B409E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8DE6-5001-4070-BE74-FD23EE05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4ACA2-A15C-4DBC-8800-A03464AFE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31ADF-605B-466E-ABBD-7AFA9BC9C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1E9EF-A10B-4A88-97BD-D8D39347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1FD4-D87A-4CC1-A7D7-B6D50F1B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946B-FCD4-480A-BF4B-2C012EBD7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C632-0235-4387-B886-3BACD89C6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42AD-C39E-432A-9C9C-D4C20BC4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E634-6605-42CF-8ED5-A688EF1E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39E0-D1D8-462C-9154-F919E533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8F6FD-0EE9-42A5-8167-BAF12953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77DC-F4FA-4FDB-AEF5-590CD5CF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4114-1BF7-45CC-8C72-0DE80A478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FDDA-57A6-4DAB-96B8-3E089A289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6D5A5-CD13-4540-8F95-29258F2E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573F-1603-4462-A80D-1AA09720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93B89-974D-44BB-ADFC-94FC7780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38B20-E413-45E8-AF89-592075969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49460-3BE3-4351-B8AE-05FB9915A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A783-0078-4EC2-A9BB-D0BE53E7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082D3-3F9D-4A22-9ED4-D93D6F34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F2D8-35C0-45B4-8020-C8284CC4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133BB-F9A9-42B5-9B31-ECAF22DA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EC2D5-DA0B-4966-91AB-A38425A4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9A883-CB27-4CD1-B970-71E2D9EDA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38CB5-5AA2-4014-91B8-46FBDE18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EDF2B-B2D6-437D-8693-39DF917C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EDFE5-6EDB-4A7D-BC95-743F5778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55F53-C508-44FD-9121-E9A4A7BA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41D85-AA22-411D-A04E-6090DDBF7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2D6-0759-4026-894C-D59ABF82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50468-5B33-4FD1-8561-699E296B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ECA75-803A-4E36-9517-356AF2105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F75EC-1C2E-48B7-BD7A-3985D215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99334-CF15-418F-989F-86EA4297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089F7-EF7D-444F-B1F7-F272DA54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D5279-C94B-414A-A9AC-9C189147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8AE8CB-F6AB-4C04-9EE1-9067BDB7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76005-2E5B-47F8-8A03-0AC644C54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695A9-C0A3-4258-9EAE-9BC6792A7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CABF8-5F18-46BB-81AC-0EB8EA92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7F50-F85D-4BBD-B339-4E1D0771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12040-DCC6-45E6-89C7-08D01CB9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0FBB-51BF-4AE5-92C0-F6B662F4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49A37-C177-4E92-A35C-28197771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573B5-8F6B-48D0-AF25-6DE933A01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B7EE1-23F2-4658-8BA2-BC991B13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10751-C8BE-40EE-8400-6577C2D3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93290-0FD9-4D32-BFBB-23BD16D8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ACA95-C2C3-486F-AFD3-1F538E15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F1F0A-C45C-482E-B8D5-4F63D053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BFA80-4E2E-4889-BDA4-A9C831DCA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28B8-BB25-45B3-8235-C3388A6A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48779-CA60-433D-9D34-A8C846AB8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25637-2DCE-4162-8C07-BB5E61728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3F0DB-7A2F-48F7-8CA9-994CEAF0B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65D81-9382-4108-86EA-EF149601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D5DA1-106B-4468-BD64-395443C3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7E1BD9-F30C-4792-85E3-2E15C3FB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4F304-96F7-4735-B1B8-F12567D3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3B64F-DAFE-4DDA-BDBD-1073774A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58BE1-3E87-4CB8-857C-BB8BB6B5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BD6E3-8BBD-41A7-A92D-6D204CE6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017F-F906-455E-9E9F-9D41E5AC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AFD3B-2802-48D4-B4D1-446A787E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F2FB4-E981-4A2A-856D-E9A41B4A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AF7D4-8680-4F35-AEB5-8F5AF028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62A38-4DF5-4893-8E34-D66B214A4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BC62F-3133-4111-99EF-CADFECC2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EB7E90-3191-4B5A-88B7-53BBC9BAD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FEEF0-CAB6-42F7-B68A-49AFDFCC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E7976C-49FC-4A40-AE68-D7FE8C1A1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09ECB-16D3-46BE-A0E8-BFCA5946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FE22-B6C6-4940-9E01-AF2BFB4A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6BF3-6FA3-4796-A827-E9F05ADF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FCD32-5182-48D4-857B-885A5333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FACC5-FF1D-4864-B7BC-AD3605E9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45508-8FA3-4870-B3B8-4BE95B50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A0EBE-0F58-4A79-83C9-E68DFAA58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54D2E-6A05-4A9E-AB66-6C7D058E9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3A8D17-38D3-4ACB-BC39-33A906BA5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546D4-D69D-4C7C-BB3A-BD9B23C9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D67E8-AC2D-4ABB-BDC3-D704F61F1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D31A3-E5FD-4D44-8C04-26E2C076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E17329-5DBA-43CF-B0BE-E865A18F9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0C7-CBCA-41A5-A89D-0A7B6FCE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35085-C74B-470B-9D19-21883081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CF556-DCAA-41C0-9F25-D2281BD16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7A4C56-EDB7-45E4-B7B0-7F011AF9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89DA0-3FA7-4EC3-ADF8-543EFABA7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C8FBF5-C1EF-4ACD-81F4-8C555C725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D6D35-3093-4BF0-AE96-86ED5E277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677B2-F20B-41A6-9835-309A21F6B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273C-E11A-4087-B1E5-2D8AB90EAD98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7404-0F50-4B17-A04F-2B0F1003433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E223-AF70-4A0A-AA40-D13E9F582279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sosceles Triangle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F5DC-FD92-4A1F-B319-CDBFD3F9177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1685-8832-4C86-8C0E-D5F0EBE2D365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Isosceles Triangle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C441-901F-4179-873D-98D94E3B95E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71AF-F05C-40E9-92F3-A94E7A87E045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traight Connector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Isosceles Triangle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Isosceles Triangle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12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BAB5-10FC-4E7B-85EC-44F481ED29B3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m1mflr-kQlk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33720" y="3809880"/>
            <a:ext cx="579096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man Old Style"/>
              </a:rPr>
              <a:t>La Tecnología y Contacto Humano</a:t>
            </a:r>
            <a:endParaRPr b="0" lang="en-US" sz="36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53"/>
                </a:solidFill>
                <a:latin typeface="Bookman Old Style"/>
              </a:rPr>
              <a:t>Abbey Musia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Georgia"/>
              </a:rPr>
              <a:t>El Fin</a:t>
            </a:r>
            <a:endParaRPr b="0" lang="en-US" sz="6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13716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64653"/>
                </a:solidFill>
                <a:latin typeface="Bookman Old Style"/>
              </a:rPr>
              <a:t>La tecnología nos impide mantener el contacto humano</a:t>
            </a:r>
            <a:endParaRPr b="0" lang="en-US" sz="4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3" name="TextBox 4"/>
          <p:cNvSpPr/>
          <p:nvPr/>
        </p:nvSpPr>
        <p:spPr>
          <a:xfrm>
            <a:off x="3276720" y="4648320"/>
            <a:ext cx="2361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 MT"/>
              </a:rPr>
              <a:t>Sí o no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464653"/>
                </a:solidFill>
                <a:latin typeface="Bookman Old Style"/>
              </a:rPr>
              <a:t>cara a cara a hablar.</a:t>
            </a:r>
            <a:endParaRPr b="0" lang="en-US" sz="6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5257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b292ca"/>
                </a:solidFill>
                <a:uFillTx/>
                <a:latin typeface="Gill Sans MT"/>
                <a:hlinkClick r:id="rId1"/>
              </a:rPr>
              <a:t>http://www.youtube.com/watch?v=m1mflr-kQl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64653"/>
                </a:solidFill>
                <a:latin typeface="Bookman Old Style"/>
              </a:rPr>
              <a:t>la sobrecarga de la tecnología.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pic>
        <p:nvPicPr>
          <p:cNvPr id="379" name="Picture 2" descr=""/>
          <p:cNvPicPr/>
          <p:nvPr/>
        </p:nvPicPr>
        <p:blipFill>
          <a:blip r:embed="rId1"/>
          <a:stretch/>
        </p:blipFill>
        <p:spPr>
          <a:xfrm>
            <a:off x="6477120" y="1219320"/>
            <a:ext cx="1828800" cy="3017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"/>
          <p:cNvPicPr/>
          <p:nvPr/>
        </p:nvPicPr>
        <p:blipFill>
          <a:blip r:embed="rId3"/>
          <a:stretch/>
        </p:blipFill>
        <p:spPr>
          <a:xfrm>
            <a:off x="2971800" y="1468440"/>
            <a:ext cx="3054240" cy="24940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5" descr=""/>
          <p:cNvPicPr/>
          <p:nvPr/>
        </p:nvPicPr>
        <p:blipFill>
          <a:blip r:embed="rId4"/>
          <a:stretch/>
        </p:blipFill>
        <p:spPr>
          <a:xfrm>
            <a:off x="2971800" y="4191120"/>
            <a:ext cx="2009880" cy="20095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"/>
          <p:cNvPicPr/>
          <p:nvPr/>
        </p:nvPicPr>
        <p:blipFill>
          <a:blip r:embed="rId5"/>
          <a:stretch/>
        </p:blipFill>
        <p:spPr>
          <a:xfrm>
            <a:off x="5791320" y="4191120"/>
            <a:ext cx="2154240" cy="2162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7" descr=""/>
          <p:cNvPicPr/>
          <p:nvPr/>
        </p:nvPicPr>
        <p:blipFill>
          <a:blip r:embed="rId6"/>
          <a:stretch/>
        </p:blipFill>
        <p:spPr>
          <a:xfrm>
            <a:off x="380880" y="3048120"/>
            <a:ext cx="191448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          </a:t>
            </a: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efectos positivos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ntener el contact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hacer las tareas más simp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hace más fácil la interacció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entonces, ¿qué pasa?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ea la pereza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la separación social de la interacción humana singula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eorgia"/>
              </a:rPr>
              <a:t>crea nuevas formas de peligro (bombas nuclear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53"/>
                </a:solidFill>
                <a:latin typeface="Bookman Old Style"/>
              </a:rPr>
              <a:t>influencia sobre los niños.</a:t>
            </a:r>
            <a:endParaRPr b="0" lang="en-US" sz="40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2189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eorgia"/>
              </a:rPr>
              <a:t>llegan a ser demasiado dependientes de la tecnología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1"/>
          <a:stretch/>
        </p:blipFill>
        <p:spPr>
          <a:xfrm>
            <a:off x="6019920" y="1828800"/>
            <a:ext cx="2716200" cy="2409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4" descr=""/>
          <p:cNvPicPr/>
          <p:nvPr/>
        </p:nvPicPr>
        <p:blipFill>
          <a:blip r:embed="rId2"/>
          <a:stretch/>
        </p:blipFill>
        <p:spPr>
          <a:xfrm>
            <a:off x="304920" y="3733920"/>
            <a:ext cx="2457360" cy="25844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5" descr=""/>
          <p:cNvPicPr/>
          <p:nvPr/>
        </p:nvPicPr>
        <p:blipFill>
          <a:blip r:embed="rId3"/>
          <a:stretch/>
        </p:blipFill>
        <p:spPr>
          <a:xfrm>
            <a:off x="3048120" y="2743200"/>
            <a:ext cx="266220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e9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64653"/>
                </a:solidFill>
                <a:latin typeface="Bookman Old Style"/>
              </a:rPr>
              <a:t>¿qué hacemos?</a:t>
            </a:r>
            <a:endParaRPr b="0" lang="en-US" sz="54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Georgia"/>
              </a:rPr>
              <a:t>tenemos que mantener nuestras habilidades motoras.</a:t>
            </a:r>
            <a:endParaRPr b="0" lang="en-US" sz="4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Picture 4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372276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53:59Z</dcterms:created>
  <dc:creator>Abbey Musial</dc:creator>
  <dc:description/>
  <dc:language>en-US</dc:language>
  <cp:lastModifiedBy>musialaa</cp:lastModifiedBy>
  <dcterms:modified xsi:type="dcterms:W3CDTF">2009-12-09T19:58:56Z</dcterms:modified>
  <cp:revision>11</cp:revision>
  <dc:subject/>
  <dc:title>Tecnología y Contacto Humano</dc:title>
</cp:coreProperties>
</file>