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57E4-50CD-479F-8EEA-631AC582C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37283-6CA4-4781-A49D-755842492E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03A4-AA71-4F03-8FBE-37F81CAB9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FD8-476F-4B98-9B0E-91C92A20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0A1F-1F40-414E-8294-D7D36AF7B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45B4-2A29-4F9E-A554-E69E4D0E9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7CE-8846-4F16-ABA3-A844E6D46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C8CD-0110-4C35-AEE9-3D25F6CC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96E7-6B96-4888-A221-16146D3C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94A0-B582-4B94-86FB-4FF56459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A94-38C4-402E-BDFC-988C925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5B12-357F-4EDB-BEF4-76AF33D9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D18F-7B61-483D-A5C4-677E13CC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3049-12F6-422D-BD91-5976EA25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1CAA-950E-47FA-9964-8834B656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09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403F-103D-4C61-8BCB-405074E6C2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bs0_uLUjZA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Los Tacos </a:t>
            </a:r>
            <a:r>
              <a:rPr b="1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Increíbles</a:t>
            </a: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70600" y="4495680"/>
            <a:ext cx="407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Kameron Budh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Alp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spañol 2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s.clipart.com/thw/thw13/CL/5433_2005010014/000803_1057_95/20515568.thc.jpg?000803_1057_9573_v__v"/>
          <p:cNvPicPr/>
          <p:nvPr/>
        </p:nvPicPr>
        <p:blipFill>
          <a:blip r:embed="rId1"/>
          <a:stretch/>
        </p:blipFill>
        <p:spPr>
          <a:xfrm>
            <a:off x="2743200" y="20574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¿Cuál es un tac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23080" cy="524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budhramkr\AppData\Local\Temp\dtv9mc31.tmp\06508bt.jpg"/>
          <p:cNvPicPr/>
          <p:nvPr/>
        </p:nvPicPr>
        <p:blipFill>
          <a:blip r:embed="rId2"/>
          <a:stretch/>
        </p:blipFill>
        <p:spPr>
          <a:xfrm>
            <a:off x="3429000" y="2743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La </a:t>
            </a:r>
            <a:r>
              <a:rPr b="1" lang="es-MX" sz="7200" spc="-1" strike="noStrike" u="sng">
                <a:solidFill>
                  <a:srgbClr val="ff0000"/>
                </a:solidFill>
                <a:uFillTx/>
                <a:latin typeface="Calibri"/>
              </a:rPr>
              <a:t>Historia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 del Taco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7248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050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7"/>
          <p:cNvSpPr/>
          <p:nvPr/>
        </p:nvSpPr>
        <p:spPr>
          <a:xfrm>
            <a:off x="3581280" y="3124080"/>
            <a:ext cx="1600200" cy="609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276720" cy="32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5943600" y="2590920"/>
            <a:ext cx="21337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133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 u="sng">
                <a:solidFill>
                  <a:srgbClr val="ff0000"/>
                </a:solidFill>
                <a:uFillTx/>
                <a:latin typeface="Calibri"/>
              </a:rPr>
              <a:t>La Llegada d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Hernán Cort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971800" cy="405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500280" cy="406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51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562720" y="54100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orti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32004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8"/>
          <p:cNvSpPr/>
          <p:nvPr/>
        </p:nvSpPr>
        <p:spPr>
          <a:xfrm>
            <a:off x="3733920" y="3505320"/>
            <a:ext cx="175248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33520" y="55627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laxcal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0"/>
          <p:cNvSpPr/>
          <p:nvPr/>
        </p:nvSpPr>
        <p:spPr>
          <a:xfrm>
            <a:off x="4114800" y="3505320"/>
            <a:ext cx="1600200" cy="761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El Origen de La Palabra Ta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90720" y="15472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pacho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uei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quauhtlaxqua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ononq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2743200" y="1905120"/>
            <a:ext cx="3962880" cy="4267080"/>
            <a:chOff x="2743200" y="1905120"/>
            <a:chExt cx="3962880" cy="4267080"/>
          </a:xfrm>
        </p:grpSpPr>
        <p:sp>
          <p:nvSpPr>
            <p:cNvPr id="73" name="Straight Connector 4"/>
            <p:cNvSpPr/>
            <p:nvPr/>
          </p:nvSpPr>
          <p:spPr>
            <a:xfrm>
              <a:off x="4038480" y="1905120"/>
              <a:ext cx="137160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6"/>
            <p:cNvSpPr/>
            <p:nvPr/>
          </p:nvSpPr>
          <p:spPr>
            <a:xfrm>
              <a:off x="3200400" y="2895480"/>
              <a:ext cx="221004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8"/>
            <p:cNvSpPr/>
            <p:nvPr/>
          </p:nvSpPr>
          <p:spPr>
            <a:xfrm flipV="1">
              <a:off x="4038480" y="3962160"/>
              <a:ext cx="1371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V="1">
              <a:off x="3124080" y="3962520"/>
              <a:ext cx="22860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2"/>
            <p:cNvSpPr/>
            <p:nvPr/>
          </p:nvSpPr>
          <p:spPr>
            <a:xfrm flipV="1">
              <a:off x="2743200" y="3962520"/>
              <a:ext cx="266724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14"/>
            <p:cNvCxnSpPr/>
            <p:nvPr/>
          </p:nvCxnSpPr>
          <p:spPr>
            <a:xfrm>
              <a:off x="5334120" y="3962520"/>
              <a:ext cx="13723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15"/>
          <p:cNvSpPr/>
          <p:nvPr/>
        </p:nvSpPr>
        <p:spPr>
          <a:xfrm>
            <a:off x="6781680" y="3505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Arial"/>
              </a:rPr>
              <a:t>Tac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Como Hacer Tacos en el Pasad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showcase.netins.net/web/mcgrewbr/picture/07/corn%20boil.jpg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lucinda.net/surber/sanchezadobe/graphics/corn.jpg"/>
          <p:cNvPicPr/>
          <p:nvPr/>
        </p:nvPicPr>
        <p:blipFill>
          <a:blip r:embed="rId2"/>
          <a:stretch/>
        </p:blipFill>
        <p:spPr>
          <a:xfrm>
            <a:off x="3048120" y="1371600"/>
            <a:ext cx="3276360" cy="45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adventuresinshaw.com/wp-content/uploads/2009/02/forming-the-dough.jpg"/>
          <p:cNvPicPr/>
          <p:nvPr/>
        </p:nvPicPr>
        <p:blipFill>
          <a:blip r:embed="rId3"/>
          <a:stretch/>
        </p:blipFill>
        <p:spPr>
          <a:xfrm>
            <a:off x="228600" y="2057400"/>
            <a:ext cx="4392720" cy="292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imagecache2.allposters.com/images/NWPPOD/HOUS2A-00007.jpg"/>
          <p:cNvPicPr/>
          <p:nvPr/>
        </p:nvPicPr>
        <p:blipFill>
          <a:blip r:embed="rId4"/>
          <a:stretch/>
        </p:blipFill>
        <p:spPr>
          <a:xfrm>
            <a:off x="1447920" y="1371600"/>
            <a:ext cx="6045120" cy="45338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2"/>
          <p:cNvCxnSpPr/>
          <p:nvPr/>
        </p:nvCxnSpPr>
        <p:spPr>
          <a:xfrm flipH="1">
            <a:off x="5409360" y="2743200"/>
            <a:ext cx="30564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Straight Arrow Connector 15"/>
          <p:cNvCxnSpPr/>
          <p:nvPr/>
        </p:nvCxnSpPr>
        <p:spPr>
          <a:xfrm>
            <a:off x="4419360" y="4648320"/>
            <a:ext cx="686520" cy="2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7" name="Straight Arrow Connector 17"/>
          <p:cNvCxnSpPr/>
          <p:nvPr/>
        </p:nvCxnSpPr>
        <p:spPr>
          <a:xfrm flipH="1">
            <a:off x="6170400" y="2820600"/>
            <a:ext cx="3600" cy="610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88" name="Picture 10" descr="http://www.sil.org/mexico/mixteca/tezoatlan/sup/01i-TortillaComal-mxb.jpg"/>
          <p:cNvPicPr/>
          <p:nvPr/>
        </p:nvPicPr>
        <p:blipFill>
          <a:blip r:embed="rId5"/>
          <a:stretch/>
        </p:blipFill>
        <p:spPr>
          <a:xfrm>
            <a:off x="4800600" y="19810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Hoy Hacemos Taco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nthonyneilsmith.typepad.com/crimedog_one_the_internet/images/2008/05/15/tacos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56076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2237040" cy="2200320"/>
          </a:xfrm>
          <a:prstGeom prst="rect">
            <a:avLst/>
          </a:prstGeom>
          <a:ln w="0">
            <a:noFill/>
          </a:ln>
        </p:spPr>
      </p:pic>
      <p:sp>
        <p:nvSpPr>
          <p:cNvPr id="94" name="Plus 8"/>
          <p:cNvSpPr/>
          <p:nvPr/>
        </p:nvSpPr>
        <p:spPr>
          <a:xfrm>
            <a:off x="3809880" y="1905120"/>
            <a:ext cx="152424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us 9"/>
          <p:cNvSpPr/>
          <p:nvPr/>
        </p:nvSpPr>
        <p:spPr>
          <a:xfrm>
            <a:off x="533520" y="4191120"/>
            <a:ext cx="152388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qual 10"/>
          <p:cNvSpPr/>
          <p:nvPr/>
        </p:nvSpPr>
        <p:spPr>
          <a:xfrm>
            <a:off x="5029200" y="4648320"/>
            <a:ext cx="2133720" cy="1218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Help 11"/>
          <p:cNvSpPr/>
          <p:nvPr/>
        </p:nvSpPr>
        <p:spPr>
          <a:xfrm>
            <a:off x="7162920" y="45720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La Diversidad de Los Tacos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wbs0_uLUj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blogcdn.com/www.slashfood.com/media/2008/01/breakfast-taco.jpg"/>
          <p:cNvPicPr/>
          <p:nvPr/>
        </p:nvPicPr>
        <p:blipFill>
          <a:blip r:embed="rId2"/>
          <a:stretch/>
        </p:blipFill>
        <p:spPr>
          <a:xfrm>
            <a:off x="1752480" y="2819520"/>
            <a:ext cx="51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Referencia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06880" y="2057400"/>
            <a:ext cx="69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acotoaster.com/page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hatscookingamerica.net/History/Tortilla_Taco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tp://www.foodtimeline.org/foodmexi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3:34:23Z</dcterms:created>
  <dc:creator>Kam</dc:creator>
  <dc:description/>
  <dc:language>en-US</dc:language>
  <cp:lastModifiedBy>Kam</cp:lastModifiedBy>
  <dcterms:modified xsi:type="dcterms:W3CDTF">2009-10-05T04:31:53Z</dcterms:modified>
  <cp:revision>21</cp:revision>
  <dc:subject/>
  <dc:title>Los Tacos Increíbles!</dc:title>
</cp:coreProperties>
</file>