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4237-A1E4-44F2-B02A-A72DC0830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F1DA-FF63-4A30-A391-432F0B853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23BA-43A4-42AF-8FB5-98BF8E519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05A-2FD4-4196-A01D-7F386BA7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B94-43E5-46FB-A4D0-551C6E89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1ED-5321-4FF1-BC82-86F7D5B3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760-CC20-43D1-A0DE-9E08CC2D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B8D-19C4-4706-9DFC-4A5BEEB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8DC-17C5-465F-80AF-8F77BE07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3DE-ED1C-44D2-8EDA-18E70732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9BF-E006-4F0B-B3D3-651D2AC7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649-1835-4521-807D-C1F0114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CB2-B0AA-4366-9D4E-16EF373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53C-DA8A-4E52-902E-A764E253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8CA-D2F5-4992-AAB4-00F0A6CC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909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F852-24CE-46AC-9CCB-F60C97930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bs0_uLUjZA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Los Tacos </a:t>
            </a:r>
            <a:r>
              <a:rPr b="1" lang="es-MX" sz="6600" spc="-1" strike="noStrike" u="sng">
                <a:solidFill>
                  <a:srgbClr val="ff0000"/>
                </a:solidFill>
                <a:uFillTx/>
                <a:latin typeface="Calibri"/>
              </a:rPr>
              <a:t>Increíbles</a:t>
            </a:r>
            <a:r>
              <a:rPr b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370600" y="4495680"/>
            <a:ext cx="407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Kameron Budh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Prof. Alp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spañol 2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images.clipart.com/thw/thw13/CL/5433_2005010014/000803_1057_95/20515568.thc.jpg?000803_1057_9573_v__v"/>
          <p:cNvPicPr/>
          <p:nvPr/>
        </p:nvPicPr>
        <p:blipFill>
          <a:blip r:embed="rId1"/>
          <a:stretch/>
        </p:blipFill>
        <p:spPr>
          <a:xfrm>
            <a:off x="2743200" y="2057400"/>
            <a:ext cx="33336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¿Cuál es un taco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23080" cy="524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budhramkr\AppData\Local\Temp\dtv9mc31.tmp\06508bt.jpg"/>
          <p:cNvPicPr/>
          <p:nvPr/>
        </p:nvPicPr>
        <p:blipFill>
          <a:blip r:embed="rId2"/>
          <a:stretch/>
        </p:blipFill>
        <p:spPr>
          <a:xfrm>
            <a:off x="3429000" y="27432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La </a:t>
            </a:r>
            <a:r>
              <a:rPr b="1" lang="es-MX" sz="7200" spc="-1" strike="noStrike" u="sng">
                <a:solidFill>
                  <a:srgbClr val="ff0000"/>
                </a:solidFill>
                <a:uFillTx/>
                <a:latin typeface="Calibri"/>
              </a:rPr>
              <a:t>Historia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 del Taco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72480" cy="42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1050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7"/>
          <p:cNvSpPr/>
          <p:nvPr/>
        </p:nvSpPr>
        <p:spPr>
          <a:xfrm>
            <a:off x="3581280" y="3124080"/>
            <a:ext cx="1600200" cy="609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3276720" cy="322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5943600" y="2590920"/>
            <a:ext cx="213372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6019920" y="3581280"/>
            <a:ext cx="21333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 u="sng">
                <a:solidFill>
                  <a:srgbClr val="ff0000"/>
                </a:solidFill>
                <a:uFillTx/>
                <a:latin typeface="Calibri"/>
              </a:rPr>
              <a:t>La Llegada de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Calibri"/>
              </a:rPr>
              <a:t>Hernán Cort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971800" cy="405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500280" cy="406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051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5562720" y="54100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ortil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457200" y="2286000"/>
            <a:ext cx="3200400" cy="3146400"/>
          </a:xfrm>
          <a:prstGeom prst="rect">
            <a:avLst/>
          </a:prstGeom>
          <a:ln w="0">
            <a:noFill/>
          </a:ln>
        </p:spPr>
      </p:pic>
      <p:sp>
        <p:nvSpPr>
          <p:cNvPr id="67" name="Left Arrow 8"/>
          <p:cNvSpPr/>
          <p:nvPr/>
        </p:nvSpPr>
        <p:spPr>
          <a:xfrm>
            <a:off x="3733920" y="3505320"/>
            <a:ext cx="1752480" cy="76176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33520" y="55627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laxcal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0"/>
          <p:cNvSpPr/>
          <p:nvPr/>
        </p:nvSpPr>
        <p:spPr>
          <a:xfrm>
            <a:off x="4114800" y="3505320"/>
            <a:ext cx="1600200" cy="7617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0000"/>
                </a:solidFill>
                <a:uFillTx/>
                <a:latin typeface="Calibri"/>
              </a:rPr>
              <a:t>El Origen de La Palabra Tac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990720" y="15472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laxcalpacho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ueitlaxc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quauhtlaxqua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ononq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laxc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2743200" y="1905120"/>
            <a:ext cx="3962880" cy="4267080"/>
            <a:chOff x="2743200" y="1905120"/>
            <a:chExt cx="3962880" cy="4267080"/>
          </a:xfrm>
        </p:grpSpPr>
        <p:sp>
          <p:nvSpPr>
            <p:cNvPr id="73" name="Straight Connector 4"/>
            <p:cNvSpPr/>
            <p:nvPr/>
          </p:nvSpPr>
          <p:spPr>
            <a:xfrm>
              <a:off x="4038480" y="1905120"/>
              <a:ext cx="137160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6"/>
            <p:cNvSpPr/>
            <p:nvPr/>
          </p:nvSpPr>
          <p:spPr>
            <a:xfrm>
              <a:off x="3200400" y="2895480"/>
              <a:ext cx="221004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8"/>
            <p:cNvSpPr/>
            <p:nvPr/>
          </p:nvSpPr>
          <p:spPr>
            <a:xfrm flipV="1">
              <a:off x="4038480" y="3962160"/>
              <a:ext cx="1371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10"/>
            <p:cNvSpPr/>
            <p:nvPr/>
          </p:nvSpPr>
          <p:spPr>
            <a:xfrm flipV="1">
              <a:off x="3124080" y="3962520"/>
              <a:ext cx="22860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2"/>
            <p:cNvSpPr/>
            <p:nvPr/>
          </p:nvSpPr>
          <p:spPr>
            <a:xfrm flipV="1">
              <a:off x="2743200" y="3962520"/>
              <a:ext cx="266724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14"/>
            <p:cNvCxnSpPr/>
            <p:nvPr/>
          </p:nvCxnSpPr>
          <p:spPr>
            <a:xfrm>
              <a:off x="5334120" y="3962520"/>
              <a:ext cx="137232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" name="TextBox 15"/>
          <p:cNvSpPr/>
          <p:nvPr/>
        </p:nvSpPr>
        <p:spPr>
          <a:xfrm>
            <a:off x="6781680" y="35053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00"/>
                </a:solidFill>
                <a:latin typeface="Arial"/>
              </a:rPr>
              <a:t>Taco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 u="sng">
                <a:solidFill>
                  <a:srgbClr val="ff0000"/>
                </a:solidFill>
                <a:uFillTx/>
                <a:latin typeface="Calibri"/>
              </a:rPr>
              <a:t>Como Hacer Tacos en el Pasad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showcase.netins.net/web/mcgrewbr/picture/07/corn%20boil.jpg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37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lucinda.net/surber/sanchezadobe/graphics/corn.jpg"/>
          <p:cNvPicPr/>
          <p:nvPr/>
        </p:nvPicPr>
        <p:blipFill>
          <a:blip r:embed="rId2"/>
          <a:stretch/>
        </p:blipFill>
        <p:spPr>
          <a:xfrm>
            <a:off x="3048120" y="1371600"/>
            <a:ext cx="3276360" cy="459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adventuresinshaw.com/wp-content/uploads/2009/02/forming-the-dough.jpg"/>
          <p:cNvPicPr/>
          <p:nvPr/>
        </p:nvPicPr>
        <p:blipFill>
          <a:blip r:embed="rId3"/>
          <a:stretch/>
        </p:blipFill>
        <p:spPr>
          <a:xfrm>
            <a:off x="228600" y="2057400"/>
            <a:ext cx="4392720" cy="292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imagecache2.allposters.com/images/NWPPOD/HOUS2A-00007.jpg"/>
          <p:cNvPicPr/>
          <p:nvPr/>
        </p:nvPicPr>
        <p:blipFill>
          <a:blip r:embed="rId4"/>
          <a:stretch/>
        </p:blipFill>
        <p:spPr>
          <a:xfrm>
            <a:off x="1447920" y="1371600"/>
            <a:ext cx="6045120" cy="453384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12"/>
          <p:cNvCxnSpPr/>
          <p:nvPr/>
        </p:nvCxnSpPr>
        <p:spPr>
          <a:xfrm flipH="1">
            <a:off x="5409360" y="2743200"/>
            <a:ext cx="30564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6" name="Straight Arrow Connector 15"/>
          <p:cNvCxnSpPr/>
          <p:nvPr/>
        </p:nvCxnSpPr>
        <p:spPr>
          <a:xfrm>
            <a:off x="4419360" y="4648320"/>
            <a:ext cx="686520" cy="21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7" name="Straight Arrow Connector 17"/>
          <p:cNvCxnSpPr/>
          <p:nvPr/>
        </p:nvCxnSpPr>
        <p:spPr>
          <a:xfrm flipH="1">
            <a:off x="6170400" y="2820600"/>
            <a:ext cx="3600" cy="610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88" name="Picture 10" descr="http://www.sil.org/mexico/mixteca/tezoatlan/sup/01i-TortillaComal-mxb.jpg"/>
          <p:cNvPicPr/>
          <p:nvPr/>
        </p:nvPicPr>
        <p:blipFill>
          <a:blip r:embed="rId5"/>
          <a:stretch/>
        </p:blipFill>
        <p:spPr>
          <a:xfrm>
            <a:off x="4800600" y="19810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ff0000"/>
                </a:solidFill>
                <a:uFillTx/>
                <a:latin typeface="Calibri"/>
              </a:rPr>
              <a:t>Hoy Hacemos Taco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anthonyneilsmith.typepad.com/crimedog_one_the_internet/images/2008/05/15/tacos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34120" cy="533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356076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410080" y="1523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2237040" cy="2200320"/>
          </a:xfrm>
          <a:prstGeom prst="rect">
            <a:avLst/>
          </a:prstGeom>
          <a:ln w="0">
            <a:noFill/>
          </a:ln>
        </p:spPr>
      </p:pic>
      <p:sp>
        <p:nvSpPr>
          <p:cNvPr id="94" name="Plus 8"/>
          <p:cNvSpPr/>
          <p:nvPr/>
        </p:nvSpPr>
        <p:spPr>
          <a:xfrm>
            <a:off x="3809880" y="1905120"/>
            <a:ext cx="1524240" cy="1828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us 9"/>
          <p:cNvSpPr/>
          <p:nvPr/>
        </p:nvSpPr>
        <p:spPr>
          <a:xfrm>
            <a:off x="533520" y="4191120"/>
            <a:ext cx="1523880" cy="1828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qual 10"/>
          <p:cNvSpPr/>
          <p:nvPr/>
        </p:nvSpPr>
        <p:spPr>
          <a:xfrm>
            <a:off x="5029200" y="4648320"/>
            <a:ext cx="2133720" cy="1218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ction Button: Help 11"/>
          <p:cNvSpPr/>
          <p:nvPr/>
        </p:nvSpPr>
        <p:spPr>
          <a:xfrm>
            <a:off x="7162920" y="45720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0000"/>
                </a:solidFill>
                <a:uFillTx/>
                <a:latin typeface="Calibri"/>
              </a:rPr>
              <a:t>La Diversidad de Los Tacos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71600" y="1981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youtube.com/watch?v=wbs0_uLUj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blogcdn.com/www.slashfood.com/media/2008/01/breakfast-taco.jpg"/>
          <p:cNvPicPr/>
          <p:nvPr/>
        </p:nvPicPr>
        <p:blipFill>
          <a:blip r:embed="rId2"/>
          <a:stretch/>
        </p:blipFill>
        <p:spPr>
          <a:xfrm>
            <a:off x="1752480" y="2819520"/>
            <a:ext cx="5193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 u="sng">
                <a:solidFill>
                  <a:srgbClr val="ff0000"/>
                </a:solidFill>
                <a:uFillTx/>
                <a:latin typeface="Calibri"/>
              </a:rPr>
              <a:t>Referencias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06880" y="2057400"/>
            <a:ext cx="69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acotoaster.com/page/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hatscookingamerica.net/History/Tortilla_Taco_histor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ttp://www.foodtimeline.org/foodmexic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3:34:23Z</dcterms:created>
  <dc:creator>Kam</dc:creator>
  <dc:description/>
  <dc:language>en-US</dc:language>
  <cp:lastModifiedBy>Kam</cp:lastModifiedBy>
  <dcterms:modified xsi:type="dcterms:W3CDTF">2009-10-05T04:31:53Z</dcterms:modified>
  <cp:revision>21</cp:revision>
  <dc:subject/>
  <dc:title>Los Tacos Increíbles!</dc:title>
</cp:coreProperties>
</file>