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011-EDCF-42E9-AEB5-DA52A80D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D65A-2088-42BA-885E-BFD9DDE6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B317-9071-4270-9785-C49B573E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9963-B4EE-484E-9B4E-50DFFBB60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E2E0-712B-4478-B7B3-AE9EA7ED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F88-5B1E-44B4-BEC6-9000A4FD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F274-EAAA-4509-955E-F4E32350B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F778-F841-4F7D-B67B-B9A21646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DD48-2F71-4D00-B1DC-4A19CCAEF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F0A5-D1F5-4C00-9C67-ACD5A1B75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A884-52A6-4739-BDE7-A4463E40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00F4-876B-4A0B-9C3D-CED50BFB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B41F-9526-4C17-A7B9-97B2684F49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7/7a/Supply-and-demand.svg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600" spc="-1" strike="noStrike" u="sng">
                <a:solidFill>
                  <a:srgbClr val="1e1c11"/>
                </a:solidFill>
                <a:uFillTx/>
                <a:latin typeface="Times New Roman"/>
                <a:ea typeface="Times New Roman"/>
              </a:rPr>
              <a:t>La Presentación de Combustibles Fósiles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57150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Kameron Budhra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educasitios2008.educ.ar/aula81/files/2008/11/petroleo-mar.jpg"/>
          <p:cNvPicPr/>
          <p:nvPr/>
        </p:nvPicPr>
        <p:blipFill>
          <a:blip r:embed="rId2"/>
          <a:stretch/>
        </p:blipFill>
        <p:spPr>
          <a:xfrm>
            <a:off x="2514600" y="2286000"/>
            <a:ext cx="3886200" cy="34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000000"/>
                </a:solidFill>
                <a:uFillTx/>
                <a:latin typeface="Calibri"/>
              </a:rPr>
              <a:t>¿Que son Combustibles Fósiles?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Group 11"/>
          <p:cNvGrpSpPr/>
          <p:nvPr/>
        </p:nvGrpSpPr>
        <p:grpSpPr>
          <a:xfrm>
            <a:off x="76320" y="1752480"/>
            <a:ext cx="9067680" cy="3705120"/>
            <a:chOff x="76320" y="1752480"/>
            <a:chExt cx="9067680" cy="3705120"/>
          </a:xfrm>
        </p:grpSpPr>
        <p:pic>
          <p:nvPicPr>
            <p:cNvPr id="46" name="Picture 6" descr="http://img.hisupplier.com/var/userImages/old/mmhuayue/mmhuayue$512103129.jpg"/>
            <p:cNvPicPr/>
            <p:nvPr/>
          </p:nvPicPr>
          <p:blipFill>
            <a:blip r:embed="rId2"/>
            <a:stretch/>
          </p:blipFill>
          <p:spPr>
            <a:xfrm>
              <a:off x="76320" y="1752480"/>
              <a:ext cx="304776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Box 6"/>
            <p:cNvSpPr/>
            <p:nvPr/>
          </p:nvSpPr>
          <p:spPr>
            <a:xfrm>
              <a:off x="76320" y="4876200"/>
              <a:ext cx="2895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etróleo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Picture 8" descr="http://i.treehugger.com/images/2007/5/24/coal%20chunks.jpg"/>
            <p:cNvPicPr/>
            <p:nvPr/>
          </p:nvPicPr>
          <p:blipFill>
            <a:blip r:embed="rId3"/>
            <a:stretch/>
          </p:blipFill>
          <p:spPr>
            <a:xfrm>
              <a:off x="3429000" y="2336400"/>
              <a:ext cx="259056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Box 8"/>
            <p:cNvSpPr/>
            <p:nvPr/>
          </p:nvSpPr>
          <p:spPr>
            <a:xfrm>
              <a:off x="3657600" y="411444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rbón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0" descr="http://www.energy.gov.ab.ca/NaturalGas/graphics/NGC_Molecule.jpg"/>
            <p:cNvPicPr/>
            <p:nvPr/>
          </p:nvPicPr>
          <p:blipFill>
            <a:blip r:embed="rId4"/>
            <a:stretch/>
          </p:blipFill>
          <p:spPr>
            <a:xfrm>
              <a:off x="6163920" y="1980720"/>
              <a:ext cx="298008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Box 10"/>
            <p:cNvSpPr/>
            <p:nvPr/>
          </p:nvSpPr>
          <p:spPr>
            <a:xfrm>
              <a:off x="6477120" y="4647600"/>
              <a:ext cx="236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s natural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¿Cómo Se Forma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Group 12"/>
          <p:cNvGrpSpPr/>
          <p:nvPr/>
        </p:nvGrpSpPr>
        <p:grpSpPr>
          <a:xfrm>
            <a:off x="228600" y="2286000"/>
            <a:ext cx="8915400" cy="2895480"/>
            <a:chOff x="228600" y="2286000"/>
            <a:chExt cx="8915400" cy="2895480"/>
          </a:xfrm>
        </p:grpSpPr>
        <p:pic>
          <p:nvPicPr>
            <p:cNvPr id="54" name="Picture 12" descr="http://images.clipart.com/thw/thw13/CL/5344_2005010018/000803_1061_98/22038401.thc.jpg?000803_1061_9842_v__v"/>
            <p:cNvPicPr/>
            <p:nvPr/>
          </p:nvPicPr>
          <p:blipFill>
            <a:blip r:embed="rId2"/>
            <a:stretch/>
          </p:blipFill>
          <p:spPr>
            <a:xfrm>
              <a:off x="228600" y="2286000"/>
              <a:ext cx="511848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http://images.clipartof.com/small/11189-A-Dead-Dodo-Bird-To-Illustrate-The-Saying-As-Dead-As-A-Dodo-Clipart-Illustration.jpg"/>
            <p:cNvPicPr/>
            <p:nvPr/>
          </p:nvPicPr>
          <p:blipFill>
            <a:blip r:embed="rId3"/>
            <a:stretch/>
          </p:blipFill>
          <p:spPr>
            <a:xfrm>
              <a:off x="5410080" y="2286000"/>
              <a:ext cx="3733920" cy="2812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Group 21"/>
          <p:cNvGrpSpPr/>
          <p:nvPr/>
        </p:nvGrpSpPr>
        <p:grpSpPr>
          <a:xfrm>
            <a:off x="1905120" y="5943600"/>
            <a:ext cx="4724280" cy="914400"/>
            <a:chOff x="1905120" y="5943600"/>
            <a:chExt cx="4724280" cy="914400"/>
          </a:xfrm>
        </p:grpSpPr>
        <p:sp>
          <p:nvSpPr>
            <p:cNvPr id="57" name="Plus 8"/>
            <p:cNvSpPr/>
            <p:nvPr/>
          </p:nvSpPr>
          <p:spPr>
            <a:xfrm>
              <a:off x="1905120" y="5943600"/>
              <a:ext cx="914400" cy="914400"/>
            </a:xfrm>
            <a:custGeom>
              <a:avLst/>
              <a:gdLst>
                <a:gd name="textAreaLeft" fmla="*/ 120960 w 914400"/>
                <a:gd name="textAreaRight" fmla="*/ 793440 w 914400"/>
                <a:gd name="textAreaTop" fmla="*/ 349560 h 914400"/>
                <a:gd name="textAreaBottom" fmla="*/ 564840 h 914400"/>
              </a:gdLst>
              <a:ahLst/>
              <a:rect l="textAreaLeft" t="textAreaTop" r="textAreaRight" b="textAreaBottom"/>
              <a:pathLst>
                <a:path w="914400" h="914400">
                  <a:moveTo>
                    <a:pt x="121204" y="349667"/>
                  </a:moveTo>
                  <a:lnTo>
                    <a:pt x="349667" y="349667"/>
                  </a:lnTo>
                  <a:lnTo>
                    <a:pt x="349667" y="121204"/>
                  </a:lnTo>
                  <a:lnTo>
                    <a:pt x="564733" y="121204"/>
                  </a:lnTo>
                  <a:lnTo>
                    <a:pt x="564733" y="349667"/>
                  </a:lnTo>
                  <a:lnTo>
                    <a:pt x="793196" y="349667"/>
                  </a:lnTo>
                  <a:lnTo>
                    <a:pt x="793196" y="564733"/>
                  </a:lnTo>
                  <a:lnTo>
                    <a:pt x="564733" y="564733"/>
                  </a:lnTo>
                  <a:lnTo>
                    <a:pt x="564733" y="793196"/>
                  </a:lnTo>
                  <a:lnTo>
                    <a:pt x="349667" y="793196"/>
                  </a:lnTo>
                  <a:lnTo>
                    <a:pt x="349667" y="564733"/>
                  </a:lnTo>
                  <a:lnTo>
                    <a:pt x="121204" y="564733"/>
                  </a:lnTo>
                  <a:close/>
                </a:path>
              </a:pathLst>
            </a:custGeom>
            <a:solidFill>
              <a:srgbClr val="ffff00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Box 10"/>
            <p:cNvSpPr/>
            <p:nvPr/>
          </p:nvSpPr>
          <p:spPr>
            <a:xfrm>
              <a:off x="2971800" y="6019560"/>
              <a:ext cx="3657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2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millones de </a:t>
              </a:r>
              <a:r>
                <a:rPr b="0" lang="es-MX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ños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Equal 15"/>
          <p:cNvSpPr/>
          <p:nvPr/>
        </p:nvSpPr>
        <p:spPr>
          <a:xfrm>
            <a:off x="6095880" y="5715000"/>
            <a:ext cx="1828800" cy="1143000"/>
          </a:xfrm>
          <a:custGeom>
            <a:avLst/>
            <a:gdLst>
              <a:gd name="textAreaLeft" fmla="*/ 242280 w 1828800"/>
              <a:gd name="textAreaRight" fmla="*/ 1586520 w 1828800"/>
              <a:gd name="textAreaTop" fmla="*/ 235440 h 1143000"/>
              <a:gd name="textAreaBottom" fmla="*/ 907560 h 1143000"/>
            </a:gdLst>
            <a:ahLst/>
            <a:rect l="textAreaLeft" t="textAreaTop" r="textAreaRight" b="textAreaBottom"/>
            <a:pathLst>
              <a:path w="1828800" h="1143000">
                <a:moveTo>
                  <a:pt x="242407" y="235458"/>
                </a:moveTo>
                <a:lnTo>
                  <a:pt x="1586393" y="235458"/>
                </a:lnTo>
                <a:lnTo>
                  <a:pt x="1586393" y="504292"/>
                </a:lnTo>
                <a:lnTo>
                  <a:pt x="242407" y="504292"/>
                </a:lnTo>
                <a:close/>
                <a:moveTo>
                  <a:pt x="242407" y="638708"/>
                </a:moveTo>
                <a:lnTo>
                  <a:pt x="1586393" y="638708"/>
                </a:lnTo>
                <a:lnTo>
                  <a:pt x="1586393" y="907542"/>
                </a:lnTo>
                <a:lnTo>
                  <a:pt x="242407" y="907542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304920" y="2895480"/>
            <a:ext cx="8610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s Combustibles Fósiles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" name="Group 17"/>
          <p:cNvGrpSpPr/>
          <p:nvPr/>
        </p:nvGrpSpPr>
        <p:grpSpPr>
          <a:xfrm>
            <a:off x="380880" y="1219320"/>
            <a:ext cx="8267760" cy="4448160"/>
            <a:chOff x="380880" y="1219320"/>
            <a:chExt cx="8267760" cy="4448160"/>
          </a:xfrm>
        </p:grpSpPr>
        <p:pic>
          <p:nvPicPr>
            <p:cNvPr id="62" name="Picture 2" descr="http://www.andreadams.com/assets/watermark%20files/tree_1.jpg"/>
            <p:cNvPicPr/>
            <p:nvPr/>
          </p:nvPicPr>
          <p:blipFill>
            <a:blip r:embed="rId4"/>
            <a:stretch/>
          </p:blipFill>
          <p:spPr>
            <a:xfrm>
              <a:off x="380880" y="1219320"/>
              <a:ext cx="4334040" cy="444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4" descr="http://farm4.static.flickr.com/3598/3545412427_472b764d40.jpg"/>
            <p:cNvPicPr/>
            <p:nvPr/>
          </p:nvPicPr>
          <p:blipFill>
            <a:blip r:embed="rId5"/>
            <a:stretch/>
          </p:blipFill>
          <p:spPr>
            <a:xfrm>
              <a:off x="4572000" y="1981080"/>
              <a:ext cx="4076640" cy="3237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l Uso de Combustibles Fósiles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http://www.mii.org/Minerals/Minpics1/CoalBituminous.jpg"/>
          <p:cNvPicPr/>
          <p:nvPr/>
        </p:nvPicPr>
        <p:blipFill>
          <a:blip r:embed="rId1"/>
          <a:stretch/>
        </p:blipFill>
        <p:spPr>
          <a:xfrm>
            <a:off x="228600" y="1752480"/>
            <a:ext cx="3429000" cy="2934000"/>
          </a:xfrm>
          <a:prstGeom prst="rect">
            <a:avLst/>
          </a:prstGeom>
          <a:ln w="0">
            <a:noFill/>
          </a:ln>
        </p:spPr>
      </p:pic>
      <p:sp>
        <p:nvSpPr>
          <p:cNvPr id="66" name="Plus 4"/>
          <p:cNvSpPr/>
          <p:nvPr/>
        </p:nvSpPr>
        <p:spPr>
          <a:xfrm>
            <a:off x="4038480" y="2666880"/>
            <a:ext cx="1371600" cy="1447920"/>
          </a:xfrm>
          <a:custGeom>
            <a:avLst/>
            <a:gdLst>
              <a:gd name="textAreaLeft" fmla="*/ 181800 w 1371600"/>
              <a:gd name="textAreaRight" fmla="*/ 1189800 w 1371600"/>
              <a:gd name="textAreaTop" fmla="*/ 562680 h 1447920"/>
              <a:gd name="textAreaBottom" fmla="*/ 885240 h 1447920"/>
            </a:gdLst>
            <a:ahLst/>
            <a:rect l="textAreaLeft" t="textAreaTop" r="textAreaRight" b="textAreaBottom"/>
            <a:pathLst>
              <a:path w="1371600" h="1447800">
                <a:moveTo>
                  <a:pt x="181806" y="562600"/>
                </a:moveTo>
                <a:lnTo>
                  <a:pt x="524500" y="562600"/>
                </a:lnTo>
                <a:lnTo>
                  <a:pt x="524500" y="191906"/>
                </a:lnTo>
                <a:lnTo>
                  <a:pt x="847100" y="191906"/>
                </a:lnTo>
                <a:lnTo>
                  <a:pt x="847100" y="562600"/>
                </a:lnTo>
                <a:lnTo>
                  <a:pt x="1189794" y="562600"/>
                </a:lnTo>
                <a:lnTo>
                  <a:pt x="1189794" y="885200"/>
                </a:lnTo>
                <a:lnTo>
                  <a:pt x="847100" y="885200"/>
                </a:lnTo>
                <a:lnTo>
                  <a:pt x="847100" y="1255894"/>
                </a:lnTo>
                <a:lnTo>
                  <a:pt x="524500" y="1255894"/>
                </a:lnTo>
                <a:lnTo>
                  <a:pt x="524500" y="885200"/>
                </a:lnTo>
                <a:lnTo>
                  <a:pt x="181806" y="88520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4" descr="http://comps.fotosearch.com/comp/IMZ/IMZ262/lit-match-illustrated_~tri0182.jpg"/>
          <p:cNvPicPr/>
          <p:nvPr/>
        </p:nvPicPr>
        <p:blipFill>
          <a:blip r:embed="rId2"/>
          <a:stretch/>
        </p:blipFill>
        <p:spPr>
          <a:xfrm>
            <a:off x="5562720" y="1752480"/>
            <a:ext cx="3085920" cy="3292560"/>
          </a:xfrm>
          <a:prstGeom prst="rect">
            <a:avLst/>
          </a:prstGeom>
          <a:ln w="0">
            <a:noFill/>
          </a:ln>
        </p:spPr>
      </p:pic>
      <p:sp>
        <p:nvSpPr>
          <p:cNvPr id="68" name="Equal 6"/>
          <p:cNvSpPr/>
          <p:nvPr/>
        </p:nvSpPr>
        <p:spPr>
          <a:xfrm>
            <a:off x="3581280" y="5486400"/>
            <a:ext cx="1981440" cy="762120"/>
          </a:xfrm>
          <a:custGeom>
            <a:avLst/>
            <a:gdLst>
              <a:gd name="textAreaLeft" fmla="*/ 262440 w 1981440"/>
              <a:gd name="textAreaRight" fmla="*/ 1719000 w 1981440"/>
              <a:gd name="textAreaTop" fmla="*/ 156960 h 762120"/>
              <a:gd name="textAreaBottom" fmla="*/ 605160 h 762120"/>
            </a:gdLst>
            <a:ahLst/>
            <a:rect l="textAreaLeft" t="textAreaTop" r="textAreaRight" b="textAreaBottom"/>
            <a:pathLst>
              <a:path w="1981200" h="762000">
                <a:moveTo>
                  <a:pt x="262608" y="156972"/>
                </a:moveTo>
                <a:lnTo>
                  <a:pt x="1718592" y="156972"/>
                </a:lnTo>
                <a:lnTo>
                  <a:pt x="1718592" y="336194"/>
                </a:lnTo>
                <a:lnTo>
                  <a:pt x="262608" y="336194"/>
                </a:lnTo>
                <a:close/>
                <a:moveTo>
                  <a:pt x="262608" y="425806"/>
                </a:moveTo>
                <a:lnTo>
                  <a:pt x="1718592" y="425806"/>
                </a:lnTo>
                <a:lnTo>
                  <a:pt x="1718592" y="605028"/>
                </a:lnTo>
                <a:lnTo>
                  <a:pt x="262608" y="605028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6" descr="http://www.grida.no/geo/geo3/english/images/fig14.jpg"/>
          <p:cNvPicPr/>
          <p:nvPr/>
        </p:nvPicPr>
        <p:blipFill>
          <a:blip r:embed="rId3"/>
          <a:stretch/>
        </p:blipFill>
        <p:spPr>
          <a:xfrm>
            <a:off x="914400" y="1447920"/>
            <a:ext cx="720900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El Efecto de los Combustibles Fósiles en Nuestro Medio Ambiente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http://www.cartoonstock.com/newscartoons/cartoonists/pwe/lowres/pwen95l.jpg"/>
          <p:cNvPicPr/>
          <p:nvPr/>
        </p:nvPicPr>
        <p:blipFill>
          <a:blip r:embed="rId2"/>
          <a:stretch/>
        </p:blipFill>
        <p:spPr>
          <a:xfrm>
            <a:off x="2209680" y="1828800"/>
            <a:ext cx="4500720" cy="4557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www.maine.gov/dep/air/acidrain/images/ARAIN1.jpg"/>
          <p:cNvPicPr/>
          <p:nvPr/>
        </p:nvPicPr>
        <p:blipFill>
          <a:blip r:embed="rId3"/>
          <a:stretch/>
        </p:blipFill>
        <p:spPr>
          <a:xfrm>
            <a:off x="1295280" y="1752480"/>
            <a:ext cx="647712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-381240"/>
            <a:ext cx="8686800" cy="24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 Regulación Medio Ambiente de los Combustibles Fósil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EPA-stops-reports-big.gif image by ElaineSupkis"/>
          <p:cNvPicPr/>
          <p:nvPr/>
        </p:nvPicPr>
        <p:blipFill>
          <a:blip r:embed="rId1"/>
          <a:stretch/>
        </p:blipFill>
        <p:spPr>
          <a:xfrm>
            <a:off x="2971800" y="1752480"/>
            <a:ext cx="3411360" cy="45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La Economía de Combustibles Fósil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File:Supply-and-demand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1676520"/>
            <a:ext cx="4762800" cy="47624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5638680" y="2133720"/>
            <a:ext cx="35053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Ofer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Deman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s-MX" sz="4400" spc="-1" strike="noStrike">
                <a:solidFill>
                  <a:srgbClr val="ffffff"/>
                </a:solidFill>
                <a:latin typeface="Calibri"/>
              </a:rPr>
              <a:t>Precio</a:t>
            </a:r>
            <a:r>
              <a:rPr b="0" lang="es-MX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own Arrow 5"/>
          <p:cNvSpPr/>
          <p:nvPr/>
        </p:nvSpPr>
        <p:spPr>
          <a:xfrm>
            <a:off x="8305920" y="2133720"/>
            <a:ext cx="380880" cy="761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Up Arrow 6"/>
          <p:cNvSpPr/>
          <p:nvPr/>
        </p:nvSpPr>
        <p:spPr>
          <a:xfrm>
            <a:off x="8305920" y="3352680"/>
            <a:ext cx="380880" cy="685800"/>
          </a:xfrm>
          <a:prstGeom prst="up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Up Arrow 7"/>
          <p:cNvSpPr/>
          <p:nvPr/>
        </p:nvSpPr>
        <p:spPr>
          <a:xfrm>
            <a:off x="8229600" y="4724280"/>
            <a:ext cx="457200" cy="762120"/>
          </a:xfrm>
          <a:prstGeom prst="upArrow">
            <a:avLst>
              <a:gd name="adj1" fmla="val 50000"/>
              <a:gd name="adj2" fmla="val 50008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00"/>
                </a:solidFill>
                <a:uFillTx/>
                <a:latin typeface="Calibri"/>
              </a:rPr>
              <a:t>Fuentes Alternativas de Energía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http://www.toonpool.com/user/2325/files/windmill_322915.jpg"/>
          <p:cNvPicPr/>
          <p:nvPr/>
        </p:nvPicPr>
        <p:blipFill>
          <a:blip r:embed="rId1"/>
          <a:stretch/>
        </p:blipFill>
        <p:spPr>
          <a:xfrm>
            <a:off x="2438280" y="1066680"/>
            <a:ext cx="3505320" cy="5094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http://library.thinkquest.org/06aug/01200/Graphics/705px-Nuclear_fireball.jpg"/>
          <p:cNvPicPr/>
          <p:nvPr/>
        </p:nvPicPr>
        <p:blipFill>
          <a:blip r:embed="rId2"/>
          <a:stretch/>
        </p:blipFill>
        <p:spPr>
          <a:xfrm>
            <a:off x="1371600" y="1219320"/>
            <a:ext cx="5715000" cy="4856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greenernews.files.wordpress.com/2009/06/geothermal.jpg"/>
          <p:cNvPicPr/>
          <p:nvPr/>
        </p:nvPicPr>
        <p:blipFill>
          <a:blip r:embed="rId3"/>
          <a:stretch/>
        </p:blipFill>
        <p:spPr>
          <a:xfrm>
            <a:off x="2133720" y="1219320"/>
            <a:ext cx="4419360" cy="47941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http://www.portaec.net/library/energy/solar_power.jpg"/>
          <p:cNvPicPr/>
          <p:nvPr/>
        </p:nvPicPr>
        <p:blipFill>
          <a:blip r:embed="rId4"/>
          <a:stretch/>
        </p:blipFill>
        <p:spPr>
          <a:xfrm>
            <a:off x="609480" y="1295280"/>
            <a:ext cx="8001000" cy="4810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http://library.thinkquest.org/J0112303/Images/hydroelectric_image.jpg"/>
          <p:cNvPicPr/>
          <p:nvPr/>
        </p:nvPicPr>
        <p:blipFill>
          <a:blip r:embed="rId5"/>
          <a:stretch/>
        </p:blipFill>
        <p:spPr>
          <a:xfrm>
            <a:off x="1828800" y="1219320"/>
            <a:ext cx="4952880" cy="49528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0"/>
          <p:cNvSpPr/>
          <p:nvPr/>
        </p:nvSpPr>
        <p:spPr>
          <a:xfrm rot="1411200">
            <a:off x="6988680" y="2693880"/>
            <a:ext cx="179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m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11"/>
          <p:cNvSpPr/>
          <p:nvPr/>
        </p:nvSpPr>
        <p:spPr>
          <a:xfrm>
            <a:off x="3352680" y="627372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Fi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00:04:44Z</dcterms:created>
  <dc:creator>kameron r budhram</dc:creator>
  <dc:description/>
  <dc:language>en-US</dc:language>
  <cp:lastModifiedBy>kameron r budhram</cp:lastModifiedBy>
  <dcterms:modified xsi:type="dcterms:W3CDTF">2009-12-09T04:57:27Z</dcterms:modified>
  <cp:revision>21</cp:revision>
  <dc:subject/>
  <dc:title>Slide 1</dc:title>
</cp:coreProperties>
</file>