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248-9796-41B3-99C9-7A811A665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3A44-79D6-4F9B-A1E5-2692F351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E36-AF02-449C-8F79-BB313CCC3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2A4-EFDC-49EA-9949-BA0CBA5D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7D15-0BC7-49A9-99A7-1CDFB4A2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53A8-6F91-4676-97DE-66F91A1F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ACE0-E45A-4F4C-9E59-7F71A21E8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6F66-3272-408B-96EF-898801BAB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D7BD-6986-4B9B-A89D-3588CFE0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BC5-220B-40BC-B0D7-B52D597D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EEA-896A-445A-A6AA-E8045592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9114-91BA-43D8-8F86-B20EF7D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FBBF-EA7C-4E69-B360-C6F5771742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laciones Amorosas en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Edad del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itas Rápidas, Conexiones por Internet, y Otras F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Cita Rápida (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Varias personas (20+) entran un salón, encontrándose con uno a otro y alternando cada ~5 min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a original de Rabino Yaacov Deyo, de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Aish HaTorah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n Los Angeles al año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peedDating™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= Marca Registrada de Aish HaTor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ita Rápida = Término genérico para la pr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oy en día promovido por varias empresas; secula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Razones Para Participar en </a:t>
            </a: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Mulicitas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minente en la cultura popular (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ex and the City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actores bien controlados (edad, biografía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ro de que todos participantes buscan rel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idea de que las impresiones primeras son perman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cita la diversión, rapidez y manera formul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is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s Críticas Comunes de 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uperficial, o simplemente de m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permanentes son las impresiones primeras realmen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bemos de contar con ell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masiado formula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i importan las introducciones adecu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46:05Z</dcterms:created>
  <dc:creator>fullerev</dc:creator>
  <dc:description/>
  <dc:language>en-US</dc:language>
  <cp:lastModifiedBy>fullerev</cp:lastModifiedBy>
  <dcterms:modified xsi:type="dcterms:W3CDTF">2009-12-11T18:12:33Z</dcterms:modified>
  <cp:revision>8</cp:revision>
  <dc:subject/>
  <dc:title>Slide 1</dc:title>
</cp:coreProperties>
</file>