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F5C-3C72-4332-A951-C1FC2684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1AB-A72C-446C-9BC9-ECE43362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C27-E933-4E09-BA1A-94F06AB2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219-9CD3-4F70-80E7-97BD1D47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34B-0FA7-455F-8229-EC00CEF2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02D-731B-4EA9-9FE3-7046490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8F9-F9ED-407D-B23E-DF58FA95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2FE-CEF1-43C8-B11D-BDCFA1E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E57-1C30-41D9-8188-AA1809B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50A-67C3-44BB-94D0-C0FAC57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5F4-97FC-4521-8A65-783CA09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3D7-7F63-4E45-A8C0-9E153E6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F1C1-D527-492C-A7D3-A3416910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laciones Amorosas en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Edad del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itas Rápidas, Conexiones por Internet, y Otras F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Cita Rápida (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Varias personas (20+) entran un salón, encontrándose con uno a otro y alternando cada ~5 min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a original de Rabino Yaacov Deyo, de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Aish HaTorah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n Los Angeles al año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peedDating™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= Marca Registrada de Aish HaTor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ta Rápida = Término genérico para la pr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oy en día promovido por varias empresas; secula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Razones Para Participar en 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Mulicit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minente en la cultura popular 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ex and the City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actores bien controlados (edad, biografía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ro de que todos participantes buscan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idea de que las impresiones primeras son perman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cita la diversión, rapidez y manera formu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s Críticas Comu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uperficial, o simplemente de 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permanentes son las impresiones primeras realmen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bemos de contar con ell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masiado formula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i importan las introducciones adecu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46:05Z</dcterms:created>
  <dc:creator>fullerev</dc:creator>
  <dc:description/>
  <dc:language>en-US</dc:language>
  <cp:lastModifiedBy>fullerev</cp:lastModifiedBy>
  <dcterms:modified xsi:type="dcterms:W3CDTF">2009-12-11T18:12:33Z</dcterms:modified>
  <cp:revision>8</cp:revision>
  <dc:subject/>
  <dc:title>Slide 1</dc:title>
</cp:coreProperties>
</file>