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44C0-064F-42A3-AA66-A16A60F7E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4461-A9F0-4608-9607-2662B5BC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7FFD-11D7-4320-806F-48AF69952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DC2F-0381-4619-A3F4-A771AC7E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7822-62BB-43DD-AA8E-947BBF6C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3CB-7D82-4EDB-B6E0-B1137704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9EA-39AD-4A7E-8ADD-FBAD41C8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D433-264B-4BCD-A3DB-2BED3428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D2AD-0281-4B84-9C5A-E5E5A4EE4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E21-0F49-43F0-8453-2B32F395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D18D-41F4-4B1C-A509-94E78E5D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946-E9EA-4A7F-A208-9DF0A83B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802D-A78E-4BD2-961C-9765EA9FE4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Relaciones Amorosas en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La Edad del Intern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98989"/>
                </a:solidFill>
                <a:latin typeface="Calibri"/>
              </a:rPr>
              <a:t>Citas Rápidas, Conexiones por Internet, y Otras Form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La Cita Rápida (</a:t>
            </a:r>
            <a:r>
              <a:rPr b="0" i="1" lang="es-ES_tradnl" sz="4400" spc="-1" strike="noStrike">
                <a:solidFill>
                  <a:srgbClr val="000000"/>
                </a:solidFill>
                <a:latin typeface="Calibri"/>
              </a:rPr>
              <a:t>Multicitas</a:t>
            </a: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Varias personas (20+) entran un salón, encontrándose con uno a otro y alternando cada ~5 minut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Idea original de Rabino Yaacov Deyo, de 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Aish HaTorah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, en Los Angeles al año 19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SpeedDating™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= Marca Registrada de Aish HaTora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Cita Rápida = Término genérico para la práct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Hoy en día promovido por varias empresas; seculare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¿Razones Para Participar en </a:t>
            </a:r>
            <a:r>
              <a:rPr b="0" i="1" lang="es-ES_tradnl" sz="4000" spc="-1" strike="noStrike">
                <a:solidFill>
                  <a:srgbClr val="000000"/>
                </a:solidFill>
                <a:latin typeface="Calibri"/>
              </a:rPr>
              <a:t>Mulicitas</a:t>
            </a:r>
            <a:r>
              <a:rPr b="0" lang="es-ES_tradnl" sz="40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rominente en la cultura popular (</a:t>
            </a:r>
            <a:r>
              <a:rPr b="0" i="1" lang="es-ES_tradnl" sz="2400" spc="-1" strike="noStrike">
                <a:solidFill>
                  <a:srgbClr val="000000"/>
                </a:solidFill>
                <a:latin typeface="Calibri"/>
              </a:rPr>
              <a:t>Sex and the City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Factores bien controlados (edad, biografías, etc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guro de que todos participantes buscan relacio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La idea de que las impresiones primeras son permanen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e cita la diversión, rapidez y manera formulari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Discret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libri"/>
              </a:rPr>
              <a:t>Las Críticas Comunes de </a:t>
            </a:r>
            <a:r>
              <a:rPr b="0" i="1" lang="es-ES_tradnl" sz="4400" spc="-1" strike="noStrike">
                <a:solidFill>
                  <a:srgbClr val="000000"/>
                </a:solidFill>
                <a:latin typeface="Calibri"/>
              </a:rPr>
              <a:t>Multicit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Superficial, o simplemente de mod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Qué permanentes son las impresiones primeras realment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Debemos de contar con ella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¿Demasiado formularia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Ni importan las introducciones adecuad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6:46:05Z</dcterms:created>
  <dc:creator>fullerev</dc:creator>
  <dc:description/>
  <dc:language>en-US</dc:language>
  <cp:lastModifiedBy>fullerev</cp:lastModifiedBy>
  <dcterms:modified xsi:type="dcterms:W3CDTF">2009-12-11T18:12:33Z</dcterms:modified>
  <cp:revision>8</cp:revision>
  <dc:subject/>
  <dc:title>Slide 1</dc:title>
</cp:coreProperties>
</file>