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654-BBDD-4786-90C2-10877D09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A6C-0EF8-48D5-9EFC-5E350C1A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13B-B074-4094-B271-91DDCFA6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26D-BDA2-4661-B215-4F599666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DD32-D243-4026-9517-192CB955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ED7-027B-4112-923C-49D45A49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D9F-E377-4819-B625-38A0F1CE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7D0-A8AF-45ED-9C8A-D2094A46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BDC-F170-46C4-AE27-442D56C4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7FB-FB91-457F-B018-CC4CFC69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FEA-F4F1-4E9F-9279-028B33F7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6BD-7F8B-470E-B792-16DB532A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43E6-76A7-48F3-B403-44E24B011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Relaciones Amorosas en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La Edad del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Citas Rápidas, Conexiones por Internet, y Otras For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La Cita Rápida (</a:t>
            </a:r>
            <a:r>
              <a:rPr b="0" i="1" lang="es-ES_tradnl" sz="4400" spc="-1" strike="noStrike">
                <a:solidFill>
                  <a:srgbClr val="000000"/>
                </a:solidFill>
                <a:latin typeface="Calibri"/>
              </a:rPr>
              <a:t>Multicitas</a:t>
            </a: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Varias personas (20+) entran un salón, encontrándose con uno a otro y alternando cada ~5 min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dea original de Rabino Yaacov Deyo, de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Aish HaTorah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, en Los Angeles al año 19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SpeedDating™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= Marca Registrada de Aish HaTora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ita Rápida = Término genérico para la prác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Hoy en día promovido por varias empresas; secular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¿Razones Para Participar en </a:t>
            </a:r>
            <a:r>
              <a:rPr b="0" i="1" lang="es-ES_tradnl" sz="4000" spc="-1" strike="noStrike">
                <a:solidFill>
                  <a:srgbClr val="000000"/>
                </a:solidFill>
                <a:latin typeface="Calibri"/>
              </a:rPr>
              <a:t>Mulicitas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rominente en la cultura popular (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Sex and the City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actores bien controlados (edad, biografía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guro de que todos participantes buscan rel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a idea de que las impresiones primeras son perman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 cita la diversión, rapidez y manera formul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iscre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Las Críticas Comunes de </a:t>
            </a:r>
            <a:r>
              <a:rPr b="0" i="1" lang="es-ES_tradnl" sz="4400" spc="-1" strike="noStrike">
                <a:solidFill>
                  <a:srgbClr val="000000"/>
                </a:solidFill>
                <a:latin typeface="Calibri"/>
              </a:rPr>
              <a:t>Multici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uperficial, o simplemente de m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Qué permanentes son las impresiones primeras realmen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Debemos de contar con ell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Demasiado formular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i importan las introducciones adecu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6:46:05Z</dcterms:created>
  <dc:creator>fullerev</dc:creator>
  <dc:description/>
  <dc:language>en-US</dc:language>
  <cp:lastModifiedBy>fullerev</cp:lastModifiedBy>
  <dcterms:modified xsi:type="dcterms:W3CDTF">2009-12-11T18:12:33Z</dcterms:modified>
  <cp:revision>8</cp:revision>
  <dc:subject/>
  <dc:title>Slide 1</dc:title>
</cp:coreProperties>
</file>