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95E-A9B2-4E0C-9A90-A25C0FDD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AFA-5D1E-4CF9-901C-10EB45C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DE4-B775-40DA-9038-23F6B38F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B04-B73F-4DBA-94E9-28A96B3E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396-CE44-4B07-9DD1-6069689D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28D-A73A-479F-B446-CFA90F15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8FC-8D47-478F-AEB4-35AC3238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943-5D11-43AA-871C-4F349809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9D7-84A6-4C7B-8BA3-3269EB3B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528-05D9-4449-BEA0-2B267310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ACF-35BE-4DF2-8B59-24DDF46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31D-D276-465E-BFA0-D46C0D4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8151-E4CE-419A-A8BB-9E4466774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46160" y="96840"/>
            <a:ext cx="8851680" cy="1969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3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225360" y="60480"/>
            <a:ext cx="8699400" cy="162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276372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1024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-30240" y="-12600"/>
            <a:ext cx="9399600" cy="93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62120" y="121932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comprarlos más rápidamente (se descar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ay más de dos millones e-book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ás fáciles de gu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 utilizan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modificar el tex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146160" y="6480"/>
            <a:ext cx="9436320" cy="858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19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llos necesitan un dispositiv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cesitan una fuente de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áciles de pira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-readers son c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04920" y="838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s libros de papel tienen valor sentimental e histó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20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421308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2860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éis que los libros de papel van a desaparecer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Preferís los e-books o los libros de papel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2762280" y="1596960"/>
            <a:ext cx="352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22:25Z</dcterms:created>
  <dc:creator>lagnesejm</dc:creator>
  <dc:description/>
  <dc:language>en-US</dc:language>
  <cp:lastModifiedBy>lagnesejm</cp:lastModifiedBy>
  <dcterms:modified xsi:type="dcterms:W3CDTF">2009-12-11T17:42:08Z</dcterms:modified>
  <cp:revision>19</cp:revision>
  <dc:subject/>
  <dc:title>Slide 1</dc:title>
</cp:coreProperties>
</file>