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18E-ACAE-4CBD-8E0A-2AE6C264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73B-A11B-41E2-B2CD-BFCBC325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CCB-1061-47C0-ACFA-5613E76B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7F9-8F26-48E8-80B3-EC27EA13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FCA-EBAE-4B5D-B621-552CC570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F59-9E6A-4D0C-8A4B-DB8CD67F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C3F-8DF2-478C-B69A-57A24643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A6B-5B52-491C-BD88-02DB9C1C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E7F-8040-49E5-8A87-2188069F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2AD-4974-4B93-9771-324D970C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1C8-CDCD-40BB-B00D-399E0C8D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CE9-EAD6-4743-96B3-9A013074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4382-AC36-4B8E-BD2E-844AC80B5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146160" y="96840"/>
            <a:ext cx="8851680" cy="1969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895480" y="2133720"/>
            <a:ext cx="33339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2381400" cy="239076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225360" y="60480"/>
            <a:ext cx="8699400" cy="162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5715000" y="2133720"/>
            <a:ext cx="2763720" cy="350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4"/>
          <a:stretch/>
        </p:blipFill>
        <p:spPr>
          <a:xfrm>
            <a:off x="3809880" y="3200400"/>
            <a:ext cx="10242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" descr=""/>
          <p:cNvPicPr/>
          <p:nvPr/>
        </p:nvPicPr>
        <p:blipFill>
          <a:blip r:embed="rId1"/>
          <a:stretch/>
        </p:blipFill>
        <p:spPr>
          <a:xfrm>
            <a:off x="-30240" y="-12600"/>
            <a:ext cx="9399600" cy="939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762120" y="121932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 puede comprarlos más rápidamente (se descar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ay más de dos millones e-books li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ás fáciles de gu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 utilizan 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 puede modificar el tex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2"/>
          <a:stretch/>
        </p:blipFill>
        <p:spPr>
          <a:xfrm>
            <a:off x="4267080" y="297180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-146160" y="6480"/>
            <a:ext cx="9436320" cy="858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09480" y="12193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llos necesitan un dispositivo elect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ecesitan una fuente de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áciles de pira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-readers son c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559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304920" y="8380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s libros de papel tienen valor sentimental e histór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32004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2266920" y="-19080"/>
            <a:ext cx="4213080" cy="1098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228600" y="1600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éis que los libros de papel van a desaparecer? 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Preferís los e-books o los libros de papel? 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1" descr=""/>
          <p:cNvPicPr/>
          <p:nvPr/>
        </p:nvPicPr>
        <p:blipFill>
          <a:blip r:embed="rId1"/>
          <a:stretch/>
        </p:blipFill>
        <p:spPr>
          <a:xfrm>
            <a:off x="2762280" y="1596960"/>
            <a:ext cx="352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20:22:25Z</dcterms:created>
  <dc:creator>lagnesejm</dc:creator>
  <dc:description/>
  <dc:language>en-US</dc:language>
  <cp:lastModifiedBy>lagnesejm</cp:lastModifiedBy>
  <dcterms:modified xsi:type="dcterms:W3CDTF">2009-12-11T17:42:08Z</dcterms:modified>
  <cp:revision>19</cp:revision>
  <dc:subject/>
  <dc:title>Slide 1</dc:title>
</cp:coreProperties>
</file>