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DA24-F390-4A1F-8CD4-8D6E9BC3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DF3E-303C-4D7E-910D-E31ED1DB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54B-061C-4426-BDE3-690E362A0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DC9-89E1-4589-8C00-ED599D317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BFB0-66D3-4048-BE68-C76ABF31B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1089-3153-4487-9C88-D65462A5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2003-ADD3-4535-81CB-8971A746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449E-B317-4C6A-BA1F-94471F89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D67F-645B-4358-BB32-9A2DAE047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80C9-BE26-4F65-A781-7435D0FAB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F62-39FB-4353-9A3F-F5FCFCBD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5BD-F76C-47C7-BBA7-C14B9615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56374-AB2C-4612-99B0-3F00001A7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46160" y="96840"/>
            <a:ext cx="8851680" cy="1969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3333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381400" cy="23907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225360" y="60480"/>
            <a:ext cx="8699400" cy="162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2763720" cy="350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10242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1"/>
          <a:stretch/>
        </p:blipFill>
        <p:spPr>
          <a:xfrm>
            <a:off x="-30240" y="-12600"/>
            <a:ext cx="9399600" cy="93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762120" y="121932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comprarlos más rápidamente (se descar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ay más de dos millones e-book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ás fáciles de gu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 utilizan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modificar el tex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146160" y="6480"/>
            <a:ext cx="9436320" cy="858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09480" y="12193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llos necesitan un dispositiv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ecesitan una fuente de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áciles de pira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-readers son c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59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04920" y="838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s libros de papel tienen valor sentimental e histó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200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4213080" cy="1098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2860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éis que los libros de papel van a desaparecer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Preferís los e-books o los libros de papel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2762280" y="1596960"/>
            <a:ext cx="352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22:25Z</dcterms:created>
  <dc:creator>lagnesejm</dc:creator>
  <dc:description/>
  <dc:language>en-US</dc:language>
  <cp:lastModifiedBy>lagnesejm</cp:lastModifiedBy>
  <dcterms:modified xsi:type="dcterms:W3CDTF">2009-12-11T17:42:08Z</dcterms:modified>
  <cp:revision>19</cp:revision>
  <dc:subject/>
  <dc:title>Slide 1</dc:title>
</cp:coreProperties>
</file>