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D55B-78B5-41BC-9AC5-BBDBF87BC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7ED-D9A6-4B77-BF41-816404F6C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1507-0293-456B-BBDE-D0E52022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AE0D-4F83-459B-BF21-ED08FBAD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A62-953B-48BD-8B12-E6EC7D5CC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EE83-7544-4AAE-89E6-F55286AC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52A-25DE-4368-8D3E-91E88E94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B95F-F6BA-4775-AAA0-D70AD512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E3BB-9C2D-4D3A-B2BD-FA5C1007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3ACC-98C7-4F62-B406-326E52A2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E94-174C-4E01-8CE2-63A48570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81E-802D-4538-89B0-E650A885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d9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914D-BB85-483A-BB57-3F37531399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2" descr=""/>
          <p:cNvPicPr/>
          <p:nvPr/>
        </p:nvPicPr>
        <p:blipFill>
          <a:blip r:embed="rId1"/>
          <a:stretch/>
        </p:blipFill>
        <p:spPr>
          <a:xfrm>
            <a:off x="146160" y="96840"/>
            <a:ext cx="8851680" cy="1969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2895480" y="2133720"/>
            <a:ext cx="333396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2381400" cy="2390760"/>
          </a:xfrm>
          <a:prstGeom prst="rect">
            <a:avLst/>
          </a:prstGeom>
          <a:ln w="0">
            <a:noFill/>
          </a:ln>
        </p:spPr>
      </p:pic>
      <p:pic>
        <p:nvPicPr>
          <p:cNvPr id="44" name="Rectangle 2" descr=""/>
          <p:cNvPicPr/>
          <p:nvPr/>
        </p:nvPicPr>
        <p:blipFill>
          <a:blip r:embed="rId2"/>
          <a:stretch/>
        </p:blipFill>
        <p:spPr>
          <a:xfrm>
            <a:off x="225360" y="60480"/>
            <a:ext cx="8699400" cy="1622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3"/>
          <a:stretch/>
        </p:blipFill>
        <p:spPr>
          <a:xfrm>
            <a:off x="5715000" y="2133720"/>
            <a:ext cx="2763720" cy="3504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4"/>
          <a:stretch/>
        </p:blipFill>
        <p:spPr>
          <a:xfrm>
            <a:off x="3809880" y="3200400"/>
            <a:ext cx="1024200" cy="11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Rectangle 1" descr=""/>
          <p:cNvPicPr/>
          <p:nvPr/>
        </p:nvPicPr>
        <p:blipFill>
          <a:blip r:embed="rId1"/>
          <a:stretch/>
        </p:blipFill>
        <p:spPr>
          <a:xfrm>
            <a:off x="-30240" y="-12600"/>
            <a:ext cx="9399600" cy="9396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762120" y="1219320"/>
            <a:ext cx="769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comprarlos más rápidamente (se descar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hay más de dos millones e-books li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ás fáciles de guad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 utilizan pap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se puede modificar el tex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415296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146160" y="6480"/>
            <a:ext cx="9436320" cy="858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09480" y="1219320"/>
            <a:ext cx="8001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llos necesitan un dispositivo electró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ecesitan una fuente de electr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fáciles de pira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e-readers son car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4952880" y="1828800"/>
            <a:ext cx="35593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304920" y="838080"/>
            <a:ext cx="84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s libros de papel tienen valor sentimental e histór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2004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Rectangle 1" descr=""/>
          <p:cNvPicPr/>
          <p:nvPr/>
        </p:nvPicPr>
        <p:blipFill>
          <a:blip r:embed="rId1"/>
          <a:stretch/>
        </p:blipFill>
        <p:spPr>
          <a:xfrm>
            <a:off x="2266920" y="-19080"/>
            <a:ext cx="4213080" cy="109872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228600" y="1600200"/>
            <a:ext cx="8610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éis que los libros de papel van a desaparecer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Preferís los e-books o los libros de papel? Por qué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Rectangle 1" descr=""/>
          <p:cNvPicPr/>
          <p:nvPr/>
        </p:nvPicPr>
        <p:blipFill>
          <a:blip r:embed="rId1"/>
          <a:stretch/>
        </p:blipFill>
        <p:spPr>
          <a:xfrm>
            <a:off x="2762280" y="1596960"/>
            <a:ext cx="352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0T20:22:25Z</dcterms:created>
  <dc:creator>lagnesejm</dc:creator>
  <dc:description/>
  <dc:language>en-US</dc:language>
  <cp:lastModifiedBy>lagnesejm</cp:lastModifiedBy>
  <dcterms:modified xsi:type="dcterms:W3CDTF">2009-12-11T17:42:08Z</dcterms:modified>
  <cp:revision>19</cp:revision>
  <dc:subject/>
  <dc:title>Slide 1</dc:title>
</cp:coreProperties>
</file>