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A2F-2547-460D-9D35-DB599288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9D7D-398C-478E-8FE2-49D11AD8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5E5-6E07-4200-8D3A-D9A8F84E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F86-520C-488E-AEDF-3D009E30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0FE-F990-48CC-95C4-1CF11B85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17A-03E1-4535-9A98-CF49922B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0C2C-DCE2-47F2-9B49-AFD66273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EE20-06CA-4B95-B5CE-DB893F7B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262-71C0-4CD9-9CBB-00DE7FB3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9D62-2873-4191-89B6-633F84E3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04CC-CE29-49E4-8A7F-DEE719B8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5F03-53DB-4872-80A2-AD87934A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C84F-1CF5-44CF-9E3E-7A16B397D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1"/>
          <a:stretch/>
        </p:blipFill>
        <p:spPr>
          <a:xfrm>
            <a:off x="146160" y="96840"/>
            <a:ext cx="8851680" cy="1969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895480" y="2133720"/>
            <a:ext cx="33339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2381400" cy="239076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2" descr=""/>
          <p:cNvPicPr/>
          <p:nvPr/>
        </p:nvPicPr>
        <p:blipFill>
          <a:blip r:embed="rId2"/>
          <a:stretch/>
        </p:blipFill>
        <p:spPr>
          <a:xfrm>
            <a:off x="225360" y="60480"/>
            <a:ext cx="8699400" cy="1622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5715000" y="2133720"/>
            <a:ext cx="2763720" cy="350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4"/>
          <a:stretch/>
        </p:blipFill>
        <p:spPr>
          <a:xfrm>
            <a:off x="3809880" y="3200400"/>
            <a:ext cx="10242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1" descr=""/>
          <p:cNvPicPr/>
          <p:nvPr/>
        </p:nvPicPr>
        <p:blipFill>
          <a:blip r:embed="rId1"/>
          <a:stretch/>
        </p:blipFill>
        <p:spPr>
          <a:xfrm>
            <a:off x="-30240" y="-12600"/>
            <a:ext cx="9399600" cy="9396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762120" y="121932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e puede comprarlos más rápidamente (se descar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hay más de dos millones e-books li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ás fáciles de gu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 utilizan pa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e puede modificar el tex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2"/>
          <a:stretch/>
        </p:blipFill>
        <p:spPr>
          <a:xfrm>
            <a:off x="4267080" y="297180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-146160" y="6480"/>
            <a:ext cx="9436320" cy="858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609480" y="121932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llos necesitan un dispositivo elect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ecesitan una fuente de electr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áciles de pira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-readers son ca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559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304920" y="8380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s libros de papel tienen valor sentimental e histór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32004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" descr=""/>
          <p:cNvPicPr/>
          <p:nvPr/>
        </p:nvPicPr>
        <p:blipFill>
          <a:blip r:embed="rId1"/>
          <a:stretch/>
        </p:blipFill>
        <p:spPr>
          <a:xfrm>
            <a:off x="2266920" y="-19080"/>
            <a:ext cx="4213080" cy="109872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228600" y="16002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éis que los libros de papel van a desaparecer? 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Preferís los e-books o los libros de papel? 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1" descr=""/>
          <p:cNvPicPr/>
          <p:nvPr/>
        </p:nvPicPr>
        <p:blipFill>
          <a:blip r:embed="rId1"/>
          <a:stretch/>
        </p:blipFill>
        <p:spPr>
          <a:xfrm>
            <a:off x="2762280" y="1596960"/>
            <a:ext cx="3522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20:22:25Z</dcterms:created>
  <dc:creator>lagnesejm</dc:creator>
  <dc:description/>
  <dc:language>en-US</dc:language>
  <cp:lastModifiedBy>lagnesejm</cp:lastModifiedBy>
  <dcterms:modified xsi:type="dcterms:W3CDTF">2009-12-11T17:42:08Z</dcterms:modified>
  <cp:revision>19</cp:revision>
  <dc:subject/>
  <dc:title>Slide 1</dc:title>
</cp:coreProperties>
</file>