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4028-AC7E-4ED4-8604-8294DC69D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1BDC-3A2B-4187-89F0-C02815D5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C0D5-A24F-41C2-B537-3D344464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8A00-A806-438F-879D-2AB060BC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7CCB-1817-4F8B-83C0-30B8E307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B946-9DF9-4E06-811A-56C1AE13C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C012-E908-48B8-AAAE-2B698B38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07D-D8E3-45C2-B14B-57FC0462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595-8420-469B-ABAE-C87A696A8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A28-D8C1-43F5-A2D5-74D096F6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BB0D-8AB8-4C96-89D0-35F21EAF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8F2A-8FF1-47DC-B124-64489039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246C-6F57-486C-A765-AACBC221AE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ía de Los Muert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lgunos Platos y Tradu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3828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laveras de Azú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rendas,” o Regalos para Los Mu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riedades Básicas y Deco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rgas y Pequeñ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oraciones Comestibles y no Comest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averitas” para Niños (¡Viviente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n de Mue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me “en Esencia” por Los Muer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tas Decoraciones como de Las Calav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bores Diferentes de Cad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ras muy Festivas de Prest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5:34:48Z</dcterms:created>
  <dc:creator>fullerev</dc:creator>
  <dc:description/>
  <dc:language>en-US</dc:language>
  <cp:lastModifiedBy>aalpanes</cp:lastModifiedBy>
  <dcterms:modified xsi:type="dcterms:W3CDTF">2009-10-02T17:12:19Z</dcterms:modified>
  <cp:revision>9</cp:revision>
  <dc:subject/>
  <dc:title>Slide 1</dc:title>
</cp:coreProperties>
</file>