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507-6B76-481B-90D4-E7697851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9CF9-AB70-477D-8706-F1B2E0E5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D7EF-4A34-4B68-B960-D5E07940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6BA1-1F83-41CA-ADE5-DB9986CD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E0EB-AE84-4408-8DF9-57DB9CAD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19C8-F623-4CE6-8E8E-2AA1F9FE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0836-FC6B-476B-AE2D-C0F0E401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A802-3A2D-4C22-B7A1-DA515896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9868-04D5-4B88-AC42-49A88E55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F02-DA17-47D3-8491-3228B887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696-6F14-472C-8834-6104EC9A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23AA-214B-4BFA-BE00-57FF3669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1B42-4AAD-4A3B-8FE8-AC7AE9399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l Día de Los Muerto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Algunos Platos y Traduc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619760" cy="382896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alaveras de Azúc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frendas,” o Regalos para Los Muer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ariedades Básicas y Decor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rgas y Pequeñ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coraciones Comestibles y no Comesti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alaveritas” para Niños (¡Vivientes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an de Muer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Come “en Esencia” por Los Muer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ntas Decoraciones como de Las Calave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abores Diferentes de Cada Reg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aneras muy Festivas de Prestar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5:34:48Z</dcterms:created>
  <dc:creator>fullerev</dc:creator>
  <dc:description/>
  <dc:language>en-US</dc:language>
  <cp:lastModifiedBy>aalpanes</cp:lastModifiedBy>
  <dcterms:modified xsi:type="dcterms:W3CDTF">2009-10-02T17:12:19Z</dcterms:modified>
  <cp:revision>9</cp:revision>
  <dc:subject/>
  <dc:title>Slide 1</dc:title>
</cp:coreProperties>
</file>