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5489-39A7-4108-95D8-ADDD1C376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9FD5E-2913-4435-A751-05BC02F4A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052A-54CA-43F1-8020-93E8C4CB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860AD-6467-4989-A166-A171D7EDE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877A-F9A8-4BCB-BBAA-6116C013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7EF4-1B16-43E6-8419-EEB851CEE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DD9A-B3C7-4961-8C8D-68560F66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579-1802-4177-838F-9FF416F24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41C6-E469-4AB1-9EBC-4DB487FB2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B0BC-8393-40CC-B57F-9D6082D8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6CC-230D-42C0-B0E8-30194036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787D-58D9-488D-AE19-DCA60D65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80F84-2685-4D87-9919-EF3BF0AD2C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ía de Los Muert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lgunos Platos y Tradu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3828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laveras de Azú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rendas,” o Regalos para Los Mu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riedades Básicas y Deco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rgas y Pequeñ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oraciones Comestibles y no Comest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averitas” para Niños (¡Viviente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n de Mue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me “en Esencia” por Los Muer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tas Decoraciones como de Las Calav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bores Diferentes de Cad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ras muy Festivas de Prest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5:34:48Z</dcterms:created>
  <dc:creator>fullerev</dc:creator>
  <dc:description/>
  <dc:language>en-US</dc:language>
  <cp:lastModifiedBy>aalpanes</cp:lastModifiedBy>
  <dcterms:modified xsi:type="dcterms:W3CDTF">2009-10-02T17:12:19Z</dcterms:modified>
  <cp:revision>9</cp:revision>
  <dc:subject/>
  <dc:title>Slide 1</dc:title>
</cp:coreProperties>
</file>