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C9F-F395-4B01-8046-1942BBD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677-C692-4093-B3AE-9DD00E6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3B7-B8BB-4D00-A180-45F88929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F81-E405-42D3-8A0D-B1CB85E7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DB9-58F5-4297-9462-B0DE4335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C9E-25A6-471B-B65F-F698E29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DD6-C829-4ADA-9598-00578655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972-49EF-4E70-8A3A-0A29F4A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B30-1C9D-4A88-95A0-8226E8C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C32-729F-441F-90BB-75A63D5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4BA-0679-4FF1-B5B0-841C8210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D90-41B6-4518-A812-5C06CE3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1694-ED85-4EC1-A982-D44C970EF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ía de Los Muert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lgunos Platos y Tradu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3828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laveras de Azú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rendas,” o Regalos para Los Mu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riedades Básicas y Deco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rgas y Pequeñ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oraciones Comestibles y no Comest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averitas” para Niños (¡Viviente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n de Mue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me “en Esencia” por Los Muer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tas Decoraciones como de Las Calav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bores Diferentes de Cad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ras muy Festivas de Prest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5:34:48Z</dcterms:created>
  <dc:creator>fullerev</dc:creator>
  <dc:description/>
  <dc:language>en-US</dc:language>
  <cp:lastModifiedBy>aalpanes</cp:lastModifiedBy>
  <dcterms:modified xsi:type="dcterms:W3CDTF">2009-10-02T17:12:19Z</dcterms:modified>
  <cp:revision>9</cp:revision>
  <dc:subject/>
  <dc:title>Slide 1</dc:title>
</cp:coreProperties>
</file>