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0AA5-D9EB-48DC-B787-7AC03B051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4252-CC00-421B-9F55-EC0270B9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06B-F2FC-4544-804F-7B9485DF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3CB-F892-4AD1-A5C7-A6CBF6B78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61DE-796B-4285-8F76-16360091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DEC6-3D60-4DC3-83B3-31E5FD67F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F72-E622-4F29-85BB-7A60CE6B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39DE-387C-43D2-8C7B-75A25207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0F78-5959-451D-A119-6047E09BB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337E-A04D-4BCC-BD3C-D28F19F3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3F22-60CB-4C32-AB24-25C6083F7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BAA0-DEB8-43BB-A218-68B520A5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4D4C-03DD-4969-9FAD-5943E386E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El Día de Los Muerto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898989"/>
                </a:solidFill>
                <a:latin typeface="Calibri"/>
              </a:rPr>
              <a:t>Algunos Platos y Traduccio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762120" y="2362320"/>
            <a:ext cx="7619760" cy="3828960"/>
          </a:xfrm>
          <a:prstGeom prst="rect">
            <a:avLst/>
          </a:prstGeom>
          <a:ln w="0">
            <a:noFill/>
          </a:ln>
          <a:effectLst>
            <a:outerShdw dist="6363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Calaveras de Azúc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Ofrendas,” o Regalos para Los Muer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Variedades Básicas y Decorad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Largas y Pequeñ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Decoraciones Comestibles y no Comestib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Calaveritas” para Niños (¡Vivientes!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</a:rPr>
              <a:t>Pan de Muer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e Come “en Esencia” por Los Muerto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Tantas Decoraciones como de Las Calaver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Sabores Diferentes de Cada Regi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alibri"/>
              </a:rPr>
              <a:t>Maneras muy Festivas de Prestar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2T15:34:48Z</dcterms:created>
  <dc:creator>fullerev</dc:creator>
  <dc:description/>
  <dc:language>en-US</dc:language>
  <cp:lastModifiedBy>aalpanes</cp:lastModifiedBy>
  <dcterms:modified xsi:type="dcterms:W3CDTF">2009-10-02T17:12:19Z</dcterms:modified>
  <cp:revision>9</cp:revision>
  <dc:subject/>
  <dc:title>Slide 1</dc:title>
</cp:coreProperties>
</file>