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7.pct" ContentType="image/x-pict"/>
  <Override PartName="/ppt/media/image11.pct" ContentType="image/x-pict"/>
  <Override PartName="/ppt/media/image19.pct" ContentType="image/x-pict"/>
  <Override PartName="/ppt/media/image1.pct" ContentType="image/x-pict"/>
  <Override PartName="/ppt/media/image18.pct" ContentType="image/x-pict"/>
  <Override PartName="/ppt/media/image3.png" ContentType="image/png"/>
  <Override PartName="/ppt/media/image17.pct" ContentType="image/x-pict"/>
  <Override PartName="/ppt/media/image16.pct" ContentType="image/x-pict"/>
  <Override PartName="/ppt/media/image15.pct" ContentType="image/x-pict"/>
  <Override PartName="/ppt/media/image14.png" ContentType="image/png"/>
  <Override PartName="/ppt/media/image6.pct" ContentType="image/x-pict"/>
  <Override PartName="/ppt/media/image2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CBE182-E6E2-4726-AA23-0EC3E924A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B0EE8E-F099-4842-97AD-8B6D1E9F5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A2A231-C034-4B2F-91F9-940A94B1D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F44019-EC7D-4C5B-80C2-0A68ED5FC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9A06A-6B5B-4895-83E3-DF16A2D4F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4897B-0A2E-4E78-A650-E5579CD8D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1653B-AA73-4756-96E2-8515F9234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BF578-B1AB-474E-8307-43CC3C9D2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D4FC7-9503-4972-84D5-BCDB6060D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7617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F2FE3-BE00-4F63-ADC4-6AAABD44C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5B597-FC9D-4796-966B-ADCF965CA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429194-AF59-469C-9E95-5B3631C95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FBAC6-1621-4B28-8DF5-23E835A35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C5FC6-B722-4834-8641-2C0FEA907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BF9EC-CF15-45E4-BFC2-A21CBA510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928C1-E3EE-49B4-915E-ED355F16F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84E9D-BA5C-438A-87D9-DB9AE3215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15D8C5-2328-4A8B-95DC-A67213E95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395CCF-8C18-4186-96EB-73D8FE01E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B4B6D4-E865-49C9-BB07-6C4F40D3D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7617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A6CFC6-0943-4B79-9737-B334DD207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E4F4FC-CED9-49E2-89A5-E54D1EE78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A56019-75A5-4610-AFCB-190BAB0F3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A467A0-F207-4E2B-8A4C-9C7CA2D7D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4b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8F211-06C0-4C1F-90F2-5C27DF8AA8AE}" type="slidenum">
              <a:rPr b="0" lang="en-US" sz="12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334b49"/>
                </a:gs>
                <a:gs pos="100000">
                  <a:srgbClr val="0066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334b49"/>
                </a:gs>
                <a:gs pos="100000">
                  <a:srgbClr val="0099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51"/>
              </a:spcBef>
              <a:buClr>
                <a:srgbClr val="00808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51"/>
              </a:spcBef>
              <a:buClr>
                <a:srgbClr val="00808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51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4b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334b49"/>
                </a:gs>
                <a:gs pos="100000">
                  <a:srgbClr val="0066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48F5D-45EE-4E6C-BABE-25C5BA1AA3ED}" type="slidenum">
              <a:rPr b="0" lang="en-US" sz="12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8080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0099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ct"/><Relationship Id="rId3" Type="http://schemas.openxmlformats.org/officeDocument/2006/relationships/image" Target="../media/image5.pct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image" Target="../media/image9.pct"/><Relationship Id="rId4" Type="http://schemas.openxmlformats.org/officeDocument/2006/relationships/image" Target="../media/image10.pct"/><Relationship Id="rId5" Type="http://schemas.openxmlformats.org/officeDocument/2006/relationships/image" Target="../media/image11.pct"/><Relationship Id="rId6" Type="http://schemas.openxmlformats.org/officeDocument/2006/relationships/image" Target="../media/image12.pct"/><Relationship Id="rId7" Type="http://schemas.openxmlformats.org/officeDocument/2006/relationships/image" Target="../media/image13.pct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ct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4b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 Black"/>
              </a:rPr>
              <a:t>Los Organismos Genéticamente Modificados </a:t>
            </a: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(OGM)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5790960" y="4419720"/>
            <a:ext cx="3276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mily Resnic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PN 208 - 0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toño 2009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048120" y="4356000"/>
            <a:ext cx="2743200" cy="1968480"/>
          </a:xfrm>
          <a:prstGeom prst="rect">
            <a:avLst/>
          </a:prstGeom>
          <a:ln w="76320">
            <a:solidFill>
              <a:srgbClr val="009999"/>
            </a:solidFill>
            <a:prstDash val="sysDot"/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4b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La Bibliografía: Works Cited </a:t>
            </a: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(MLA)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"Genetically Modified Foods - food, nutrition, body, health, protein, nutrients, Examples of Genetically Modified Foods, Safety of Genetically Modified Foods."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Internet FAQ Archives - Online Educatio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 N.p., n.d. Web. 23 Nov. 2009. &lt;http://www.faqs.org/nutrition/Foo-Hea/Genetically-Modified-Foods.html&gt;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"Genetically modified organism - Wikipedia, the free encyclopedia."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Wikipedia, the free encyclopedia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 N.p., n.d. Web. 23 Nov. 2009. &lt;http://en.wikipedia.org/wiki/Genetically_modified_organism&gt;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"INFO SHEET : GENETICALLY MODIFIED FOOD: PROS AND CONS."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RT Project First Pag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 N.p., n.d. Web. 23 Nov. 2009. &lt;http://www.srtp.org.uk/gmfood1.htm&gt;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, Vollmond. "Genetically Modified Organisms Pros and Cons."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Buzzle Web Portal: Intelligent Life on the Web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 N.p., n.d. Web. 23 Nov. 2009. &lt;http://www.buzzle.com/articles/genetically-modified-organisms-pros-and-cons.html&gt;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4b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¿Qué es?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419720" y="3123720"/>
            <a:ext cx="40384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DNA</a:t>
            </a:r>
            <a:r>
              <a:rPr b="0" lang="en-US" sz="26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 + DNA</a:t>
            </a:r>
            <a:r>
              <a:rPr b="0" lang="en-US" sz="26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 = DNA</a:t>
            </a:r>
            <a:r>
              <a:rPr b="0" lang="en-US" sz="26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Inserción o supresión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Técnicas ingeniería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295280" y="2209680"/>
            <a:ext cx="2286000" cy="3429000"/>
          </a:xfrm>
          <a:prstGeom prst="rect">
            <a:avLst/>
          </a:prstGeom>
          <a:ln w="76320">
            <a:solidFill>
              <a:srgbClr val="009999"/>
            </a:solidFill>
            <a:prstDash val="sysDot"/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4b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Productos y Uso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143000" y="1905120"/>
            <a:ext cx="2362320" cy="2361960"/>
          </a:xfrm>
          <a:prstGeom prst="rect">
            <a:avLst/>
          </a:prstGeom>
          <a:ln w="57240">
            <a:solidFill>
              <a:srgbClr val="009999"/>
            </a:solidFill>
            <a:prstDash val="sysDot"/>
            <a:miter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971800" y="4502160"/>
            <a:ext cx="3301920" cy="2203560"/>
          </a:xfrm>
          <a:prstGeom prst="rect">
            <a:avLst/>
          </a:prstGeom>
          <a:ln w="57240">
            <a:solidFill>
              <a:srgbClr val="009999"/>
            </a:solidFill>
            <a:prstDash val="sysDot"/>
            <a:miter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2362320" cy="2361960"/>
          </a:xfrm>
          <a:prstGeom prst="rect">
            <a:avLst/>
          </a:prstGeom>
          <a:ln w="57240">
            <a:solidFill>
              <a:srgbClr val="009999"/>
            </a:solidFill>
            <a:prstDash val="sysDot"/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4b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La Controversia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3520" y="2819160"/>
            <a:ext cx="40384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El Proceso Biológico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El Etiquetado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Los Países En Desarrollo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La Comida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rcRect l="0" t="416765" r="0" b="537081"/>
          <a:stretch/>
        </p:blipFill>
        <p:spPr>
          <a:xfrm>
            <a:off x="5029200" y="2054160"/>
            <a:ext cx="3273480" cy="3586320"/>
          </a:xfrm>
          <a:prstGeom prst="rect">
            <a:avLst/>
          </a:prstGeom>
          <a:ln w="76320">
            <a:solidFill>
              <a:srgbClr val="009999"/>
            </a:solidFill>
            <a:prstDash val="sysDot"/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4b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Los OGM: Las Comida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533520" y="1828800"/>
            <a:ext cx="2286000" cy="1486080"/>
          </a:xfrm>
          <a:prstGeom prst="rect">
            <a:avLst/>
          </a:prstGeom>
          <a:ln w="57240">
            <a:solidFill>
              <a:srgbClr val="009999"/>
            </a:solidFill>
            <a:prstDash val="sysDot"/>
            <a:miter/>
          </a:ln>
        </p:spPr>
      </p:pic>
      <p:pic>
        <p:nvPicPr>
          <p:cNvPr id="121" name="" descr=""/>
          <p:cNvPicPr/>
          <p:nvPr/>
        </p:nvPicPr>
        <p:blipFill>
          <a:blip r:embed="rId2"/>
          <a:srcRect l="254183" t="0" r="0" b="271264"/>
          <a:stretch/>
        </p:blipFill>
        <p:spPr>
          <a:xfrm>
            <a:off x="3581280" y="2209680"/>
            <a:ext cx="1914480" cy="1981440"/>
          </a:xfrm>
          <a:prstGeom prst="rect">
            <a:avLst/>
          </a:prstGeom>
          <a:ln w="57240">
            <a:solidFill>
              <a:srgbClr val="009999"/>
            </a:solidFill>
            <a:prstDash val="sysDot"/>
            <a:miter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533520" y="5105520"/>
            <a:ext cx="2286000" cy="1523880"/>
          </a:xfrm>
          <a:prstGeom prst="rect">
            <a:avLst/>
          </a:prstGeom>
          <a:ln w="57240">
            <a:solidFill>
              <a:srgbClr val="009999"/>
            </a:solidFill>
            <a:prstDash val="sysDot"/>
            <a:miter/>
          </a:ln>
        </p:spPr>
      </p:pic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6248520" y="1996920"/>
            <a:ext cx="2260440" cy="2117880"/>
          </a:xfrm>
          <a:prstGeom prst="rect">
            <a:avLst/>
          </a:prstGeom>
          <a:ln w="57240">
            <a:solidFill>
              <a:srgbClr val="009999"/>
            </a:solidFill>
            <a:prstDash val="sysDot"/>
            <a:miter/>
          </a:ln>
        </p:spPr>
      </p:pic>
      <p:pic>
        <p:nvPicPr>
          <p:cNvPr id="124" name="" descr=""/>
          <p:cNvPicPr/>
          <p:nvPr/>
        </p:nvPicPr>
        <p:blipFill>
          <a:blip r:embed="rId5"/>
          <a:stretch/>
        </p:blipFill>
        <p:spPr>
          <a:xfrm>
            <a:off x="533520" y="3505320"/>
            <a:ext cx="2260440" cy="1447560"/>
          </a:xfrm>
          <a:prstGeom prst="rect">
            <a:avLst/>
          </a:prstGeom>
          <a:ln w="57240">
            <a:solidFill>
              <a:srgbClr val="009999"/>
            </a:solidFill>
            <a:prstDash val="sysDot"/>
            <a:miter/>
          </a:ln>
        </p:spPr>
      </p:pic>
      <p:pic>
        <p:nvPicPr>
          <p:cNvPr id="125" name="" descr=""/>
          <p:cNvPicPr/>
          <p:nvPr/>
        </p:nvPicPr>
        <p:blipFill>
          <a:blip r:embed="rId6"/>
          <a:stretch/>
        </p:blipFill>
        <p:spPr>
          <a:xfrm>
            <a:off x="6248520" y="4419720"/>
            <a:ext cx="2349360" cy="2082600"/>
          </a:xfrm>
          <a:prstGeom prst="rect">
            <a:avLst/>
          </a:prstGeom>
          <a:ln w="57240">
            <a:solidFill>
              <a:srgbClr val="009999"/>
            </a:solidFill>
            <a:prstDash val="sysDot"/>
            <a:miter/>
          </a:ln>
        </p:spPr>
      </p:pic>
      <p:pic>
        <p:nvPicPr>
          <p:cNvPr id="126" name="" descr=""/>
          <p:cNvPicPr/>
          <p:nvPr/>
        </p:nvPicPr>
        <p:blipFill>
          <a:blip r:embed="rId7"/>
          <a:stretch/>
        </p:blipFill>
        <p:spPr>
          <a:xfrm>
            <a:off x="3505320" y="4410000"/>
            <a:ext cx="1981080" cy="1685880"/>
          </a:xfrm>
          <a:prstGeom prst="rect">
            <a:avLst/>
          </a:prstGeom>
          <a:ln w="57240">
            <a:solidFill>
              <a:srgbClr val="009999"/>
            </a:solidFill>
            <a:prstDash val="sysDot"/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4b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   </a:t>
            </a: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Lo Positivo</a:t>
            </a: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     Lo Negativo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2640" y="4190760"/>
            <a:ext cx="33526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Más Eficient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Más Nutrición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Vida Más Larga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Alimentar El Mundo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05520" y="1676520"/>
            <a:ext cx="304776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Antinatura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Tiene Riesgo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Monopolio de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Empresas Grande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Mal para el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Medio Ambient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>
            <a:alphaModFix amt="85000"/>
          </a:blip>
          <a:stretch/>
        </p:blipFill>
        <p:spPr>
          <a:xfrm>
            <a:off x="1486080" y="1752480"/>
            <a:ext cx="1790640" cy="2210040"/>
          </a:xfrm>
          <a:prstGeom prst="rect">
            <a:avLst/>
          </a:prstGeom>
          <a:ln w="57240">
            <a:solidFill>
              <a:srgbClr val="009999"/>
            </a:solidFill>
            <a:prstDash val="sysDot"/>
            <a:miter/>
          </a:ln>
        </p:spPr>
      </p:pic>
      <p:pic>
        <p:nvPicPr>
          <p:cNvPr id="131" name="" descr=""/>
          <p:cNvPicPr/>
          <p:nvPr/>
        </p:nvPicPr>
        <p:blipFill>
          <a:blip r:embed="rId2">
            <a:alphaModFix amt="85000"/>
          </a:blip>
          <a:stretch/>
        </p:blipFill>
        <p:spPr>
          <a:xfrm rot="10800000">
            <a:off x="5791320" y="4419720"/>
            <a:ext cx="1790640" cy="2209680"/>
          </a:xfrm>
          <a:prstGeom prst="rect">
            <a:avLst/>
          </a:prstGeom>
          <a:ln w="57240">
            <a:solidFill>
              <a:srgbClr val="009999"/>
            </a:solidFill>
            <a:prstDash val="sysDot"/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4b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Mi Opinión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066680" y="1676520"/>
            <a:ext cx="1435320" cy="4495680"/>
          </a:xfrm>
          <a:prstGeom prst="rect">
            <a:avLst/>
          </a:prstGeom>
          <a:ln w="76320">
            <a:solidFill>
              <a:srgbClr val="009999"/>
            </a:solidFill>
            <a:prstDash val="sysDot"/>
            <a:miter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3809880" y="1752480"/>
            <a:ext cx="2133720" cy="2095560"/>
          </a:xfrm>
          <a:prstGeom prst="rect">
            <a:avLst/>
          </a:prstGeom>
          <a:ln w="57240">
            <a:solidFill>
              <a:srgbClr val="009999"/>
            </a:solidFill>
            <a:prstDash val="sysDot"/>
            <a:miter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3809880" y="4114800"/>
            <a:ext cx="2133720" cy="2104920"/>
          </a:xfrm>
          <a:prstGeom prst="rect">
            <a:avLst/>
          </a:prstGeom>
          <a:ln w="57240">
            <a:solidFill>
              <a:srgbClr val="009999"/>
            </a:solidFill>
            <a:prstDash val="sysDot"/>
            <a:miter/>
          </a:ln>
        </p:spPr>
      </p:pic>
      <p:sp>
        <p:nvSpPr>
          <p:cNvPr id="136" name=""/>
          <p:cNvSpPr/>
          <p:nvPr/>
        </p:nvSpPr>
        <p:spPr>
          <a:xfrm rot="1800000">
            <a:off x="2666520" y="4191120"/>
            <a:ext cx="1295640" cy="533160"/>
          </a:xfrm>
          <a:prstGeom prst="rightArrow">
            <a:avLst>
              <a:gd name="adj1" fmla="val 50000"/>
              <a:gd name="adj2" fmla="val 60753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rot="19800000">
            <a:off x="2666880" y="2971440"/>
            <a:ext cx="1295640" cy="533520"/>
          </a:xfrm>
          <a:prstGeom prst="rightArrow">
            <a:avLst>
              <a:gd name="adj1" fmla="val 50000"/>
              <a:gd name="adj2" fmla="val 60712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6095880" y="2819520"/>
            <a:ext cx="2692440" cy="1850760"/>
          </a:xfrm>
          <a:prstGeom prst="rect">
            <a:avLst/>
          </a:prstGeom>
          <a:ln w="28440">
            <a:solidFill>
              <a:srgbClr val="009999"/>
            </a:solidFill>
            <a:prstDash val="sysDot"/>
            <a:miter/>
          </a:ln>
        </p:spPr>
      </p:pic>
      <p:sp>
        <p:nvSpPr>
          <p:cNvPr id="139" name=""/>
          <p:cNvSpPr/>
          <p:nvPr/>
        </p:nvSpPr>
        <p:spPr>
          <a:xfrm>
            <a:off x="6172200" y="2910960"/>
            <a:ext cx="2514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4b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Video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http://www.youtube.com/watch?v=Nmkj5gq1cQU&amp;feature=fvw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4b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0" y="76176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Preguntas para discusión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-76680" y="2057040"/>
            <a:ext cx="937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5000"/>
              </a:lnSpc>
              <a:spcBef>
                <a:spcPts val="649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Si Ud. sería el jefe o el presidente, ¿Podría prohibir los OGM? ¿Por qué sí o por qué no?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649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Los cultivos de los OGM son la única manera de alimentar todo el mundo: ¿es la verdad o falso? ¿Por qué?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649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Si un cultivo de los OGM estuviera malo, de quién sería la culpa?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ctr">
              <a:lnSpc>
                <a:spcPct val="125000"/>
              </a:lnSpc>
              <a:spcBef>
                <a:spcPts val="451"/>
              </a:spcBef>
              <a:buClr>
                <a:srgbClr val="00808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l Consumidor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 algn="ctr">
              <a:lnSpc>
                <a:spcPct val="125000"/>
              </a:lnSpc>
              <a:spcBef>
                <a:spcPts val="451"/>
              </a:spcBef>
              <a:buClr>
                <a:srgbClr val="00808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l Vendedor de las Semillas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 algn="ctr">
              <a:lnSpc>
                <a:spcPct val="125000"/>
              </a:lnSpc>
              <a:spcBef>
                <a:spcPts val="451"/>
              </a:spcBef>
              <a:buClr>
                <a:srgbClr val="00808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l Gobierno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 algn="ctr">
              <a:lnSpc>
                <a:spcPct val="125000"/>
              </a:lnSpc>
              <a:spcBef>
                <a:spcPts val="451"/>
              </a:spcBef>
              <a:buClr>
                <a:srgbClr val="00808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l Agricultor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6781680" y="457200"/>
            <a:ext cx="190512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30T23:35:51Z</dcterms:created>
  <dc:creator>Emily Resnick</dc:creator>
  <dc:description/>
  <dc:language>en-US</dc:language>
  <cp:lastModifiedBy>Emily Resnick</cp:lastModifiedBy>
  <cp:lastPrinted>1904-01-01T00:00:00Z</cp:lastPrinted>
  <dcterms:modified xsi:type="dcterms:W3CDTF">2009-12-09T22:53:21Z</dcterms:modified>
  <cp:revision>2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2</vt:r8>
  </property>
</Properties>
</file>