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19.pct" ContentType="image/x-pict"/>
  <Override PartName="/ppt/media/image1.pct" ContentType="image/x-pict"/>
  <Override PartName="/ppt/media/image18.pct" ContentType="image/x-pict"/>
  <Override PartName="/ppt/media/image3.png" ContentType="image/png"/>
  <Override PartName="/ppt/media/image17.pct" ContentType="image/x-pict"/>
  <Override PartName="/ppt/media/image16.pct" ContentType="image/x-pict"/>
  <Override PartName="/ppt/media/image15.pct" ContentType="image/x-pict"/>
  <Override PartName="/ppt/media/image14.png" ContentType="image/png"/>
  <Override PartName="/ppt/media/image6.pct" ContentType="image/x-pict"/>
  <Override PartName="/ppt/media/image2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1CC313-2F4D-442A-B805-04F63EFA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4B9D8-066A-4032-81BE-159B9EB3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E434D-1ECF-47AE-B86D-FC0108F5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22B4B-59F6-46A3-A6BB-3627CA2CB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38007-AAE2-4D31-939A-33811B4D1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E46B-414F-4236-A536-0AA8CA9EF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7B7B-2F29-4102-A163-4B3B1B09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4BA37-38A8-4E80-82F0-05D5B6BD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831E3-9A93-4ABF-9B6E-5E6684A8A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2A25-F5AF-495F-AA18-26A14CB9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5CD4-FE37-431E-A500-ACEF289CA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2E300-23AA-4C61-94B1-4DA162D8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7645-372F-4990-8C20-9759CF2F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1EFE-1EA5-488C-8300-CA37F38F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1E04-2E5E-42C8-91EB-EEA981E4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5CD5-F32E-41C9-AD58-6C1A73C62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4085-66DA-4F4A-89A8-CFF1AC41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C306B-F443-4C05-8504-E4FB8816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F8C9E-04E2-47E8-AD2D-65687FD1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9E242-E541-4D46-AF83-0AE3789D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658F-72EE-4B87-8384-4331BFD38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EAB2C-107B-4193-BF36-6889D1361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3DE69-7B74-4813-9D23-D488A6DA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5A830-9708-453A-87B4-E2CBB186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4ADF2-0AE0-4D3F-99F8-A3381A246B84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334b49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4b49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808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334b49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FBEA4-7821-4DD1-B698-8472C276DA7E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808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image" Target="../media/image11.pct"/><Relationship Id="rId6" Type="http://schemas.openxmlformats.org/officeDocument/2006/relationships/image" Target="../media/image12.pct"/><Relationship Id="rId7" Type="http://schemas.openxmlformats.org/officeDocument/2006/relationships/image" Target="../media/image13.pct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Los Organismos Genéticamente Modificados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OGM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790960" y="4419720"/>
            <a:ext cx="327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ily Resn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N 208 - 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oño 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8120" y="4356000"/>
            <a:ext cx="2743200" cy="1968480"/>
          </a:xfrm>
          <a:prstGeom prst="rect">
            <a:avLst/>
          </a:prstGeom>
          <a:ln w="7632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a Bibliografía: Works Cited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MLA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Genetically Modified Foods - food, nutrition, body, health, protein, nutrients, Examples of Genetically Modified Foods, Safety of Genetically Modified Foods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ternet FAQ Archives - Online Educ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23 Nov. 2009. &lt;http://www.faqs.org/nutrition/Foo-Hea/Genetically-Modified-Foods.html&gt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Genetically modified organism - Wikipedia, the free encyclopedia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kipedia, the free encycloped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23 Nov. 2009. &lt;http://en.wikipedia.org/wiki/Genetically_modified_organism&gt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INFO SHEET : GENETICALLY MODIFIED FOOD: PROS AND CONS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T Project First P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23 Nov. 2009. &lt;http://www.srtp.org.uk/gmfood1.htm&gt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, Vollmond. "Genetically Modified Organisms Pros and Cons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uzzle Web Portal: Intelligent Life on the W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23 Nov. 2009. &lt;http://www.buzzle.com/articles/genetically-modified-organisms-pros-and-cons.html&gt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19720" y="312372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+ DN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DN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serción o supres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écnicas ingenier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2286000" cy="3429000"/>
          </a:xfrm>
          <a:prstGeom prst="rect">
            <a:avLst/>
          </a:prstGeom>
          <a:ln w="7632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os y Uso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2362320" cy="23619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971800" y="4502160"/>
            <a:ext cx="3301920" cy="22035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2362320" cy="23619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a Controversia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 Proceso Biológ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 Etiqueta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os Países En Desarroll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 Comid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416765" r="0" b="537081"/>
          <a:stretch/>
        </p:blipFill>
        <p:spPr>
          <a:xfrm>
            <a:off x="5029200" y="2054160"/>
            <a:ext cx="3273480" cy="3586320"/>
          </a:xfrm>
          <a:prstGeom prst="rect">
            <a:avLst/>
          </a:prstGeom>
          <a:ln w="7632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os OGM: Las Comida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286000" cy="14860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54183" t="0" r="0" b="271264"/>
          <a:stretch/>
        </p:blipFill>
        <p:spPr>
          <a:xfrm>
            <a:off x="3581280" y="2209680"/>
            <a:ext cx="1914480" cy="198144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3520" y="5105520"/>
            <a:ext cx="2286000" cy="15238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248520" y="1996920"/>
            <a:ext cx="2260440" cy="21178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33520" y="3505320"/>
            <a:ext cx="2260440" cy="14475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248520" y="4419720"/>
            <a:ext cx="2349360" cy="208260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3505320" y="4410000"/>
            <a:ext cx="1981080" cy="16858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o Positivo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  Lo Negativo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2640" y="4190760"/>
            <a:ext cx="3352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ás Efic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ás Nutri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ida Más Larg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limentar El Mun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5520" y="1676520"/>
            <a:ext cx="30477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ntinatur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iene Riesg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opolio d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mpresas Gran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l para e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edio Amb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alphaModFix amt="85000"/>
          </a:blip>
          <a:stretch/>
        </p:blipFill>
        <p:spPr>
          <a:xfrm>
            <a:off x="1486080" y="1752480"/>
            <a:ext cx="1790640" cy="221004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31" name="" descr=""/>
          <p:cNvPicPr/>
          <p:nvPr/>
        </p:nvPicPr>
        <p:blipFill>
          <a:blip r:embed="rId2">
            <a:alphaModFix amt="85000"/>
          </a:blip>
          <a:stretch/>
        </p:blipFill>
        <p:spPr>
          <a:xfrm rot="10800000">
            <a:off x="5791320" y="4419720"/>
            <a:ext cx="1790640" cy="22096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i Opinió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1435320" cy="4495680"/>
          </a:xfrm>
          <a:prstGeom prst="rect">
            <a:avLst/>
          </a:prstGeom>
          <a:ln w="76320">
            <a:solidFill>
              <a:srgbClr val="009999"/>
            </a:solidFill>
            <a:prstDash val="sysDot"/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09880" y="1752480"/>
            <a:ext cx="2133720" cy="20955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809880" y="4114800"/>
            <a:ext cx="2133720" cy="210492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sp>
        <p:nvSpPr>
          <p:cNvPr id="136" name=""/>
          <p:cNvSpPr/>
          <p:nvPr/>
        </p:nvSpPr>
        <p:spPr>
          <a:xfrm rot="1800000">
            <a:off x="2666520" y="4191120"/>
            <a:ext cx="1295640" cy="533160"/>
          </a:xfrm>
          <a:prstGeom prst="rightArrow">
            <a:avLst>
              <a:gd name="adj1" fmla="val 50000"/>
              <a:gd name="adj2" fmla="val 6075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9800000">
            <a:off x="2666880" y="2971440"/>
            <a:ext cx="1295640" cy="533520"/>
          </a:xfrm>
          <a:prstGeom prst="rightArrow">
            <a:avLst>
              <a:gd name="adj1" fmla="val 50000"/>
              <a:gd name="adj2" fmla="val 6071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095880" y="2819520"/>
            <a:ext cx="2692440" cy="1850760"/>
          </a:xfrm>
          <a:prstGeom prst="rect">
            <a:avLst/>
          </a:prstGeom>
          <a:ln w="28440">
            <a:solidFill>
              <a:srgbClr val="009999"/>
            </a:solidFill>
            <a:prstDash val="sysDot"/>
            <a:miter/>
          </a:ln>
        </p:spPr>
      </p:pic>
      <p:sp>
        <p:nvSpPr>
          <p:cNvPr id="139" name=""/>
          <p:cNvSpPr/>
          <p:nvPr/>
        </p:nvSpPr>
        <p:spPr>
          <a:xfrm>
            <a:off x="6172200" y="291096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Video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ttp://www.youtube.com/watch?v=Nmkj5gq1cQU&amp;feature=fv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eguntas para discusió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76680" y="20570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 Ud. sería el jefe o el presidente, ¿Podría prohibir los OGM? ¿Por qué sí o por qué no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os cultivos de los OGM son la única manera de alimentar todo el mundo: ¿es la verdad o falso? ¿Por qué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 un cultivo de los OGM estuviera malo, de quién sería la culpa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ctr">
              <a:lnSpc>
                <a:spcPct val="125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sumidor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 algn="ctr">
              <a:lnSpc>
                <a:spcPct val="125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Vendedor de las Semilla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 algn="ctr">
              <a:lnSpc>
                <a:spcPct val="125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Gobierno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 algn="ctr">
              <a:lnSpc>
                <a:spcPct val="125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Agricultor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1905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23:35:51Z</dcterms:created>
  <dc:creator>Emily Resnick</dc:creator>
  <dc:description/>
  <dc:language>en-US</dc:language>
  <cp:lastModifiedBy>Emily Resnick</cp:lastModifiedBy>
  <cp:lastPrinted>1904-01-01T00:00:00Z</cp:lastPrinted>
  <dcterms:modified xsi:type="dcterms:W3CDTF">2009-12-09T22:53:2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