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3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645D-4540-48BB-8F52-3E5396AC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3C0A-7622-4EA1-881E-278A11C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D8BE-93C8-4D78-8B1D-FDFE0F73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69CA-D17F-40B6-A813-5FC4D0BA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B7E4-3B2B-4FDB-A900-854E95B2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9F64-A808-4075-B882-3355888C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3F1E-A60F-401F-A958-7DCA164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78D8-7214-4F88-8778-BD32AA99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5AD-110B-449E-A7B5-F4614375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8BFA-4880-457D-B765-A32CC2E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A3FC-2F9B-4D99-86DE-44F900E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FDCA-6691-4528-A6F4-D64DACF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49FE-98B2-4FC5-88A8-27EE4EE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46A-C22B-4B1F-8B68-42EFD39E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E1E-4706-4846-A43A-AB8DF12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7C6B-1206-4AF6-A54E-A54425AF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8F8F-8E75-4188-994E-B82E07C2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45A1-928A-4210-B370-004B3A1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9A4E-72C4-4AEA-8A56-DB016A95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AF57-F3FD-4F0B-BC07-E154B508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B368-9CCD-4F23-911A-32A62DA9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32D9-7833-43BF-870D-1E780E7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3B03-3329-4BEB-93FF-A9EA95A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70E2-6930-4626-8D0E-52A67EC5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CD0-D3B4-4550-B82E-CBEAAFC3E79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9D5C-5407-4E66-82E0-856D1E119D1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Los Organismos Genéticamente Modificados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OGM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0960" y="44197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Resn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N 208 - 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oño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4356000"/>
            <a:ext cx="2743200" cy="19684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Bibliografía: Works Cited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ML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Foods - food, nutrition, body, health, protein, nutrients, Examples of Genetically Modified Foods, Safety of Genetically Modified Food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et FAQ Archives - Online Edu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faqs.org/nutrition/Foo-Hea/Genetically-Modified-Food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organism - Wikipedia, the free encyclopedi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en.wikipedia.org/wiki/Genetically_modified_organis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INFO SHEET : GENETICALLY MODIFIED FOOD: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T Project First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srtp.org.uk/gmfood1.ht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Vollmond. "Genetically Modified Organisms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zzle Web Portal: Intelligent Life on the W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buzzle.com/articles/genetically-modified-organisms-pros-and-con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312372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erción o supres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écnicas ingenier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286000" cy="342900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os y Uso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4502160"/>
            <a:ext cx="3301920" cy="2203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Controversi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Proceso Biológ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Etique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Países En Desarrol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Comi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16765" r="0" b="537081"/>
          <a:stretch/>
        </p:blipFill>
        <p:spPr>
          <a:xfrm>
            <a:off x="5029200" y="2054160"/>
            <a:ext cx="3273480" cy="358632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s OGM: Las Comid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4860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4183" t="0" r="0" b="271264"/>
          <a:stretch/>
        </p:blipFill>
        <p:spPr>
          <a:xfrm>
            <a:off x="3581280" y="2209680"/>
            <a:ext cx="1914480" cy="19814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520" y="5105520"/>
            <a:ext cx="2286000" cy="1523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996920"/>
            <a:ext cx="2260440" cy="2117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2260440" cy="1447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248520" y="4419720"/>
            <a:ext cx="2349360" cy="208260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505320" y="4410000"/>
            <a:ext cx="1981080" cy="1685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 Positivo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Lo Negativ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41907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Efic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Nutr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da Más Larg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imentar El Mun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676520"/>
            <a:ext cx="3047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natu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iene Riesg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opolio 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resas Gran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 para e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o Amb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1486080" y="1752480"/>
            <a:ext cx="1790640" cy="22100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1" name="" descr=""/>
          <p:cNvPicPr/>
          <p:nvPr/>
        </p:nvPicPr>
        <p:blipFill>
          <a:blip r:embed="rId2">
            <a:alphaModFix amt="85000"/>
          </a:blip>
          <a:stretch/>
        </p:blipFill>
        <p:spPr>
          <a:xfrm rot="10800000">
            <a:off x="5791320" y="4419720"/>
            <a:ext cx="1790640" cy="22096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i Opin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435320" cy="44956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2133720" cy="2095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133720" cy="210492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sp>
        <p:nvSpPr>
          <p:cNvPr id="136" name=""/>
          <p:cNvSpPr/>
          <p:nvPr/>
        </p:nvSpPr>
        <p:spPr>
          <a:xfrm rot="1800000">
            <a:off x="2666520" y="41911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00000">
            <a:off x="2666880" y="2971440"/>
            <a:ext cx="1295640" cy="533520"/>
          </a:xfrm>
          <a:prstGeom prst="rightArrow">
            <a:avLst>
              <a:gd name="adj1" fmla="val 50000"/>
              <a:gd name="adj2" fmla="val 6071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2692440" cy="1850760"/>
          </a:xfrm>
          <a:prstGeom prst="rect">
            <a:avLst/>
          </a:prstGeom>
          <a:ln w="28440">
            <a:solidFill>
              <a:srgbClr val="009999"/>
            </a:solidFill>
            <a:prstDash val="sysDot"/>
            <a:miter/>
          </a:ln>
        </p:spPr>
      </p:pic>
      <p:sp>
        <p:nvSpPr>
          <p:cNvPr id="139" name=""/>
          <p:cNvSpPr/>
          <p:nvPr/>
        </p:nvSpPr>
        <p:spPr>
          <a:xfrm>
            <a:off x="6172200" y="29109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ide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ttp://www.youtube.com/watch?v=Nmkj5gq1cQU&amp;feature=fv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guntas para discus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76680" y="20570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d. sería el jefe o el presidente, ¿Podría prohibir los OGM? ¿Por qué sí o por qué n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cultivos de los OGM son la única manera de alimentar todo el mundo: ¿es la verdad o falso? ¿Por qué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n cultivo de los OGM estuviera malo, de quién sería la culpa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sumid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Vendedor de las Sem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Gobiern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Agricult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3:35:51Z</dcterms:created>
  <dc:creator>Emily Resnick</dc:creator>
  <dc:description/>
  <dc:language>en-US</dc:language>
  <cp:lastModifiedBy>Emily Resnick</cp:lastModifiedBy>
  <cp:lastPrinted>1904-01-01T00:00:00Z</cp:lastPrinted>
  <dcterms:modified xsi:type="dcterms:W3CDTF">2009-12-09T22:53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