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7.pct" ContentType="image/x-pict"/>
  <Override PartName="/ppt/media/image11.pct" ContentType="image/x-pict"/>
  <Override PartName="/ppt/media/image19.pct" ContentType="image/x-pict"/>
  <Override PartName="/ppt/media/image1.pct" ContentType="image/x-pict"/>
  <Override PartName="/ppt/media/image18.pct" ContentType="image/x-pict"/>
  <Override PartName="/ppt/media/image3.png" ContentType="image/png"/>
  <Override PartName="/ppt/media/image17.pct" ContentType="image/x-pict"/>
  <Override PartName="/ppt/media/image16.pct" ContentType="image/x-pict"/>
  <Override PartName="/ppt/media/image15.pct" ContentType="image/x-pict"/>
  <Override PartName="/ppt/media/image14.png" ContentType="image/png"/>
  <Override PartName="/ppt/media/image6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B0CDB-7DDD-43D0-8C42-14994F8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6E47-095E-4E1A-AB92-49E51EA82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CD05D-1F5D-4D4A-9099-75E63242F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E243C-5392-4961-88B7-46ED54E7C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A1D7-5D78-4D86-BEBE-0796310C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DB002-1703-434F-934F-C3D0D4A44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B5E07-F8A7-4F14-BCEF-189ECB9E9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1275-2FF3-4185-AE8E-E913127FE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EBF8-E8AB-4333-8831-323C1D6FD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427-8AC4-4F5A-B715-9F603861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CA9D2-62B0-41A3-BB41-3AA1B690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9EB4A-BA3C-4DBF-A6F3-B9A19D7C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A762D-649E-4BD3-83FE-53E9C5DE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042A-36C3-496E-9C16-B666AAE5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9718-E4D3-49C7-A128-9B29D0EFC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C2DF-40B5-499A-9CDE-B7B5B8595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85D1-49C3-4450-92A8-C2BF3DFF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CF2A3-3EAC-4255-B93C-B30E5C8B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650F1-0973-473B-9E55-768183BB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72765-5F7B-4F2D-B14F-2A1DD622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FB00-9600-429F-A8C4-30653996D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98A1F-0080-44F0-A8D7-4530F0CE9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DCCE1-897E-4CFA-AA4E-B04AFDBA6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50BF2-2CD0-4BEF-9DCD-8324D56D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5DC5-1B7F-479A-ACBF-C9CCD3355AF1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334b49"/>
                </a:gs>
                <a:gs pos="100000">
                  <a:srgbClr val="0066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2F46-B227-4618-9678-F4ABEA12E825}" type="slidenum">
              <a:rPr b="0" lang="en-US" sz="12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8080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ct"/><Relationship Id="rId3" Type="http://schemas.openxmlformats.org/officeDocument/2006/relationships/image" Target="../media/image5.pct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image" Target="../media/image9.pct"/><Relationship Id="rId4" Type="http://schemas.openxmlformats.org/officeDocument/2006/relationships/image" Target="../media/image10.pct"/><Relationship Id="rId5" Type="http://schemas.openxmlformats.org/officeDocument/2006/relationships/image" Target="../media/image11.pct"/><Relationship Id="rId6" Type="http://schemas.openxmlformats.org/officeDocument/2006/relationships/image" Target="../media/image12.pct"/><Relationship Id="rId7" Type="http://schemas.openxmlformats.org/officeDocument/2006/relationships/image" Target="../media/image13.pct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ct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Los Organismos Genéticamente Modificados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(OGM)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5790960" y="4419720"/>
            <a:ext cx="327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mily Resn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PN 208 - 0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toño 2009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8120" y="4356000"/>
            <a:ext cx="2743200" cy="19684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Bibliografía: Works Cited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(MLA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Foods - food, nutrition, body, health, protein, nutrients, Examples of Genetically Modified Foods, Safety of Genetically Modified Food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Internet FAQ Archives - Online Educat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faqs.org/nutrition/Foo-Hea/Genetically-Modified-Food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Genetically modified organism - Wikipedia, the free encyclopedia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Wikipedia, the free encyclopedi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en.wikipedia.org/wiki/Genetically_modified_organis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"INFO SHEET : GENETICALLY MODIFIED FOOD: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SRT Project First Pa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srtp.org.uk/gmfood1.htm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, Vollmond. "Genetically Modified Organisms Pros and Cons."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uzzle Web Portal: Intelligent Life on the W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N.p., n.d. Web. 23 Nov. 2009. &lt;http://www.buzzle.com/articles/genetically-modified-organisms-pros-and-cons.html&gt;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¿Qué es?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419720" y="3123720"/>
            <a:ext cx="40384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+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 = DNA</a:t>
            </a:r>
            <a:r>
              <a:rPr b="0" lang="en-US" sz="26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Inserción o supres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écnicas ingenierí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2286000" cy="342900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os y Uso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971800" y="4502160"/>
            <a:ext cx="3301920" cy="2203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2362320" cy="23619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a Controversia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2819160"/>
            <a:ext cx="4038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Proceso Biológic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l Etiqueta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Países En Desarroll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a Comid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416765" r="0" b="537081"/>
          <a:stretch/>
        </p:blipFill>
        <p:spPr>
          <a:xfrm>
            <a:off x="5029200" y="2054160"/>
            <a:ext cx="3273480" cy="358632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s OGM: Las Comid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2286000" cy="14860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1" name="" descr=""/>
          <p:cNvPicPr/>
          <p:nvPr/>
        </p:nvPicPr>
        <p:blipFill>
          <a:blip r:embed="rId2"/>
          <a:srcRect l="254183" t="0" r="0" b="271264"/>
          <a:stretch/>
        </p:blipFill>
        <p:spPr>
          <a:xfrm>
            <a:off x="3581280" y="2209680"/>
            <a:ext cx="1914480" cy="19814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33520" y="5105520"/>
            <a:ext cx="2286000" cy="1523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6248520" y="1996920"/>
            <a:ext cx="2260440" cy="2117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533520" y="3505320"/>
            <a:ext cx="2260440" cy="1447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6248520" y="4419720"/>
            <a:ext cx="2349360" cy="208260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26" name="" descr=""/>
          <p:cNvPicPr/>
          <p:nvPr/>
        </p:nvPicPr>
        <p:blipFill>
          <a:blip r:embed="rId7"/>
          <a:stretch/>
        </p:blipFill>
        <p:spPr>
          <a:xfrm>
            <a:off x="3505320" y="4410000"/>
            <a:ext cx="1981080" cy="16858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Lo Positivo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     Lo Negativ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2640" y="4190760"/>
            <a:ext cx="33526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Efic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ás Nutrició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Vida Más Larg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limentar El Mundo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05520" y="1676520"/>
            <a:ext cx="30477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Antinatur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iene Riesgo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onopolio de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mpresas Grande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al para el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Medio Ambient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alphaModFix amt="85000"/>
          </a:blip>
          <a:stretch/>
        </p:blipFill>
        <p:spPr>
          <a:xfrm>
            <a:off x="1486080" y="1752480"/>
            <a:ext cx="1790640" cy="221004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1" name="" descr=""/>
          <p:cNvPicPr/>
          <p:nvPr/>
        </p:nvPicPr>
        <p:blipFill>
          <a:blip r:embed="rId2">
            <a:alphaModFix amt="85000"/>
          </a:blip>
          <a:stretch/>
        </p:blipFill>
        <p:spPr>
          <a:xfrm rot="10800000">
            <a:off x="5791320" y="4419720"/>
            <a:ext cx="1790640" cy="220968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Mi Opin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1435320" cy="4495680"/>
          </a:xfrm>
          <a:prstGeom prst="rect">
            <a:avLst/>
          </a:prstGeom>
          <a:ln w="76320">
            <a:solidFill>
              <a:srgbClr val="009999"/>
            </a:solidFill>
            <a:prstDash val="sysDot"/>
            <a:miter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809880" y="1752480"/>
            <a:ext cx="2133720" cy="209556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809880" y="4114800"/>
            <a:ext cx="2133720" cy="2104920"/>
          </a:xfrm>
          <a:prstGeom prst="rect">
            <a:avLst/>
          </a:prstGeom>
          <a:ln w="57240">
            <a:solidFill>
              <a:srgbClr val="009999"/>
            </a:solidFill>
            <a:prstDash val="sysDot"/>
            <a:miter/>
          </a:ln>
        </p:spPr>
      </p:pic>
      <p:sp>
        <p:nvSpPr>
          <p:cNvPr id="136" name=""/>
          <p:cNvSpPr/>
          <p:nvPr/>
        </p:nvSpPr>
        <p:spPr>
          <a:xfrm rot="1800000">
            <a:off x="2666520" y="4191120"/>
            <a:ext cx="1295640" cy="533160"/>
          </a:xfrm>
          <a:prstGeom prst="rightArrow">
            <a:avLst>
              <a:gd name="adj1" fmla="val 50000"/>
              <a:gd name="adj2" fmla="val 6075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9800000">
            <a:off x="2666880" y="2971440"/>
            <a:ext cx="1295640" cy="533520"/>
          </a:xfrm>
          <a:prstGeom prst="rightArrow">
            <a:avLst>
              <a:gd name="adj1" fmla="val 50000"/>
              <a:gd name="adj2" fmla="val 6071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095880" y="2819520"/>
            <a:ext cx="2692440" cy="1850760"/>
          </a:xfrm>
          <a:prstGeom prst="rect">
            <a:avLst/>
          </a:prstGeom>
          <a:ln w="28440">
            <a:solidFill>
              <a:srgbClr val="009999"/>
            </a:solidFill>
            <a:prstDash val="sysDot"/>
            <a:miter/>
          </a:ln>
        </p:spPr>
      </p:pic>
      <p:sp>
        <p:nvSpPr>
          <p:cNvPr id="139" name=""/>
          <p:cNvSpPr/>
          <p:nvPr/>
        </p:nvSpPr>
        <p:spPr>
          <a:xfrm>
            <a:off x="6172200" y="29109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Video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ttp://www.youtube.com/watch?v=Nmkj5gq1cQU&amp;feature=fvw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4b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guntas para discusió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76680" y="2057040"/>
            <a:ext cx="937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d. sería el jefe o el presidente, ¿Podría prohibir los OGM? ¿Por qué sí o por qué no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Los cultivos de los OGM son la única manera de alimentar todo el mundo: ¿es la verdad o falso? ¿Por qué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64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 un cultivo de los OGM estuviera malo, de quién sería la culpa?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Consumid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Vendedor de las Semillas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Gobierno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 algn="ctr">
              <a:lnSpc>
                <a:spcPct val="125000"/>
              </a:lnSpc>
              <a:spcBef>
                <a:spcPts val="451"/>
              </a:spcBef>
              <a:buClr>
                <a:srgbClr val="00808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l Agricultor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781680" y="457200"/>
            <a:ext cx="19051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3:35:51Z</dcterms:created>
  <dc:creator>Emily Resnick</dc:creator>
  <dc:description/>
  <dc:language>en-US</dc:language>
  <cp:lastModifiedBy>Emily Resnick</cp:lastModifiedBy>
  <cp:lastPrinted>1904-01-01T00:00:00Z</cp:lastPrinted>
  <dcterms:modified xsi:type="dcterms:W3CDTF">2009-12-09T22:53:21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2</vt:r8>
  </property>
</Properties>
</file>